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1607-8901-4A9F-92FB-43D71F0A3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CE40-4F7F-4161-8AB2-EE5EC88BC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D212-631D-487D-AD07-D6D14403F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46E6-E0F7-47A5-9F49-847CCBAB1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66CD-5011-45CB-8337-6FA35E60DC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1D4B5-5117-4191-94BD-8C01511554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8D1A0-C40D-4058-B258-0D8ADD27A9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191F-B26E-4C11-A1BB-AF9E48AE8D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DEE3-178A-4715-B1E7-BBB87BAC65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6FC54-535C-4BE9-B861-03C59735D2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CF709-B63F-4FDD-8F59-4FCB36F4A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2765-08C4-4AF9-A93F-CBD5500F7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3B693-A099-4643-9223-C29A3C6A51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206CD-2123-4B99-AAE1-6E848549D0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415E-59FC-4C80-AD8A-D70BDC326F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B6ADD-5C7A-4698-B362-73E3DA1153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01C06-9FF2-465F-8E46-FE5047F6BA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77E1-6D30-4AA0-9D43-E0135146A1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413F-9645-4FCB-A7A5-3BA0AB2C2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B469-59AB-45DD-BFCA-59E32B738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AD6C-84B2-441C-8951-B08B72196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32B0-E7DC-4771-A4FD-DFF04FA4D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8056-239A-4A6B-AB45-EF2F604C9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FA50-2BC9-4B71-8C95-697C7EC28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8536B762-0A82-4F6F-A6EC-CFC671706DDE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60157840-E8E5-4AFA-9845-49F99A663A58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ecsec-logo_tr_final"/>
          <p:cNvPicPr/>
          <p:nvPr/>
        </p:nvPicPr>
        <p:blipFill>
          <a:blip r:embed="rId4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s.openecard.org/schema/CardInfo.xs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s.openecard.org/schema/ISOIFD.wsd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"/>
          <p:cNvSpPr/>
          <p:nvPr/>
        </p:nvSpPr>
        <p:spPr>
          <a:xfrm>
            <a:off x="551880" y="57564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  <a:ea typeface="Arial"/>
              </a:rPr>
              <a:t>Dr. Detlef Hühnlein (ecsec Gmb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ISO/IEC 24727 and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Extended Access Control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29" descr="ecsec-logo_tr_final"/>
          <p:cNvPicPr/>
          <p:nvPr/>
        </p:nvPicPr>
        <p:blipFill>
          <a:blip r:embed="rId1"/>
          <a:stretch/>
        </p:blipFill>
        <p:spPr>
          <a:xfrm>
            <a:off x="611280" y="603360"/>
            <a:ext cx="2305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B55E439-B5B6-4F70-93A8-BC338901962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4167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39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– More Detai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8388360" y="67993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40EB980-C2D2-4C9E-ADFB-583068C4109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kt 5"/>
          <p:cNvGraphicFramePr/>
          <p:nvPr/>
        </p:nvGraphicFramePr>
        <p:xfrm>
          <a:off x="6572160" y="4640400"/>
          <a:ext cx="8557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464040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Grafik 9" descr=""/>
          <p:cNvPicPr/>
          <p:nvPr/>
        </p:nvPicPr>
        <p:blipFill>
          <a:blip r:embed="rId3"/>
          <a:stretch/>
        </p:blipFill>
        <p:spPr>
          <a:xfrm>
            <a:off x="2490840" y="746280"/>
            <a:ext cx="831960" cy="13762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1" descr=""/>
          <p:cNvPicPr/>
          <p:nvPr/>
        </p:nvPicPr>
        <p:blipFill>
          <a:blip r:embed="rId4"/>
          <a:stretch/>
        </p:blipFill>
        <p:spPr>
          <a:xfrm>
            <a:off x="630360" y="4449600"/>
            <a:ext cx="1573200" cy="1744920"/>
          </a:xfrm>
          <a:prstGeom prst="rect">
            <a:avLst/>
          </a:prstGeom>
          <a:ln w="0">
            <a:noFill/>
          </a:ln>
        </p:spPr>
      </p:pic>
      <p:sp>
        <p:nvSpPr>
          <p:cNvPr id="211" name="Textfeld 12"/>
          <p:cNvSpPr/>
          <p:nvPr/>
        </p:nvSpPr>
        <p:spPr>
          <a:xfrm>
            <a:off x="1120320" y="139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D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4"/>
          <p:cNvSpPr/>
          <p:nvPr/>
        </p:nvSpPr>
        <p:spPr>
          <a:xfrm>
            <a:off x="7650720" y="5106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15"/>
          <p:cNvSpPr/>
          <p:nvPr/>
        </p:nvSpPr>
        <p:spPr>
          <a:xfrm>
            <a:off x="490320" y="609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pieren 10"/>
          <p:cNvGrpSpPr/>
          <p:nvPr/>
        </p:nvGrpSpPr>
        <p:grpSpPr>
          <a:xfrm>
            <a:off x="1782720" y="4603680"/>
            <a:ext cx="4618080" cy="368280"/>
            <a:chOff x="1782720" y="4603680"/>
            <a:chExt cx="4618080" cy="368280"/>
          </a:xfrm>
        </p:grpSpPr>
        <p:sp>
          <p:nvSpPr>
            <p:cNvPr id="215" name="Line 4"/>
            <p:cNvSpPr/>
            <p:nvPr/>
          </p:nvSpPr>
          <p:spPr>
            <a:xfrm>
              <a:off x="1782720" y="4928400"/>
              <a:ext cx="461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4395240" y="4603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829440" y="249696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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863800" y="2157120"/>
            <a:ext cx="0" cy="225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bgerundetes Rechteck 15"/>
          <p:cNvSpPr/>
          <p:nvPr/>
        </p:nvSpPr>
        <p:spPr>
          <a:xfrm>
            <a:off x="1206360" y="4300560"/>
            <a:ext cx="576360" cy="1503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503360"/>
              <a:gd name="textAreaBottom" fmla="*/ 1475280 h 1503360"/>
            </a:gdLst>
            <a:ahLst/>
            <a:rect l="textAreaLeft" t="textAreaTop" r="textAreaRight" b="textAreaBottom"/>
            <a:pathLst>
              <a:path w="21600" h="56319">
                <a:moveTo>
                  <a:pt x="3600" y="0"/>
                </a:moveTo>
                <a:arcTo wR="3600" hR="3600" stAng="16200000" swAng="-5400000"/>
                <a:lnTo>
                  <a:pt x="0" y="52719"/>
                </a:lnTo>
                <a:arcTo wR="3600" hR="3600" stAng="10800000" swAng="-5400000"/>
                <a:lnTo>
                  <a:pt x="18000" y="56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6"/>
          <p:cNvSpPr/>
          <p:nvPr/>
        </p:nvSpPr>
        <p:spPr>
          <a:xfrm>
            <a:off x="4785480" y="39196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pieren 17"/>
          <p:cNvGrpSpPr/>
          <p:nvPr/>
        </p:nvGrpSpPr>
        <p:grpSpPr>
          <a:xfrm>
            <a:off x="1622520" y="4726080"/>
            <a:ext cx="5329080" cy="670320"/>
            <a:chOff x="1622520" y="4726080"/>
            <a:chExt cx="5329080" cy="670320"/>
          </a:xfrm>
        </p:grpSpPr>
        <p:sp>
          <p:nvSpPr>
            <p:cNvPr id="222" name="Text Box 8"/>
            <p:cNvSpPr/>
            <p:nvPr/>
          </p:nvSpPr>
          <p:spPr>
            <a:xfrm>
              <a:off x="1810080" y="499752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r>
                <a:rPr b="1" lang="de-DE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http://localhost:24727/eID-Client?</a:t>
              </a:r>
              <a:r>
                <a:rPr b="0" lang="de-DE" sz="11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cTokenURL=...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"/>
            <p:cNvSpPr/>
            <p:nvPr/>
          </p:nvSpPr>
          <p:spPr>
            <a:xfrm flipH="1">
              <a:off x="1781280" y="5049360"/>
              <a:ext cx="4619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781640" y="4726080"/>
              <a:ext cx="58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"/>
            <p:cNvSpPr/>
            <p:nvPr/>
          </p:nvSpPr>
          <p:spPr>
            <a:xfrm flipV="1">
              <a:off x="1622520" y="4726800"/>
              <a:ext cx="154080" cy="321480"/>
            </a:xfrm>
            <a:custGeom>
              <a:avLst/>
              <a:gdLst/>
              <a:ahLst/>
              <a:rect l="l" t="t" r="r" b="b"/>
              <a:pathLst>
                <a:path w="154275" h="321508">
                  <a:moveTo>
                    <a:pt x="154275" y="0"/>
                  </a:moveTo>
                  <a:cubicBezTo>
                    <a:pt x="-44104" y="25219"/>
                    <a:pt x="-58184" y="253427"/>
                    <a:pt x="153013" y="3215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 rot="21463800">
            <a:off x="3898080" y="3703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3031560" y="2150640"/>
            <a:ext cx="5760" cy="200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2692440" y="2247480"/>
            <a:ext cx="25560" cy="202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25"/>
          <p:cNvSpPr/>
          <p:nvPr/>
        </p:nvSpPr>
        <p:spPr>
          <a:xfrm flipH="1">
            <a:off x="1809360" y="2695680"/>
            <a:ext cx="10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809720" y="5567400"/>
            <a:ext cx="4746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hteck 27"/>
          <p:cNvSpPr/>
          <p:nvPr/>
        </p:nvSpPr>
        <p:spPr>
          <a:xfrm>
            <a:off x="2389320" y="4043520"/>
            <a:ext cx="2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3247920" y="3342960"/>
            <a:ext cx="3338640" cy="95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325520" y="4511520"/>
            <a:ext cx="452520" cy="1055880"/>
          </a:xfrm>
          <a:custGeom>
            <a:avLst/>
            <a:gdLst/>
            <a:ahLst/>
            <a:rect l="l" t="t" r="r" b="b"/>
            <a:pathLst>
              <a:path w="154275" h="321508">
                <a:moveTo>
                  <a:pt x="154275" y="0"/>
                </a:moveTo>
                <a:cubicBezTo>
                  <a:pt x="-44104" y="25219"/>
                  <a:pt x="-58184" y="253427"/>
                  <a:pt x="153013" y="3215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bgerundetes Rechteck 30"/>
          <p:cNvSpPr/>
          <p:nvPr/>
        </p:nvSpPr>
        <p:spPr>
          <a:xfrm>
            <a:off x="2313000" y="4300560"/>
            <a:ext cx="1257120" cy="1893960"/>
          </a:xfrm>
          <a:custGeom>
            <a:avLst/>
            <a:gdLst>
              <a:gd name="textAreaLeft" fmla="*/ 39600 w 1257120"/>
              <a:gd name="textAreaRight" fmla="*/ 1217520 w 1257120"/>
              <a:gd name="textAreaTop" fmla="*/ 39600 h 1893960"/>
              <a:gd name="textAreaBottom" fmla="*/ 1854360 h 1893960"/>
            </a:gdLst>
            <a:ahLst/>
            <a:rect l="textAreaLeft" t="textAreaTop" r="textAreaRight" b="textAreaBottom"/>
            <a:pathLst>
              <a:path w="21600" h="32539">
                <a:moveTo>
                  <a:pt x="2332" y="0"/>
                </a:moveTo>
                <a:arcTo wR="2332" hR="2332" stAng="16200000" swAng="-5400000"/>
                <a:lnTo>
                  <a:pt x="0" y="30207"/>
                </a:lnTo>
                <a:arcTo wR="2332" hR="2332" stAng="10800000" swAng="-5400000"/>
                <a:lnTo>
                  <a:pt x="19268" y="32539"/>
                </a:lnTo>
                <a:arcTo wR="2332" hR="2332" stAng="5400000" swAng="-5400000"/>
                <a:lnTo>
                  <a:pt x="21600" y="2332"/>
                </a:lnTo>
                <a:arcTo wR="2332" hR="2332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31"/>
          <p:cNvSpPr/>
          <p:nvPr/>
        </p:nvSpPr>
        <p:spPr>
          <a:xfrm>
            <a:off x="2543400" y="5856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D A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2324160" y="3487680"/>
            <a:ext cx="4232160" cy="123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14"/>
          <p:cNvSpPr/>
          <p:nvPr/>
        </p:nvSpPr>
        <p:spPr>
          <a:xfrm>
            <a:off x="6189840" y="4081320"/>
            <a:ext cx="1018800" cy="26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cTokenU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4"/>
          <p:cNvSpPr/>
          <p:nvPr/>
        </p:nvSpPr>
        <p:spPr>
          <a:xfrm>
            <a:off x="7499160" y="3265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CT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4"/>
          <p:cNvSpPr/>
          <p:nvPr/>
        </p:nvSpPr>
        <p:spPr>
          <a:xfrm rot="20601600">
            <a:off x="4157280" y="3587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CToken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36"/>
          <p:cNvSpPr/>
          <p:nvPr/>
        </p:nvSpPr>
        <p:spPr>
          <a:xfrm>
            <a:off x="2977200" y="3610080"/>
            <a:ext cx="4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14"/>
          <p:cNvSpPr/>
          <p:nvPr/>
        </p:nvSpPr>
        <p:spPr>
          <a:xfrm rot="16200000">
            <a:off x="2558520" y="2974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4"/>
          <p:cNvSpPr/>
          <p:nvPr/>
        </p:nvSpPr>
        <p:spPr>
          <a:xfrm rot="16200000">
            <a:off x="1562400" y="2904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Response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3030480" y="4097160"/>
            <a:ext cx="252360" cy="277920"/>
          </a:xfrm>
          <a:custGeom>
            <a:avLst/>
            <a:gdLst/>
            <a:ahLst/>
            <a:rect l="l" t="t" r="r" b="b"/>
            <a:pathLst>
              <a:path w="85951" h="212127">
                <a:moveTo>
                  <a:pt x="85951" y="64342"/>
                </a:moveTo>
                <a:cubicBezTo>
                  <a:pt x="30519" y="24414"/>
                  <a:pt x="-3053" y="-116538"/>
                  <a:pt x="220" y="21212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 flipV="1">
            <a:off x="1787400" y="4272120"/>
            <a:ext cx="919440" cy="274320"/>
          </a:xfrm>
          <a:custGeom>
            <a:avLst/>
            <a:gdLst/>
            <a:ahLst/>
            <a:rect l="l" t="t" r="r" b="b"/>
            <a:pathLst>
              <a:path w="313148" h="208603">
                <a:moveTo>
                  <a:pt x="313148" y="208603"/>
                </a:moveTo>
                <a:cubicBezTo>
                  <a:pt x="306448" y="110767"/>
                  <a:pt x="224144" y="-51899"/>
                  <a:pt x="0" y="161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kt 41"/>
          <p:cNvGraphicFramePr/>
          <p:nvPr/>
        </p:nvGraphicFramePr>
        <p:xfrm>
          <a:off x="6545160" y="2813040"/>
          <a:ext cx="855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k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5160" y="281304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Picture 6" descr=""/>
          <p:cNvPicPr/>
          <p:nvPr/>
        </p:nvPicPr>
        <p:blipFill>
          <a:blip r:embed="rId7"/>
          <a:stretch/>
        </p:blipFill>
        <p:spPr>
          <a:xfrm>
            <a:off x="3954600" y="692280"/>
            <a:ext cx="5033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Ellipse 43"/>
          <p:cNvSpPr/>
          <p:nvPr/>
        </p:nvSpPr>
        <p:spPr>
          <a:xfrm>
            <a:off x="6586560" y="3346560"/>
            <a:ext cx="236520" cy="18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44"/>
          <p:cNvSpPr/>
          <p:nvPr/>
        </p:nvSpPr>
        <p:spPr>
          <a:xfrm flipV="1">
            <a:off x="4687920" y="26856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45"/>
          <p:cNvSpPr/>
          <p:nvPr/>
        </p:nvSpPr>
        <p:spPr>
          <a:xfrm>
            <a:off x="2881440" y="1968480"/>
            <a:ext cx="236520" cy="179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hteck 46"/>
          <p:cNvSpPr/>
          <p:nvPr/>
        </p:nvSpPr>
        <p:spPr>
          <a:xfrm>
            <a:off x="4183200" y="995400"/>
            <a:ext cx="3244680" cy="100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14"/>
          <p:cNvSpPr/>
          <p:nvPr/>
        </p:nvSpPr>
        <p:spPr>
          <a:xfrm>
            <a:off x="739440" y="1927080"/>
            <a:ext cx="1270440" cy="261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48"/>
          <p:cNvSpPr/>
          <p:nvPr/>
        </p:nvSpPr>
        <p:spPr>
          <a:xfrm flipH="1" flipV="1">
            <a:off x="6705360" y="3521160"/>
            <a:ext cx="468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49"/>
          <p:cNvSpPr/>
          <p:nvPr/>
        </p:nvSpPr>
        <p:spPr>
          <a:xfrm>
            <a:off x="4183200" y="1228680"/>
            <a:ext cx="3244680" cy="101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50"/>
          <p:cNvSpPr/>
          <p:nvPr/>
        </p:nvSpPr>
        <p:spPr>
          <a:xfrm>
            <a:off x="6556320" y="5478480"/>
            <a:ext cx="235080" cy="1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14"/>
          <p:cNvSpPr/>
          <p:nvPr/>
        </p:nvSpPr>
        <p:spPr>
          <a:xfrm>
            <a:off x="5996520" y="6064200"/>
            <a:ext cx="13543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fresh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52"/>
          <p:cNvSpPr/>
          <p:nvPr/>
        </p:nvSpPr>
        <p:spPr>
          <a:xfrm>
            <a:off x="4440600" y="555948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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53"/>
          <p:cNvSpPr/>
          <p:nvPr/>
        </p:nvSpPr>
        <p:spPr>
          <a:xfrm flipH="1" flipV="1">
            <a:off x="6670800" y="5657400"/>
            <a:ext cx="288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erade Verbindung 54"/>
          <p:cNvSpPr/>
          <p:nvPr/>
        </p:nvSpPr>
        <p:spPr>
          <a:xfrm>
            <a:off x="2019240" y="205884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9EF7716-1367-4D23-B158-29DA0E693AF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artPAO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7" descr="StartPAOS"/>
          <p:cNvPicPr/>
          <p:nvPr/>
        </p:nvPicPr>
        <p:blipFill>
          <a:blip r:embed="rId1"/>
          <a:stretch/>
        </p:blipFill>
        <p:spPr>
          <a:xfrm>
            <a:off x="2417760" y="1773360"/>
            <a:ext cx="4116240" cy="1342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tartPAOSResponse"/>
          <p:cNvPicPr/>
          <p:nvPr/>
        </p:nvPicPr>
        <p:blipFill>
          <a:blip r:embed="rId2"/>
          <a:stretch/>
        </p:blipFill>
        <p:spPr>
          <a:xfrm>
            <a:off x="2587680" y="3860640"/>
            <a:ext cx="3763800" cy="838440"/>
          </a:xfrm>
          <a:prstGeom prst="rect">
            <a:avLst/>
          </a:prstGeom>
          <a:ln w="0">
            <a:noFill/>
          </a:ln>
        </p:spPr>
      </p:pic>
      <p:sp>
        <p:nvSpPr>
          <p:cNvPr id="264" name="Rechteck 2"/>
          <p:cNvSpPr/>
          <p:nvPr/>
        </p:nvSpPr>
        <p:spPr>
          <a:xfrm>
            <a:off x="2103120" y="5589720"/>
            <a:ext cx="443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16F4BBAB-5CE5-45B6-A6B7-992DC7A45CEE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C4D69374-BC48-4F47-B6F2-F04D21C6FED4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3"/>
          <p:cNvSpPr/>
          <p:nvPr/>
        </p:nvSpPr>
        <p:spPr>
          <a:xfrm>
            <a:off x="287280" y="1628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1DDEB15-3749-4BDA-A903-9B16805D742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3920"/>
            <a:ext cx="6977160" cy="5288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792000" y="1111320"/>
            <a:ext cx="14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Grafik 6" descr=""/>
          <p:cNvPicPr/>
          <p:nvPr/>
        </p:nvPicPr>
        <p:blipFill>
          <a:blip r:embed="rId2"/>
          <a:stretch/>
        </p:blipFill>
        <p:spPr>
          <a:xfrm>
            <a:off x="7361280" y="1123920"/>
            <a:ext cx="755640" cy="477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86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798742B-041C-4280-BD43-A9094BE7F5D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250920" y="1268280"/>
            <a:ext cx="1441440" cy="1225800"/>
          </a:xfrm>
          <a:prstGeom prst="cloudCallout">
            <a:avLst>
              <a:gd name="adj1" fmla="val 23569"/>
              <a:gd name="adj2" fmla="val 11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66560" y="1362240"/>
            <a:ext cx="1152720" cy="626400"/>
            <a:chOff x="466560" y="1362240"/>
            <a:chExt cx="1152720" cy="626400"/>
          </a:xfrm>
        </p:grpSpPr>
        <p:sp>
          <p:nvSpPr>
            <p:cNvPr id="289" name="Text Box 4"/>
            <p:cNvSpPr/>
            <p:nvPr/>
          </p:nvSpPr>
          <p:spPr>
            <a:xfrm>
              <a:off x="499680" y="1362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d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5"/>
                <p:cNvSpPr txBox="1"/>
                <p:nvPr/>
              </p:nvSpPr>
              <p:spPr>
                <a:xfrm>
                  <a:off x="466560" y="1700280"/>
                  <a:ext cx="18108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91" name="Object 6"/>
            <p:cNvGraphicFramePr/>
            <p:nvPr/>
          </p:nvGraphicFramePr>
          <p:xfrm>
            <a:off x="1322280" y="1628640"/>
            <a:ext cx="297000" cy="36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2280" y="1628640"/>
                      <a:ext cx="297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93" name="Picture 7" descr="neu-3"/>
          <p:cNvPicPr/>
          <p:nvPr/>
        </p:nvPicPr>
        <p:blipFill>
          <a:blip r:embed="rId3"/>
          <a:stretch/>
        </p:blipFill>
        <p:spPr>
          <a:xfrm>
            <a:off x="7369200" y="3500280"/>
            <a:ext cx="1666800" cy="18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61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assword Authenticated </a:t>
            </a:r>
            <a:br>
              <a:rPr sz="2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onnection Establishment (PACE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2484360" y="1125360"/>
                <a:ext cx="396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Line 10"/>
          <p:cNvSpPr/>
          <p:nvPr/>
        </p:nvSpPr>
        <p:spPr>
          <a:xfrm>
            <a:off x="2050920" y="371628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2050920" y="2421000"/>
            <a:ext cx="4824720" cy="431640"/>
            <a:chOff x="2050920" y="2421000"/>
            <a:chExt cx="4824720" cy="431640"/>
          </a:xfrm>
        </p:grpSpPr>
        <p:sp>
          <p:nvSpPr>
            <p:cNvPr id="298" name="Line 12"/>
            <p:cNvSpPr/>
            <p:nvPr/>
          </p:nvSpPr>
          <p:spPr>
            <a:xfrm>
              <a:off x="2050920" y="285264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3"/>
                <p:cNvSpPr txBox="1"/>
                <p:nvPr/>
              </p:nvSpPr>
              <p:spPr>
                <a:xfrm>
                  <a:off x="3708360" y="2421000"/>
                  <a:ext cx="1527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ICC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E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3492360" y="4290840"/>
                <a:ext cx="196848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AutoShape 15"/>
          <p:cNvSpPr/>
          <p:nvPr/>
        </p:nvSpPr>
        <p:spPr>
          <a:xfrm>
            <a:off x="7596360" y="1125360"/>
            <a:ext cx="1369800" cy="1222560"/>
          </a:xfrm>
          <a:prstGeom prst="cloudCallout">
            <a:avLst>
              <a:gd name="adj1" fmla="val -2374"/>
              <a:gd name="adj2" fmla="val 109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800120" y="1200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627280" y="378936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8"/>
              <p:cNvSpPr txBox="1"/>
              <p:nvPr/>
            </p:nvSpPr>
            <p:spPr>
              <a:xfrm>
                <a:off x="2811600" y="3827520"/>
                <a:ext cx="1804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4859280" y="3808440"/>
                <a:ext cx="1320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Line 20"/>
          <p:cNvSpPr/>
          <p:nvPr/>
        </p:nvSpPr>
        <p:spPr>
          <a:xfrm>
            <a:off x="2050920" y="4653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1979640" y="508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258920" y="5227560"/>
            <a:ext cx="6337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1306440" y="5256360"/>
                <a:ext cx="2205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4"/>
              <p:cNvSpPr txBox="1"/>
              <p:nvPr/>
            </p:nvSpPr>
            <p:spPr>
              <a:xfrm>
                <a:off x="3544920" y="5294160"/>
                <a:ext cx="2001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Line 25"/>
          <p:cNvSpPr/>
          <p:nvPr/>
        </p:nvSpPr>
        <p:spPr>
          <a:xfrm>
            <a:off x="2050920" y="60912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6"/>
              <p:cNvSpPr txBox="1"/>
              <p:nvPr/>
            </p:nvSpPr>
            <p:spPr>
              <a:xfrm>
                <a:off x="3059280" y="5719680"/>
                <a:ext cx="273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Line 27"/>
          <p:cNvSpPr/>
          <p:nvPr/>
        </p:nvSpPr>
        <p:spPr>
          <a:xfrm>
            <a:off x="2050920" y="645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9"/>
          <p:cNvSpPr/>
          <p:nvPr/>
        </p:nvSpPr>
        <p:spPr>
          <a:xfrm flipH="1">
            <a:off x="1547640" y="364320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0"/>
          <p:cNvSpPr/>
          <p:nvPr/>
        </p:nvSpPr>
        <p:spPr>
          <a:xfrm flipH="1">
            <a:off x="1619280" y="3500280"/>
            <a:ext cx="216000" cy="136872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720"/>
              <a:gd name="textAreaBottom" fmla="*/ 10908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/>
          <p:cNvSpPr/>
          <p:nvPr/>
        </p:nvSpPr>
        <p:spPr>
          <a:xfrm flipH="1">
            <a:off x="1763640" y="3427560"/>
            <a:ext cx="216000" cy="151416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440 h 1514160"/>
              <a:gd name="textAreaBottom" fmla="*/ 1206720 h 151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2"/>
              <p:cNvSpPr txBox="1"/>
              <p:nvPr/>
            </p:nvSpPr>
            <p:spPr>
              <a:xfrm>
                <a:off x="5651640" y="5297400"/>
                <a:ext cx="182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539640" y="1916280"/>
                <a:ext cx="7225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Text Box 34"/>
          <p:cNvSpPr/>
          <p:nvPr/>
        </p:nvSpPr>
        <p:spPr>
          <a:xfrm>
            <a:off x="4613760" y="3887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1979640" y="1627200"/>
            <a:ext cx="5184720" cy="720720"/>
            <a:chOff x="1979640" y="1627200"/>
            <a:chExt cx="5184720" cy="720720"/>
          </a:xfrm>
        </p:grpSpPr>
        <p:sp>
          <p:nvSpPr>
            <p:cNvPr id="321" name="AutoShape 36"/>
            <p:cNvSpPr/>
            <p:nvPr/>
          </p:nvSpPr>
          <p:spPr>
            <a:xfrm>
              <a:off x="1979640" y="1627200"/>
              <a:ext cx="1081080" cy="720720"/>
            </a:xfrm>
            <a:prstGeom prst="cloudCallout">
              <a:avLst>
                <a:gd name="adj1" fmla="val -89648"/>
                <a:gd name="adj2" fmla="val 147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7"/>
            <p:cNvSpPr/>
            <p:nvPr/>
          </p:nvSpPr>
          <p:spPr>
            <a:xfrm>
              <a:off x="6083280" y="1627200"/>
              <a:ext cx="1081080" cy="720720"/>
            </a:xfrm>
            <a:prstGeom prst="cloudCallout">
              <a:avLst>
                <a:gd name="adj1" fmla="val 91115"/>
                <a:gd name="adj2" fmla="val 137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8"/>
            <p:cNvSpPr/>
            <p:nvPr/>
          </p:nvSpPr>
          <p:spPr>
            <a:xfrm>
              <a:off x="3059280" y="1916280"/>
              <a:ext cx="30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39"/>
                <p:cNvSpPr txBox="1"/>
                <p:nvPr/>
              </p:nvSpPr>
              <p:spPr>
                <a:xfrm>
                  <a:off x="6443640" y="1843200"/>
                  <a:ext cx="3510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40"/>
                <p:cNvSpPr txBox="1"/>
                <p:nvPr/>
              </p:nvSpPr>
              <p:spPr>
                <a:xfrm>
                  <a:off x="2276640" y="1843200"/>
                  <a:ext cx="3506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6" name="Object 41"/>
              <p:cNvSpPr txBox="1"/>
              <p:nvPr/>
            </p:nvSpPr>
            <p:spPr>
              <a:xfrm>
                <a:off x="7885080" y="179856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2"/>
              <p:cNvSpPr txBox="1"/>
              <p:nvPr/>
            </p:nvSpPr>
            <p:spPr>
              <a:xfrm>
                <a:off x="3492360" y="4726080"/>
                <a:ext cx="1868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28" name="Group 43"/>
          <p:cNvGrpSpPr/>
          <p:nvPr/>
        </p:nvGrpSpPr>
        <p:grpSpPr>
          <a:xfrm>
            <a:off x="2050920" y="2890800"/>
            <a:ext cx="4824720" cy="393480"/>
            <a:chOff x="2050920" y="2890800"/>
            <a:chExt cx="4824720" cy="393480"/>
          </a:xfrm>
        </p:grpSpPr>
        <p:sp>
          <p:nvSpPr>
            <p:cNvPr id="329" name="Line 44"/>
            <p:cNvSpPr/>
            <p:nvPr/>
          </p:nvSpPr>
          <p:spPr>
            <a:xfrm>
              <a:off x="2050920" y="328428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45"/>
                <p:cNvSpPr txBox="1"/>
                <p:nvPr/>
              </p:nvSpPr>
              <p:spPr>
                <a:xfrm>
                  <a:off x="4000680" y="2890800"/>
                  <a:ext cx="8046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Object 46"/>
              <p:cNvSpPr txBox="1"/>
              <p:nvPr/>
            </p:nvSpPr>
            <p:spPr>
              <a:xfrm>
                <a:off x="3949560" y="3274920"/>
                <a:ext cx="804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7"/>
              <p:cNvSpPr txBox="1"/>
              <p:nvPr/>
            </p:nvSpPr>
            <p:spPr>
              <a:xfrm>
                <a:off x="816120" y="1617840"/>
                <a:ext cx="482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8"/>
              <p:cNvSpPr txBox="1"/>
              <p:nvPr/>
            </p:nvSpPr>
            <p:spPr>
              <a:xfrm>
                <a:off x="7945560" y="1455840"/>
                <a:ext cx="482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Text Box 49"/>
          <p:cNvSpPr/>
          <p:nvPr/>
        </p:nvSpPr>
        <p:spPr>
          <a:xfrm>
            <a:off x="3403800" y="5342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5437440" y="5322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1"/>
              <p:cNvSpPr txBox="1"/>
              <p:nvPr/>
            </p:nvSpPr>
            <p:spPr>
              <a:xfrm>
                <a:off x="3059280" y="6091200"/>
                <a:ext cx="273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37" name="Object 52"/>
          <p:cNvGraphicFramePr/>
          <p:nvPr/>
        </p:nvGraphicFramePr>
        <p:xfrm>
          <a:off x="8496360" y="1484280"/>
          <a:ext cx="29664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1484280"/>
                    <a:ext cx="2966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Grafik 53" descr=""/>
          <p:cNvPicPr/>
          <p:nvPr/>
        </p:nvPicPr>
        <p:blipFill>
          <a:blip r:embed="rId6"/>
          <a:stretch/>
        </p:blipFill>
        <p:spPr>
          <a:xfrm>
            <a:off x="119160" y="3749760"/>
            <a:ext cx="1373040" cy="8665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7591320" y="408312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A13C253-B376-4704-807B-F2105AE2A7E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Terminal Authentication (T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936720" y="2706840"/>
          <a:ext cx="260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2706840"/>
                    <a:ext cx="260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4"/>
          <p:cNvSpPr/>
          <p:nvPr/>
        </p:nvSpPr>
        <p:spPr>
          <a:xfrm>
            <a:off x="2016000" y="3367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016000" y="39448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3270240" y="2874960"/>
                <a:ext cx="1971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r>
                      <m:t xml:space="preserve">⋯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8" name="Picture 8" descr="neu-3"/>
          <p:cNvPicPr/>
          <p:nvPr/>
        </p:nvPicPr>
        <p:blipFill>
          <a:blip r:embed="rId3"/>
          <a:stretch/>
        </p:blipFill>
        <p:spPr>
          <a:xfrm>
            <a:off x="7273800" y="4014720"/>
            <a:ext cx="1667160" cy="184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9"/>
          <p:cNvSpPr/>
          <p:nvPr/>
        </p:nvSpPr>
        <p:spPr>
          <a:xfrm flipH="1">
            <a:off x="1512720" y="4160880"/>
            <a:ext cx="144720" cy="107928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280"/>
              <a:gd name="textAreaBottom" fmla="*/ 8600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flipH="1">
            <a:off x="1584360" y="401472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flipH="1">
            <a:off x="1728720" y="3944880"/>
            <a:ext cx="216000" cy="1511280"/>
          </a:xfrm>
          <a:custGeom>
            <a:avLst/>
            <a:gdLst>
              <a:gd name="textAreaLeft" fmla="*/ 63720 w 216000"/>
              <a:gd name="textAreaRight" fmla="*/ 216720 w 216000"/>
              <a:gd name="textAreaTop" fmla="*/ 306720 h 1511280"/>
              <a:gd name="textAreaBottom" fmla="*/ 1204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2"/>
              <p:cNvSpPr txBox="1"/>
              <p:nvPr/>
            </p:nvSpPr>
            <p:spPr>
              <a:xfrm>
                <a:off x="2979720" y="3471840"/>
                <a:ext cx="243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089080" y="4653000"/>
                <a:ext cx="4830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AutoShape 14"/>
          <p:cNvSpPr/>
          <p:nvPr/>
        </p:nvSpPr>
        <p:spPr>
          <a:xfrm>
            <a:off x="73080" y="2301840"/>
            <a:ext cx="1332000" cy="800280"/>
          </a:xfrm>
          <a:prstGeom prst="cloudCallout">
            <a:avLst>
              <a:gd name="adj1" fmla="val 22148"/>
              <a:gd name="adj2" fmla="val 165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396720" y="2637000"/>
                <a:ext cx="682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Text Box 16"/>
          <p:cNvSpPr/>
          <p:nvPr/>
        </p:nvSpPr>
        <p:spPr>
          <a:xfrm>
            <a:off x="302400" y="23623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624720" y="2058840"/>
            <a:ext cx="1295280" cy="863640"/>
          </a:xfrm>
          <a:prstGeom prst="cloudCallout">
            <a:avLst>
              <a:gd name="adj1" fmla="val 80148"/>
              <a:gd name="adj2" fmla="val 18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700320" y="21528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089080" y="4519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0"/>
              <p:cNvSpPr txBox="1"/>
              <p:nvPr/>
            </p:nvSpPr>
            <p:spPr>
              <a:xfrm>
                <a:off x="3745080" y="4059360"/>
                <a:ext cx="1361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21"/>
          <p:cNvSpPr/>
          <p:nvPr/>
        </p:nvSpPr>
        <p:spPr>
          <a:xfrm>
            <a:off x="1224720" y="31384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2"/>
              <p:cNvSpPr txBox="1"/>
              <p:nvPr/>
            </p:nvSpPr>
            <p:spPr>
              <a:xfrm>
                <a:off x="1655640" y="335448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5649840" y="3459240"/>
                <a:ext cx="2271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24"/>
          <p:cNvSpPr/>
          <p:nvPr/>
        </p:nvSpPr>
        <p:spPr>
          <a:xfrm>
            <a:off x="7453440" y="1125360"/>
            <a:ext cx="1655640" cy="1152720"/>
          </a:xfrm>
          <a:prstGeom prst="cloudCallout">
            <a:avLst>
              <a:gd name="adj1" fmla="val 16731"/>
              <a:gd name="adj2" fmla="val 21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7695360" y="126828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hemera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6"/>
              <p:cNvSpPr txBox="1"/>
              <p:nvPr/>
            </p:nvSpPr>
            <p:spPr>
              <a:xfrm>
                <a:off x="7812000" y="1687680"/>
                <a:ext cx="911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7"/>
              <p:cNvSpPr txBox="1"/>
              <p:nvPr/>
            </p:nvSpPr>
            <p:spPr>
              <a:xfrm>
                <a:off x="5545080" y="2852640"/>
                <a:ext cx="2455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⊃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8"/>
          <p:cNvSpPr/>
          <p:nvPr/>
        </p:nvSpPr>
        <p:spPr>
          <a:xfrm>
            <a:off x="2089080" y="5167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9"/>
              <p:cNvSpPr txBox="1"/>
              <p:nvPr/>
            </p:nvSpPr>
            <p:spPr>
              <a:xfrm>
                <a:off x="311040" y="5637240"/>
                <a:ext cx="609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if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O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0"/>
              <p:cNvSpPr txBox="1"/>
              <p:nvPr/>
            </p:nvSpPr>
            <p:spPr>
              <a:xfrm>
                <a:off x="6913440" y="2421000"/>
                <a:ext cx="698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71" name="Object 31"/>
          <p:cNvGraphicFramePr/>
          <p:nvPr/>
        </p:nvGraphicFramePr>
        <p:xfrm>
          <a:off x="8785080" y="1484280"/>
          <a:ext cx="2606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5080" y="1484280"/>
                    <a:ext cx="26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32"/>
              <p:cNvSpPr txBox="1"/>
              <p:nvPr/>
            </p:nvSpPr>
            <p:spPr>
              <a:xfrm>
                <a:off x="2747880" y="1773360"/>
                <a:ext cx="3146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m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ICC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 PACE</m:t>
                              </m:r>
                            </m:e>
                          </m:mr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from MR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 BAC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p:pic>
        <p:nvPicPr>
          <p:cNvPr id="374" name="Grafik 33" descr=""/>
          <p:cNvPicPr/>
          <p:nvPr/>
        </p:nvPicPr>
        <p:blipFill>
          <a:blip r:embed="rId6"/>
          <a:stretch/>
        </p:blipFill>
        <p:spPr>
          <a:xfrm>
            <a:off x="119160" y="4219560"/>
            <a:ext cx="1373040" cy="865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7591320" y="455148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52729B8-2284-4B1B-B53C-75B6B56E147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87200"/>
            <a:ext cx="889308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hip Authentication (C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2050920" y="3068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2050920" y="4005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417840" y="2706840"/>
                <a:ext cx="197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AutoShape 6"/>
          <p:cNvSpPr/>
          <p:nvPr/>
        </p:nvSpPr>
        <p:spPr>
          <a:xfrm>
            <a:off x="826920" y="1413000"/>
            <a:ext cx="1513080" cy="871560"/>
          </a:xfrm>
          <a:prstGeom prst="cloudCallout">
            <a:avLst>
              <a:gd name="adj1" fmla="val -8550"/>
              <a:gd name="adj2" fmla="val 21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7093080" y="1052640"/>
            <a:ext cx="1871640" cy="1728720"/>
          </a:xfrm>
          <a:prstGeom prst="cloudCallout">
            <a:avLst>
              <a:gd name="adj1" fmla="val -16157"/>
              <a:gd name="adj2" fmla="val 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7393680" y="1455840"/>
            <a:ext cx="127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 TA genera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059280" y="4292640"/>
            <a:ext cx="2736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3225960" y="4384800"/>
                <a:ext cx="2401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Picture 12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524720" y="1967040"/>
                <a:ext cx="907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7"/>
              <p:cNvSpPr txBox="1"/>
              <p:nvPr/>
            </p:nvSpPr>
            <p:spPr>
              <a:xfrm>
                <a:off x="1177920" y="1843200"/>
                <a:ext cx="723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8"/>
              <p:cNvSpPr txBox="1"/>
              <p:nvPr/>
            </p:nvSpPr>
            <p:spPr>
              <a:xfrm>
                <a:off x="3267000" y="3554280"/>
                <a:ext cx="2293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9"/>
              <p:cNvSpPr txBox="1"/>
              <p:nvPr/>
            </p:nvSpPr>
            <p:spPr>
              <a:xfrm>
                <a:off x="108000" y="4995720"/>
                <a:ext cx="2808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Text Box 20"/>
          <p:cNvSpPr/>
          <p:nvPr/>
        </p:nvSpPr>
        <p:spPr>
          <a:xfrm>
            <a:off x="6302520" y="327168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assiv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0" y="2276640"/>
            <a:ext cx="1332000" cy="799920"/>
          </a:xfrm>
          <a:prstGeom prst="cloudCallout">
            <a:avLst>
              <a:gd name="adj1" fmla="val 35101"/>
              <a:gd name="adj2" fmla="val 148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970200" y="155736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. ke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3"/>
              <p:cNvSpPr txBox="1"/>
              <p:nvPr/>
            </p:nvSpPr>
            <p:spPr>
              <a:xfrm>
                <a:off x="179280" y="2627280"/>
                <a:ext cx="701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Text Box 24"/>
          <p:cNvSpPr/>
          <p:nvPr/>
        </p:nvSpPr>
        <p:spPr>
          <a:xfrm>
            <a:off x="316440" y="240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5"/>
              <p:cNvSpPr txBox="1"/>
              <p:nvPr/>
            </p:nvSpPr>
            <p:spPr>
              <a:xfrm>
                <a:off x="149400" y="5718240"/>
                <a:ext cx="23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6"/>
              <p:cNvSpPr txBox="1"/>
              <p:nvPr/>
            </p:nvSpPr>
            <p:spPr>
              <a:xfrm>
                <a:off x="144360" y="5421240"/>
                <a:ext cx="22291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Line 27"/>
          <p:cNvSpPr/>
          <p:nvPr/>
        </p:nvSpPr>
        <p:spPr>
          <a:xfrm>
            <a:off x="2124000" y="61545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8"/>
              <p:cNvSpPr txBox="1"/>
              <p:nvPr/>
            </p:nvSpPr>
            <p:spPr>
              <a:xfrm>
                <a:off x="2743200" y="5740560"/>
                <a:ext cx="3666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9"/>
              <p:cNvSpPr txBox="1"/>
              <p:nvPr/>
            </p:nvSpPr>
            <p:spPr>
              <a:xfrm>
                <a:off x="6792840" y="6086520"/>
                <a:ext cx="2259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0"/>
              <p:cNvSpPr txBox="1"/>
              <p:nvPr/>
            </p:nvSpPr>
            <p:spPr>
              <a:xfrm>
                <a:off x="6737400" y="5816520"/>
                <a:ext cx="233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1"/>
              <p:cNvSpPr txBox="1"/>
              <p:nvPr/>
            </p:nvSpPr>
            <p:spPr>
              <a:xfrm>
                <a:off x="6732720" y="5519880"/>
                <a:ext cx="22287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06" name="Object 32"/>
          <p:cNvGraphicFramePr/>
          <p:nvPr/>
        </p:nvGraphicFramePr>
        <p:xfrm>
          <a:off x="1042920" y="2492280"/>
          <a:ext cx="2602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9228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Grafik 33" descr=""/>
          <p:cNvPicPr/>
          <p:nvPr/>
        </p:nvPicPr>
        <p:blipFill>
          <a:blip r:embed="rId4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Restricted Iden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627280" y="1851120"/>
                <a:ext cx="4594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88D78AD-B8C7-4C5D-98AD-B6302463643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2244600" y="40370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2244600" y="46134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6"/>
              <p:cNvSpPr txBox="1"/>
              <p:nvPr/>
            </p:nvSpPr>
            <p:spPr>
              <a:xfrm>
                <a:off x="3887640" y="3645000"/>
                <a:ext cx="1428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AutoShape 7"/>
          <p:cNvSpPr/>
          <p:nvPr/>
        </p:nvSpPr>
        <p:spPr>
          <a:xfrm>
            <a:off x="250920" y="1700280"/>
            <a:ext cx="1584360" cy="1224000"/>
          </a:xfrm>
          <a:prstGeom prst="cloudCallout">
            <a:avLst>
              <a:gd name="adj1" fmla="val -5009"/>
              <a:gd name="adj2" fmla="val 120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66560" y="19731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ey for R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1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755640" y="2492280"/>
                <a:ext cx="519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3421080" y="4221000"/>
                <a:ext cx="2414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to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24" name="Grafik 16" descr=""/>
          <p:cNvPicPr/>
          <p:nvPr/>
        </p:nvPicPr>
        <p:blipFill>
          <a:blip r:embed="rId2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1FECB6D-BD01-4C75-9005-E4C22CCBC60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AD4B7FCF-56F3-4B43-BB3D-7FE2D4BA955B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C30183C6-C98E-448F-8DB5-8AABD986CCEB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28728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440" y="43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xtended Access Control (v2) (with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upport for legacy cards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4E153BD-DD67-45A0-9637-48C8C5CF11C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600552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FCBE410-2EDA-45A6-BFA0-13D7D3899A4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35" name="Ellipse 2"/>
          <p:cNvSpPr/>
          <p:nvPr/>
        </p:nvSpPr>
        <p:spPr>
          <a:xfrm>
            <a:off x="4427640" y="162864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EE4154D-1BC8-4B28-BDB7-AA8C323B4FE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43000" cy="4638600"/>
          </a:xfrm>
          <a:prstGeom prst="rect">
            <a:avLst/>
          </a:prstGeom>
          <a:ln w="0">
            <a:noFill/>
          </a:ln>
        </p:spPr>
      </p:pic>
      <p:sp>
        <p:nvSpPr>
          <p:cNvPr id="439" name="Rechteck 1"/>
          <p:cNvSpPr/>
          <p:nvPr/>
        </p:nvSpPr>
        <p:spPr>
          <a:xfrm>
            <a:off x="2211840" y="613584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6FE5374-AE29-4B82-90AC-157F6474F0B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43" name="Ellipse 2"/>
          <p:cNvSpPr/>
          <p:nvPr/>
        </p:nvSpPr>
        <p:spPr>
          <a:xfrm>
            <a:off x="4532400" y="256536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44157AE-6C5C-4873-A23A-9CC40F3CE3C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6" name="Picture 3" descr="EAC1OutputType"/>
          <p:cNvPicPr/>
          <p:nvPr/>
        </p:nvPicPr>
        <p:blipFill>
          <a:blip r:embed="rId1"/>
          <a:stretch/>
        </p:blipFill>
        <p:spPr>
          <a:xfrm>
            <a:off x="2556000" y="1773360"/>
            <a:ext cx="3552840" cy="38289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38A2719-C024-4362-9033-5A6A22CA405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1" name="Ellipse 2"/>
          <p:cNvSpPr/>
          <p:nvPr/>
        </p:nvSpPr>
        <p:spPr>
          <a:xfrm>
            <a:off x="4356000" y="314172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0450D9D-CFE1-404A-A0AD-D53CEC68EB6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4" name="Picture 3" descr="EAC2InputType"/>
          <p:cNvPicPr/>
          <p:nvPr/>
        </p:nvPicPr>
        <p:blipFill>
          <a:blip r:embed="rId1"/>
          <a:stretch/>
        </p:blipFill>
        <p:spPr>
          <a:xfrm>
            <a:off x="3203640" y="2852640"/>
            <a:ext cx="2590560" cy="1838520"/>
          </a:xfrm>
          <a:prstGeom prst="rect">
            <a:avLst/>
          </a:prstGeom>
          <a:ln w="0">
            <a:noFill/>
          </a:ln>
        </p:spPr>
      </p:pic>
      <p:sp>
        <p:nvSpPr>
          <p:cNvPr id="455" name="Rechteck 9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5C1BDDF-46AD-42B9-A4A7-9E6ADDEA58E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9" name="Ellipse 2"/>
          <p:cNvSpPr/>
          <p:nvPr/>
        </p:nvSpPr>
        <p:spPr>
          <a:xfrm>
            <a:off x="4427640" y="3944880"/>
            <a:ext cx="1689120" cy="865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1A62E84-5859-4AF8-BDAC-D824037492D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2" name="Picture 3" descr="EAC2OutputType"/>
          <p:cNvPicPr/>
          <p:nvPr/>
        </p:nvPicPr>
        <p:blipFill>
          <a:blip r:embed="rId1"/>
          <a:stretch/>
        </p:blipFill>
        <p:spPr>
          <a:xfrm>
            <a:off x="3059280" y="2637000"/>
            <a:ext cx="3085920" cy="2190600"/>
          </a:xfrm>
          <a:prstGeom prst="rect">
            <a:avLst/>
          </a:prstGeom>
          <a:ln w="0">
            <a:noFill/>
          </a:ln>
        </p:spPr>
      </p:pic>
      <p:sp>
        <p:nvSpPr>
          <p:cNvPr id="463" name="Rechteck 10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8888FE0A-9EB8-4CE0-804A-EB4AF47C5BB6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  <a:ea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474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1617480" y="1108080"/>
            <a:ext cx="60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hank you very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much for your attenti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Grafik 1" descr=""/>
          <p:cNvPicPr/>
          <p:nvPr/>
        </p:nvPicPr>
        <p:blipFill>
          <a:blip r:embed="rId2"/>
          <a:stretch/>
        </p:blipFill>
        <p:spPr>
          <a:xfrm>
            <a:off x="3059280" y="3370320"/>
            <a:ext cx="3419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50520" y="249120"/>
            <a:ext cx="71247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 within an eID-Cli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Grafik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40720" cy="5340240"/>
          </a:xfrm>
          <a:prstGeom prst="rect">
            <a:avLst/>
          </a:prstGeom>
          <a:ln w="0">
            <a:noFill/>
          </a:ln>
        </p:spPr>
      </p:pic>
      <p:sp>
        <p:nvSpPr>
          <p:cNvPr id="164" name="Rechteck 1"/>
          <p:cNvSpPr/>
          <p:nvPr/>
        </p:nvSpPr>
        <p:spPr>
          <a:xfrm>
            <a:off x="611280" y="1989000"/>
            <a:ext cx="3313080" cy="388800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Courier New"/>
                <a:ea typeface="Courier New"/>
              </a:rPr>
              <a:t>CardInfo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 according to CEN 15480-3 and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ISO/IEC 24727-3 (Amd1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	</a:t>
            </a:r>
            <a:fld id="{8C944EB7-1A4B-4136-A17D-FE1FC58D7DC6}" type="slidenum"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835280" y="1731960"/>
            <a:ext cx="5481360" cy="37846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1"/>
          <p:cNvSpPr/>
          <p:nvPr/>
        </p:nvSpPr>
        <p:spPr>
          <a:xfrm>
            <a:off x="2758320" y="602604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2"/>
              </a:rPr>
              <a:t>http://ws.openecard.org/schema/CardInfo.xs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4 (IFD-API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196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termin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ablish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ase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IF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IFD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olI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196640"/>
            <a:ext cx="4387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User interaction functions</a:t>
            </a:r>
            <a:r>
              <a:rPr b="0" lang="de-DE" sz="24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y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ifyVerification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IFD-Callback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26826F07-5430-46C7-A594-0A2C2B334B22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pieren 2"/>
          <p:cNvGrpSpPr/>
          <p:nvPr/>
        </p:nvGrpSpPr>
        <p:grpSpPr>
          <a:xfrm>
            <a:off x="219240" y="4797360"/>
            <a:ext cx="2984400" cy="1500480"/>
            <a:chOff x="219240" y="4797360"/>
            <a:chExt cx="2984400" cy="1500480"/>
          </a:xfrm>
        </p:grpSpPr>
        <p:sp>
          <p:nvSpPr>
            <p:cNvPr id="174" name="Inhaltsplatzhalter 2"/>
            <p:cNvSpPr/>
            <p:nvPr/>
          </p:nvSpPr>
          <p:spPr>
            <a:xfrm>
              <a:off x="219240" y="4797360"/>
              <a:ext cx="2984400" cy="1439640"/>
            </a:xfrm>
            <a:prstGeom prst="rect">
              <a:avLst/>
            </a:prstGeom>
            <a:noFill/>
            <a:ln w="38160">
              <a:solidFill>
                <a:srgbClr val="5177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5177b2"/>
                  </a:solidFill>
                  <a:latin typeface="Arial"/>
                  <a:ea typeface="Arial"/>
                </a:rPr>
                <a:t>Channel func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roy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1"/>
            <p:cNvSpPr/>
            <p:nvPr/>
          </p:nvSpPr>
          <p:spPr>
            <a:xfrm>
              <a:off x="512280" y="6021360"/>
              <a:ext cx="2442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177b2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177b2"/>
                  </a:solidFill>
                  <a:latin typeface="Arial"/>
                  <a:ea typeface="DejaVu Sans Light"/>
                </a:rPr>
                <a:t>Planned Contribution for Amd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hteck 8"/>
          <p:cNvSpPr/>
          <p:nvPr/>
        </p:nvSpPr>
        <p:spPr>
          <a:xfrm>
            <a:off x="5003640" y="3141720"/>
            <a:ext cx="1513080" cy="35856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4472640" y="6099120"/>
            <a:ext cx="33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1"/>
              </a:rPr>
              <a:t>http://ws.openecard.org/schema/ISOIFD.wsdl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Transmi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3951FA8-550D-43DB-B60B-1F0702A13C7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60640" y="1074600"/>
            <a:ext cx="685800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604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eck 7"/>
          <p:cNvSpPr/>
          <p:nvPr/>
        </p:nvSpPr>
        <p:spPr>
          <a:xfrm>
            <a:off x="4932360" y="4076640"/>
            <a:ext cx="165564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6"/>
          <p:cNvSpPr/>
          <p:nvPr/>
        </p:nvSpPr>
        <p:spPr>
          <a:xfrm>
            <a:off x="4932360" y="2565360"/>
            <a:ext cx="1655640" cy="122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"/>
          <p:cNvSpPr/>
          <p:nvPr/>
        </p:nvSpPr>
        <p:spPr>
          <a:xfrm>
            <a:off x="682560" y="2709720"/>
            <a:ext cx="2160720" cy="43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50520" y="250560"/>
            <a:ext cx="7124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3 (Service Access Layer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-servic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rmin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onnection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tart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End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ication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scri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ecute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Named dat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125000"/>
            <a:ext cx="42451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ryptographic service</a:t>
            </a:r>
            <a:r>
              <a:rPr b="0" lang="de-DE" sz="18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n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etRan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Sig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Certif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Differential-ident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Lis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Authoriz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3D3BFA72-2DB3-4E47-969E-E52DDFE20F45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8"/>
          <p:cNvSpPr/>
          <p:nvPr/>
        </p:nvSpPr>
        <p:spPr>
          <a:xfrm>
            <a:off x="4932360" y="4941720"/>
            <a:ext cx="1655640" cy="28764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ck 2"/>
          <p:cNvSpPr/>
          <p:nvPr/>
        </p:nvSpPr>
        <p:spPr>
          <a:xfrm>
            <a:off x="2689560" y="602136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3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CCB1FC5-2524-4EE5-AD33-40D506AE128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827360" y="1071720"/>
            <a:ext cx="5545080" cy="290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619280" y="3892680"/>
            <a:ext cx="5753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Generic authentication flo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280D1C3-4EB3-4569-86E4-BC6986F49E0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962760" cy="4684680"/>
          </a:xfrm>
          <a:prstGeom prst="rect">
            <a:avLst/>
          </a:prstGeom>
          <a:ln w="0">
            <a:noFill/>
          </a:ln>
        </p:spPr>
      </p:pic>
      <p:sp>
        <p:nvSpPr>
          <p:cNvPr id="198" name="Gerade Verbindung 6"/>
          <p:cNvSpPr/>
          <p:nvPr/>
        </p:nvSpPr>
        <p:spPr>
          <a:xfrm>
            <a:off x="971640" y="2637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9"/>
          <p:cNvSpPr/>
          <p:nvPr/>
        </p:nvSpPr>
        <p:spPr>
          <a:xfrm>
            <a:off x="1042920" y="4734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10"/>
          <p:cNvSpPr/>
          <p:nvPr/>
        </p:nvSpPr>
        <p:spPr>
          <a:xfrm>
            <a:off x="4365720" y="2781360"/>
            <a:ext cx="1079280" cy="28728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11"/>
          <p:cNvSpPr/>
          <p:nvPr/>
        </p:nvSpPr>
        <p:spPr>
          <a:xfrm>
            <a:off x="5364000" y="4734000"/>
            <a:ext cx="648000" cy="28872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cp:lastPrinted>2013-03-11T15:10:52Z</cp:lastPrinted>
  <dcterms:modified xsi:type="dcterms:W3CDTF">2014-03-31T10:07:50Z</dcterms:modified>
  <cp:revision>664</cp:revision>
  <dc:subject>Unternehmenspräsentation</dc:subject>
  <dc:title>secunet</dc:title>
</cp:coreProperties>
</file>