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jpeg" ContentType="image/jpeg"/>
  <Override PartName="/ppt/media/image1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3"/>
          </p:nvPr>
        </p:nvSpPr>
        <p:spPr>
          <a:xfrm>
            <a:off x="384768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4"/>
          </p:nvPr>
        </p:nvSpPr>
        <p:spPr>
          <a:xfrm>
            <a:off x="-36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5"/>
          </p:nvPr>
        </p:nvSpPr>
        <p:spPr>
          <a:xfrm>
            <a:off x="384768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DABFAC1-8350-4991-BAA6-BC889C0D9B90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cond ti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y name  assitant to Prof. Hornung who holds the chair of public law, information technology law, legal informatic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artner of SkIdentity responsible for the legal aspe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ushed on the agend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oposal for a regulation on electronic identification and trust services for electronic transactions in the internal mark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June 04 12 submit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Subject to our research in the context of the project, which I wi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9105C74-A18D-44D3-A6AC-DB4BF09F270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1B8DDF5-1B9A-4D31-A20C-8AD555BF321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ußzeilenplatzhalter 3"/>
          <p:cNvSpPr/>
          <p:nvPr/>
        </p:nvSpPr>
        <p:spPr>
          <a:xfrm>
            <a:off x="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oliennummernplatzhalter 4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8C9C81-B674-490F-BD08-4BD3135AAB9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BDDE0A0-6E02-4CE8-AA6B-F63C6FEC434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cision irrevisib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echnical solutions need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734AEFB-B3DF-4602-9FD3-CE1980CB6F3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922320" y="73836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ach Member State establishes a Gateway that communicate with others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E27362A-3BF0-4886-A827-126FFFD70B6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re element: brok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undles eIDs, to different service provi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lso cloud connector as an common inte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8B855C1-D251-4D03-90B5-2C0A603DA83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7EA2A4D-D4A1-4DD2-8F8B-2E3CFC946E4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EA35B2B-F2DD-4DFE-A871-371FF434DA0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larification: Draft Report Commitee energy, research and technolog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cope: Or recognised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quired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4EA248D-F43E-496C-AE44-852711AE0EC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undamental right of self determin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a Protection and Security Rea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as to have them at his own dispos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art of building an infrastructure in accordance with legal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tegration of further entities has to be in accordance with existing guid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8221BBB-8063-4705-925A-0005F3E4831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 parts independently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3199E2F-3B4D-4D55-AE59-36A36181C2B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FA3B214-6F59-4A36-89B2-B948A77159E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A3409AD-3338-4FD4-8B75-A473FBEA1FE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22320" y="78732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wo-factor Authentification, possession and knowledge chipcards nP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43AB77F-D5E5-4EE9-8941-D13E9FDBFCB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kIDentity: Explain in detail l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8B1618E-F41F-4AC7-A101-577F10989AC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F2E5C86-42AC-42A7-B719-60CB286C376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ational eID-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an be notified, doesn‘t have to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f notified, recognition and acceptance at a servi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here an electronic identification mean in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ave this for a moment and go to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2938CA7-0E84-4E21-805C-909605BFF24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ssued on behalf or under the responsibility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arrow it down, art. 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ree of char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o specific technical requirements on relying parties outside of their territo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e contin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4272828-3FC3-4767-8185-9E5B49B752A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um it up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ccep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ational e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ny service provider, where national authentification is required under national legislation or administrative prac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hen notified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otified w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o special technical requirements, free of char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ome sort of liabi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79FD4D0-5406-44E5-AE26-36D6113126F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cope: issued on behalf of or under the respons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ther eids health card, not issued but under the responsibility, can you imagine the con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dea of one national eID:  recital, explanatory memorandu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ublic servic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ording no, recital somehow 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pecial technical requirements? What was meant by tha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ho will bear the cos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ownside: we have to accep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iability: wide narr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You could come to the conclus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0F85CC5-3927-4E1A-939F-B0E1E9250D5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457B0-2D66-4FA9-847C-DF631991D2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1B2F9-BD67-42F5-849E-0D74B39128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86C9A-0E6D-4CA5-A35A-C4D76F8340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D2967-323D-44A2-A870-C34DB45029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0CE64-5F3C-42BE-86DC-A841D54AC28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0F830-279D-486A-A513-C037E38EBE5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75D8B-CBA4-4286-86DA-ADA2CAF4CB2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3CA4E-99B4-47CD-B323-25EF41948F9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F8DB0-94F2-499F-BFD0-A7B3C66A6BA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BA417-A62B-4C52-B6F0-6F131637A96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76251-2290-4B54-891C-94BB17C92E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7761D-9AA9-4330-AF21-ED8C4D2F10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CC8EC-13E3-4298-8A21-E9122B9E5DF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AE312-2E81-4A4C-B5C6-4B17E91C96F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FB6B1-2193-482B-A649-41130536553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A4645-5374-4CBA-9CF9-E2362340F83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8E9C8-6330-4B25-8D9B-3C1D5BAC086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69F82-C590-470C-905F-50F23EC87EF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6D20F-DB0D-40A4-8D3D-C4A01D4AAF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FEFF2-8959-4E69-A5B8-03DF82545B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CC6CE-71CF-476E-B3C6-BFA139ABAD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77AE5-0299-43EF-A452-6D3309AA84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48AD0-0657-400A-AE9B-D13DFA4D32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9EC9C-4EAF-4DAF-9A2E-B8FA6224AC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utoShape 17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26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19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20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32080" indent="-33660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1"/>
          </p:nvPr>
        </p:nvSpPr>
        <p:spPr>
          <a:xfrm>
            <a:off x="838800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&gt;&gt;</a:t>
            </a:r>
            <a:r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	</a:t>
            </a:r>
            <a:fld id="{D124E98B-F92F-412A-BDD6-E680C8881E18}" type="slidenum"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" name="Picture 21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9" name="AutoShape 3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30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Grafik 15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Num" idx="2"/>
          </p:nvPr>
        </p:nvSpPr>
        <p:spPr>
          <a:xfrm>
            <a:off x="838800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bbe0e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&gt;&gt;</a:t>
            </a:r>
            <a:r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	</a:t>
            </a:r>
            <a:fld id="{8D154868-FAB1-49C4-92D0-E7BB619AA86C}" type="slidenum"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7" name="Picture 22" descr="header_chip"/>
          <p:cNvPicPr/>
          <p:nvPr/>
        </p:nvPicPr>
        <p:blipFill>
          <a:blip r:embed="rId2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balken"/>
          <p:cNvPicPr/>
          <p:nvPr/>
        </p:nvPicPr>
        <p:blipFill>
          <a:blip r:embed="rId3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17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eaeaea"/>
                </a:solidFill>
                <a:latin typeface="Arial"/>
              </a:rPr>
              <a:t>© 2011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Grafik 16" descr=""/>
          <p:cNvPicPr/>
          <p:nvPr/>
        </p:nvPicPr>
        <p:blipFill>
          <a:blip r:embed="rId4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</a:rPr>
              <a:t>© Copyright 2010 ecsec GmbH, 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2" descr="ecsec-logo_tr_final"/>
          <p:cNvPicPr/>
          <p:nvPr/>
        </p:nvPicPr>
        <p:blipFill>
          <a:blip r:embed="rId2"/>
          <a:stretch/>
        </p:blipFill>
        <p:spPr>
          <a:xfrm>
            <a:off x="3635280" y="5013360"/>
            <a:ext cx="2305080" cy="109368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28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5" descr="startseite-hellgrau"/>
          <p:cNvPicPr/>
          <p:nvPr/>
        </p:nvPicPr>
        <p:blipFill>
          <a:blip r:embed="rId3"/>
          <a:srcRect l="567" t="781" r="567" b="781"/>
          <a:stretch/>
        </p:blipFill>
        <p:spPr>
          <a:xfrm>
            <a:off x="395280" y="395280"/>
            <a:ext cx="8353440" cy="604836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103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32080" indent="-33660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docs.ecsec.de/BSI-MSACC" TargetMode="Externa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4920" y="2204640"/>
            <a:ext cx="852948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4d4d4d"/>
                </a:solidFill>
                <a:latin typeface="Arial"/>
              </a:rPr>
              <a:t>IDM in Cloud Computing in Conformity with EU Law?</a:t>
            </a:r>
            <a:br>
              <a:rPr sz="6000"/>
            </a:br>
            <a:r>
              <a:rPr b="1" lang="de-DE" sz="3600" spc="-1" strike="noStrike">
                <a:solidFill>
                  <a:srgbClr val="4d4d4d"/>
                </a:solidFill>
                <a:latin typeface="Arial"/>
              </a:rPr>
              <a:t>eIAS-R-D</a:t>
            </a:r>
            <a:br>
              <a:rPr sz="3600"/>
            </a:br>
            <a:br>
              <a:rPr sz="2400"/>
            </a:b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2843280" y="4005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Grafik 2" descr=""/>
          <p:cNvPicPr/>
          <p:nvPr/>
        </p:nvPicPr>
        <p:blipFill>
          <a:blip r:embed="rId1"/>
          <a:stretch/>
        </p:blipFill>
        <p:spPr>
          <a:xfrm>
            <a:off x="2997360" y="739800"/>
            <a:ext cx="3408120" cy="1117440"/>
          </a:xfrm>
          <a:prstGeom prst="rect">
            <a:avLst/>
          </a:prstGeom>
          <a:ln w="0">
            <a:noFill/>
          </a:ln>
        </p:spPr>
      </p:pic>
      <p:sp>
        <p:nvSpPr>
          <p:cNvPr id="152" name="Textfeld 1"/>
          <p:cNvSpPr/>
          <p:nvPr/>
        </p:nvSpPr>
        <p:spPr>
          <a:xfrm>
            <a:off x="520560" y="5940360"/>
            <a:ext cx="41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d4d4d"/>
                </a:solidFill>
                <a:latin typeface="Arial"/>
              </a:rPr>
              <a:t>Stephan Sädtler (Universität Passau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Grafik 3" descr=""/>
          <p:cNvPicPr/>
          <p:nvPr/>
        </p:nvPicPr>
        <p:blipFill>
          <a:blip r:embed="rId2"/>
          <a:stretch/>
        </p:blipFill>
        <p:spPr>
          <a:xfrm>
            <a:off x="6843600" y="4546440"/>
            <a:ext cx="1729080" cy="1425600"/>
          </a:xfrm>
          <a:prstGeom prst="rect">
            <a:avLst/>
          </a:prstGeom>
          <a:ln w="0">
            <a:noFill/>
          </a:ln>
        </p:spPr>
      </p:pic>
      <p:pic>
        <p:nvPicPr>
          <p:cNvPr id="154" name="Grafik 2" descr=""/>
          <p:cNvPicPr/>
          <p:nvPr/>
        </p:nvPicPr>
        <p:blipFill>
          <a:blip r:embed="rId3"/>
          <a:stretch/>
        </p:blipFill>
        <p:spPr>
          <a:xfrm>
            <a:off x="579600" y="4592520"/>
            <a:ext cx="244764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73A7F35C-B972-4687-84F6-51C6EE3819E8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91BBFF10-52EC-43CA-AC70-0155F83E9068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18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220680" y="292428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al content 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equences for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pproaches to the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estions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Grafik 18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42880" y="331560"/>
            <a:ext cx="77011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nPA-Infrastructur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" name="Rechteck 9"/>
          <p:cNvSpPr/>
          <p:nvPr/>
        </p:nvSpPr>
        <p:spPr>
          <a:xfrm>
            <a:off x="820800" y="1214280"/>
            <a:ext cx="2786040" cy="50040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D 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hteck 10"/>
          <p:cNvSpPr/>
          <p:nvPr/>
        </p:nvSpPr>
        <p:spPr>
          <a:xfrm>
            <a:off x="6643800" y="1214280"/>
            <a:ext cx="2224080" cy="50040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ervice Provider, § 2 Abs. 3 PAusw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hteck 12"/>
          <p:cNvSpPr/>
          <p:nvPr/>
        </p:nvSpPr>
        <p:spPr>
          <a:xfrm>
            <a:off x="6143760" y="3581280"/>
            <a:ext cx="2857320" cy="113364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ergabestelle für Berechtigungs-zertifikate“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hteck 13"/>
          <p:cNvSpPr/>
          <p:nvPr/>
        </p:nvSpPr>
        <p:spPr>
          <a:xfrm>
            <a:off x="4708440" y="5643720"/>
            <a:ext cx="2363760" cy="78552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upervisory Bod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Gerade Verbindung mit Pfeil 35"/>
          <p:cNvCxnSpPr/>
          <p:nvPr/>
        </p:nvCxnSpPr>
        <p:spPr>
          <a:xfrm>
            <a:off x="7214760" y="1714320"/>
            <a:ext cx="1080" cy="1867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1" name="Gerade Verbindung mit Pfeil 46"/>
          <p:cNvCxnSpPr/>
          <p:nvPr/>
        </p:nvCxnSpPr>
        <p:spPr>
          <a:xfrm flipV="1">
            <a:off x="7357680" y="1713960"/>
            <a:ext cx="1080" cy="1867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2" name="Textfeld 54"/>
          <p:cNvSpPr/>
          <p:nvPr/>
        </p:nvSpPr>
        <p:spPr>
          <a:xfrm>
            <a:off x="6143760" y="2487600"/>
            <a:ext cx="150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feld 56"/>
          <p:cNvSpPr/>
          <p:nvPr/>
        </p:nvSpPr>
        <p:spPr>
          <a:xfrm>
            <a:off x="7500960" y="2071800"/>
            <a:ext cx="1500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eview,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Gra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4" name="Gerade Verbindung mit Pfeil 61"/>
          <p:cNvCxnSpPr/>
          <p:nvPr/>
        </p:nvCxnSpPr>
        <p:spPr>
          <a:xfrm>
            <a:off x="3921120" y="1428840"/>
            <a:ext cx="2356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5" name="Gerade Verbindung mit Pfeil 90"/>
          <p:cNvCxnSpPr/>
          <p:nvPr/>
        </p:nvCxnSpPr>
        <p:spPr>
          <a:xfrm flipH="1" flipV="1">
            <a:off x="3895200" y="1428480"/>
            <a:ext cx="2286720" cy="216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36" name="Textfeld 96"/>
          <p:cNvSpPr/>
          <p:nvPr/>
        </p:nvSpPr>
        <p:spPr>
          <a:xfrm>
            <a:off x="3649680" y="1515960"/>
            <a:ext cx="291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a Transfer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2-Person-Relation!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7" name="Gerade Verbindung mit Pfeil 97"/>
          <p:cNvCxnSpPr>
            <a:stCxn id="229" idx="0"/>
            <a:endCxn id="228" idx="2"/>
          </p:cNvCxnSpPr>
          <p:nvPr/>
        </p:nvCxnSpPr>
        <p:spPr>
          <a:xfrm flipV="1">
            <a:off x="5891040" y="4714560"/>
            <a:ext cx="1681920" cy="92952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38" name="Textfeld 100"/>
          <p:cNvSpPr/>
          <p:nvPr/>
        </p:nvSpPr>
        <p:spPr>
          <a:xfrm>
            <a:off x="7072200" y="5000760"/>
            <a:ext cx="235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Pos. demands</a:t>
            </a:r>
            <a:r>
              <a:rPr b="1" lang="de-DE" sz="1200" spc="-1" strike="noStrike">
                <a:solidFill>
                  <a:srgbClr val="f5821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revok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Gerade Verbindung mit Pfeil 107"/>
          <p:cNvCxnSpPr/>
          <p:nvPr/>
        </p:nvCxnSpPr>
        <p:spPr>
          <a:xfrm>
            <a:off x="3147840" y="1714320"/>
            <a:ext cx="2996640" cy="221508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40" name="Textfeld 111"/>
          <p:cNvSpPr/>
          <p:nvPr/>
        </p:nvSpPr>
        <p:spPr>
          <a:xfrm>
            <a:off x="3798720" y="3211560"/>
            <a:ext cx="16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Deman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1" name="Gerade Verbindung mit Pfeil 112"/>
          <p:cNvCxnSpPr/>
          <p:nvPr/>
        </p:nvCxnSpPr>
        <p:spPr>
          <a:xfrm>
            <a:off x="3147480" y="1714680"/>
            <a:ext cx="1561320" cy="392976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42" name="Textfeld 114"/>
          <p:cNvSpPr/>
          <p:nvPr/>
        </p:nvSpPr>
        <p:spPr>
          <a:xfrm>
            <a:off x="4383000" y="4572000"/>
            <a:ext cx="16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Complai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nPA  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cial technical requirements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f. not free of charg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ownside: other, less secure eIDs have to be acctepted beside the nPA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5FE5042C-686C-4795-9C91-126DCA52E4AC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AD1DE0AE-E41C-4A40-8F08-DC2D3B6B95C4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E5C75FCA-7F08-4F7A-8B77-E5D505B481EE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55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257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4"/>
          <p:cNvSpPr/>
          <p:nvPr/>
        </p:nvSpPr>
        <p:spPr>
          <a:xfrm>
            <a:off x="220680" y="3860640"/>
            <a:ext cx="8461440" cy="50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al content 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sequences for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pproaches to the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estions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Grafik 18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STORK 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ateway-App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ddleware-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AS-R-D aims at Gateway-Approa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pecial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technical require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32920" indent="-2192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sadvantag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000" indent="-33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erns towards data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000" indent="-33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nly national e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000" indent="-33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BBDAAC5C-AEB4-40AF-8514-6DCB231B68D7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SkIDentity – Architecture  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6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3E560407-8BB0-4F1A-AA6D-040A7DC97C42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Grafik 4" descr=""/>
          <p:cNvPicPr/>
          <p:nvPr/>
        </p:nvPicPr>
        <p:blipFill>
          <a:blip r:embed="rId1"/>
          <a:stretch/>
        </p:blipFill>
        <p:spPr>
          <a:xfrm>
            <a:off x="611280" y="1123920"/>
            <a:ext cx="8066160" cy="519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SkIDentity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special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chnic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ut standardized interface: cloud conn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ee of charge for the service provide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A4015AB4-D78A-4CED-9CA3-5E64269732F3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3FDBF98A-E44E-4A39-AAC3-AF381BF5D424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EE8E73FB-8985-481F-9F3A-89D098564412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80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282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4"/>
          <p:cNvSpPr/>
          <p:nvPr/>
        </p:nvSpPr>
        <p:spPr>
          <a:xfrm>
            <a:off x="220680" y="4724280"/>
            <a:ext cx="8461440" cy="50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al content 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sequences for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pproaches to the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Questions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Grafik 18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49440" y="25992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Further requirements eIAS-R-D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ufficient in the sense of Art. 6 I 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nly one pos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ser involv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larification of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pecial technical requirement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relying partie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cope of application,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ack of requirements regarding data proctecion and security – Liability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raft Report of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PC on Industry, Research and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1468E534-087F-4BEE-B269-62F385949B2F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§ 21 II 1 Nr. 2 PAuswG: „geschäftsmäßige Übermittlung der Daten“ not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§ 29 I Nr. 1 PAuswV: no certificate if „der Zweck der Datenerhebung ausschließlich in der Auslesung oder Bereitstellung personenbezogener Daten aus dem Personalausweis für den Ausweisinhaber oder Dritte besteht“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equate level of confidence? BSI TR 031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D3616450-EF17-4CC5-A829-9F2F79628452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feld 4"/>
          <p:cNvSpPr/>
          <p:nvPr/>
        </p:nvSpPr>
        <p:spPr>
          <a:xfrm>
            <a:off x="3419640" y="3479760"/>
            <a:ext cx="36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Calibri"/>
                <a:ea typeface="MS PGothic"/>
              </a:rPr>
              <a:t>-------------------------------------------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Personal ID Card Law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EF56CA13-092A-4F35-9FA1-DCEC79DCD225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B0E7B58C-BCDF-4CF4-9F8F-1217247B6944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64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4"/>
          <p:cNvSpPr/>
          <p:nvPr/>
        </p:nvSpPr>
        <p:spPr>
          <a:xfrm>
            <a:off x="237960" y="119700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al content 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sequences for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pproaches to the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estions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Grafik 18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FD1A54FB-9CEC-414D-BD00-888433DDD570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4F4F1913-38FA-45BC-A94B-7E64F69D90D7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03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305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4"/>
          <p:cNvSpPr/>
          <p:nvPr/>
        </p:nvSpPr>
        <p:spPr>
          <a:xfrm>
            <a:off x="179280" y="555156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al content 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sequences for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pproaches to the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estions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Grafik 18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clusion 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AS-D-R endangeres different secure IDM-Systems and raises a lot of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specially problematic in the international context of 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t least modifications needed (e.g. Draft Report E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chnical approaches? SkIDe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pen questions of law rem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9B627EA6-2DB0-4EBC-A15F-468A3CF50C47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0F83C50E-5B0E-491E-8033-002430270FEA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</a:rPr>
              <a:t>© Copyright 2010 ecsec GmbH, 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6"/>
          <p:cNvSpPr/>
          <p:nvPr/>
        </p:nvSpPr>
        <p:spPr>
          <a:xfrm>
            <a:off x="614520" y="21621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Titelmasterformat durch Klicken bearbeite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614520" y="43340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Formatvorlage des Untertitelmasters durch Klicken bearbei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0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11" descr="prozessor-hellgrau"/>
          <p:cNvPicPr/>
          <p:nvPr/>
        </p:nvPicPr>
        <p:blipFill>
          <a:blip r:embed="rId1"/>
          <a:stretch/>
        </p:blipFill>
        <p:spPr>
          <a:xfrm>
            <a:off x="395280" y="395280"/>
            <a:ext cx="8353440" cy="598644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323" name="Rectangle 17"/>
          <p:cNvSpPr/>
          <p:nvPr/>
        </p:nvSpPr>
        <p:spPr>
          <a:xfrm>
            <a:off x="1332000" y="708120"/>
            <a:ext cx="6696000" cy="136836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4"/>
          <p:cNvSpPr/>
          <p:nvPr/>
        </p:nvSpPr>
        <p:spPr>
          <a:xfrm>
            <a:off x="3197160" y="692280"/>
            <a:ext cx="288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Thank you!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8"/>
          <p:cNvSpPr/>
          <p:nvPr/>
        </p:nvSpPr>
        <p:spPr>
          <a:xfrm>
            <a:off x="1332000" y="2205000"/>
            <a:ext cx="6696000" cy="403236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9"/>
          <p:cNvSpPr/>
          <p:nvPr/>
        </p:nvSpPr>
        <p:spPr>
          <a:xfrm>
            <a:off x="1340280" y="220500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Kontak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Grafik 16" descr=""/>
          <p:cNvPicPr/>
          <p:nvPr/>
        </p:nvPicPr>
        <p:blipFill>
          <a:blip r:embed="rId2"/>
          <a:stretch/>
        </p:blipFill>
        <p:spPr>
          <a:xfrm>
            <a:off x="1417680" y="5165640"/>
            <a:ext cx="2663640" cy="1000080"/>
          </a:xfrm>
          <a:prstGeom prst="rect">
            <a:avLst/>
          </a:prstGeom>
          <a:ln w="0">
            <a:noFill/>
          </a:ln>
        </p:spPr>
      </p:pic>
      <p:pic>
        <p:nvPicPr>
          <p:cNvPr id="328" name="Grafik 17" descr=""/>
          <p:cNvPicPr/>
          <p:nvPr/>
        </p:nvPicPr>
        <p:blipFill>
          <a:blip r:embed="rId3"/>
          <a:stretch/>
        </p:blipFill>
        <p:spPr>
          <a:xfrm>
            <a:off x="6516720" y="4976640"/>
            <a:ext cx="1440000" cy="1189080"/>
          </a:xfrm>
          <a:prstGeom prst="rect">
            <a:avLst/>
          </a:prstGeom>
          <a:ln w="0">
            <a:noFill/>
          </a:ln>
        </p:spPr>
      </p:pic>
      <p:grpSp>
        <p:nvGrpSpPr>
          <p:cNvPr id="329" name="Gruppieren 8"/>
          <p:cNvGrpSpPr/>
          <p:nvPr/>
        </p:nvGrpSpPr>
        <p:grpSpPr>
          <a:xfrm>
            <a:off x="2843280" y="2421000"/>
            <a:ext cx="3754440" cy="2484360"/>
            <a:chOff x="2843280" y="2421000"/>
            <a:chExt cx="3754440" cy="2484360"/>
          </a:xfrm>
        </p:grpSpPr>
        <p:sp>
          <p:nvSpPr>
            <p:cNvPr id="330" name="Rechteck 2"/>
            <p:cNvSpPr/>
            <p:nvPr/>
          </p:nvSpPr>
          <p:spPr>
            <a:xfrm>
              <a:off x="2843280" y="2421000"/>
              <a:ext cx="3754440" cy="2413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feld 2"/>
            <p:cNvSpPr/>
            <p:nvPr/>
          </p:nvSpPr>
          <p:spPr>
            <a:xfrm>
              <a:off x="2898000" y="3459240"/>
              <a:ext cx="1656000" cy="14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c/o Universiät Passau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300"/>
              </a:b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Innstr. 39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94032 Passau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Telefon +49 851 509 2384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stephan.saedtler@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uni-passau.d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feld 21"/>
            <p:cNvSpPr/>
            <p:nvPr/>
          </p:nvSpPr>
          <p:spPr>
            <a:xfrm>
              <a:off x="4932360" y="3674880"/>
              <a:ext cx="158436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RA Stephan Sädtler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7f7f7f"/>
                  </a:solidFill>
                  <a:latin typeface="Arial"/>
                </a:rPr>
                <a:t>Wiss. MA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3" name="Grafik 3" descr=""/>
            <p:cNvPicPr/>
            <p:nvPr/>
          </p:nvPicPr>
          <p:blipFill>
            <a:blip r:embed="rId4"/>
            <a:stretch/>
          </p:blipFill>
          <p:spPr>
            <a:xfrm>
              <a:off x="3019320" y="2673720"/>
              <a:ext cx="1660680" cy="54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Grafik 4" descr=""/>
            <p:cNvPicPr/>
            <p:nvPr/>
          </p:nvPicPr>
          <p:blipFill>
            <a:blip r:embed="rId5"/>
            <a:stretch/>
          </p:blipFill>
          <p:spPr>
            <a:xfrm>
              <a:off x="4792680" y="2717640"/>
              <a:ext cx="1579680" cy="4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Gerade Verbindung 24"/>
            <p:cNvSpPr/>
            <p:nvPr/>
          </p:nvSpPr>
          <p:spPr>
            <a:xfrm>
              <a:off x="4792680" y="3336840"/>
              <a:ext cx="0" cy="1323720"/>
            </a:xfrm>
            <a:prstGeom prst="line">
              <a:avLst/>
            </a:prstGeom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49440" y="6624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BSI: Security Guidelines for Cloud Provider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9A0587C9-5B20-4EB2-8F2E-30D81B39843A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feld 4"/>
          <p:cNvSpPr/>
          <p:nvPr/>
        </p:nvSpPr>
        <p:spPr>
          <a:xfrm>
            <a:off x="3007080" y="6226200"/>
            <a:ext cx="259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f56482"/>
                </a:solidFill>
                <a:uFillTx/>
                <a:latin typeface="Arial"/>
                <a:hlinkClick r:id="rId1"/>
              </a:rPr>
              <a:t>http://docs.ecsec.de/BSI-MSACC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"/>
          <p:cNvPicPr/>
          <p:nvPr/>
        </p:nvPicPr>
        <p:blipFill>
          <a:blip r:embed="rId2"/>
          <a:stretch/>
        </p:blipFill>
        <p:spPr>
          <a:xfrm>
            <a:off x="324000" y="1208160"/>
            <a:ext cx="3506760" cy="49989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"/>
          <p:cNvPicPr/>
          <p:nvPr/>
        </p:nvPicPr>
        <p:blipFill>
          <a:blip r:embed="rId3"/>
          <a:stretch/>
        </p:blipFill>
        <p:spPr>
          <a:xfrm>
            <a:off x="3951360" y="1846440"/>
            <a:ext cx="5079960" cy="3238200"/>
          </a:xfrm>
          <a:prstGeom prst="rect">
            <a:avLst/>
          </a:prstGeom>
          <a:ln w="0">
            <a:noFill/>
          </a:ln>
        </p:spPr>
      </p:pic>
      <p:sp>
        <p:nvSpPr>
          <p:cNvPr id="176" name="Abgerundetes Rechteck 2"/>
          <p:cNvSpPr/>
          <p:nvPr/>
        </p:nvSpPr>
        <p:spPr>
          <a:xfrm>
            <a:off x="3951360" y="2492280"/>
            <a:ext cx="5079960" cy="5050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bgerundetes Rechteck 8"/>
          <p:cNvSpPr/>
          <p:nvPr/>
        </p:nvSpPr>
        <p:spPr>
          <a:xfrm>
            <a:off x="3951360" y="4581360"/>
            <a:ext cx="5079960" cy="503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ratiction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kIDe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ridge between secure eIDs and cloud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P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lectronic health card / other smart cards /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D-Brok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AS-R-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ttack“ on the eID-infrastructure of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ides: raises a lot of questions: Scope of Application / Liability /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3B3E579B-5DB1-4A1C-90C4-333CE1293C5F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910944E7-6923-405D-A42E-D0DF7EACF0FC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EA6AD950-E89B-4895-BACD-806CAFA698D6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90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192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4"/>
          <p:cNvSpPr/>
          <p:nvPr/>
        </p:nvSpPr>
        <p:spPr>
          <a:xfrm>
            <a:off x="220680" y="206064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eneral content 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sequences for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pproaches to the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estions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Grafik 18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cceptance of Identitfication Means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rticle 5 – Mutual recognition and accept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When an electronic identification using an electronic identification means and authentification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is required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under national legislation or adminstrative practice to access a service online, any electronic identification means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issued i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nother Member State falling under a scheme included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in the list published by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the Commission pursuant to the procedure referred to in Article 7 shall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be recognised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accepted for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the purpose of accessing this service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BFE61542-57E1-4E2C-B97B-05795E45B6F9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Requirements for Notification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rticle 6 – Conditions of notification of electronic identificatio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em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1. [...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a) the electronic identification means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are issued by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on behalf of or under the responsibility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of the notifying [MS]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[...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d) the notifying [MS] ensures the availability of an authentication possibility online, at any time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free of charge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[MS] shall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impose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any specific technical requirements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on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relying parties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stablished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outside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of their territory intending  to carry out such authentication […]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521243A8-2B4E-4536-B2D5-1BFB7214E76D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49440" y="25992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Liability?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rt.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1. „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c) the notifying Member States ensures that the person identification data are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attributed unambiguously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to the natural or legal person referred to in Article 3 point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e) the notifying Member State takes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liability for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- (i) the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unambiguos attributio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of the person identification data referred to in point (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- (ii) the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authentication possibiltiy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in point (d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A325799D-CB28-4786-BDB0-870E4D71D224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Questions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ope of applic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000" indent="-33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ational e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000" indent="-33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striction to public servi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000" indent="-33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curity without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pecial technical requirement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s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ownside of the principle of mutual acceptance: Lack of data protection and security provis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iabilit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sult: Less secure, more likely to be notifi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45AAA1FB-803F-4A2F-B21C-8EDDD862FD1B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13:21:52Z</dcterms:created>
  <dc:creator>Matthias  Besch, Steffen Frischat, Heidi Bahr</dc:creator>
  <dc:description/>
  <dc:language>en-US</dc:language>
  <cp:lastModifiedBy>Stephan Sädtler</cp:lastModifiedBy>
  <cp:lastPrinted>2011-02-11T13:07:56Z</cp:lastPrinted>
  <dcterms:modified xsi:type="dcterms:W3CDTF">2013-09-11T07:09:18Z</dcterms:modified>
  <cp:revision>688</cp:revision>
  <dc:subject>Unternehmenspräsentation</dc:subject>
  <dc:title>secunet</dc:title>
</cp:coreProperties>
</file>