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4.jpeg" ContentType="image/jpeg"/>
  <Override PartName="/ppt/media/image20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6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9.jpeg" ContentType="image/jpeg"/>
  <Override PartName="/ppt/media/image24.png" ContentType="image/png"/>
  <Override PartName="/ppt/media/image11.jpeg" ContentType="image/jpeg"/>
  <Override PartName="/ppt/media/image31.png" ContentType="image/png"/>
  <Override PartName="/ppt/media/image2.png" ContentType="image/png"/>
  <Override PartName="/ppt/media/image32.png" ContentType="image/png"/>
  <Override PartName="/ppt/media/image1.jpeg" ContentType="image/jpeg"/>
  <Override PartName="/ppt/media/image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1.png" ContentType="image/png"/>
  <Override PartName="/ppt/media/image22.png" ContentType="image/png"/>
  <Override PartName="/ppt/media/image23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dt" idx="34"/>
          </p:nvPr>
        </p:nvSpPr>
        <p:spPr>
          <a:xfrm>
            <a:off x="4021200" y="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 type="ftr" idx="35"/>
          </p:nvPr>
        </p:nvSpPr>
        <p:spPr>
          <a:xfrm>
            <a:off x="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6"/>
          <p:cNvSpPr>
            <a:spLocks noGrp="1"/>
          </p:cNvSpPr>
          <p:nvPr>
            <p:ph type="sldNum" idx="36"/>
          </p:nvPr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D828F754-8ABD-44F7-811A-9B49CB6EB67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82ACE816-E424-4AC6-97A9-CF5CC068BEC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of the published ETSI documents mentioned in this presentation are available for download via the ETSI download page.  Just enter the TS number of key words from the tit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questions feel free to contact myself (standards) , or Olivier Delos (regul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 more formal statement on questions regarding the regulation contact Gerard Galler of the EU commis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59653450-9D9D-4041-BF67-2F212FA07BB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Foliennummernplatzhalt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52C714E0-8982-4ED7-9885-8C810E0C9EA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Foliennummernplatzhalt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B5C84D21-8493-4BB5-A3A7-D78092AE17A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SI has 3 main dimensions to its activiti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SI is a recognized European Standards Organization and as such can produce standards supporting European reg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SI has also become highly-respected as a producer of technical standards for worldwide use. Many ETSI standards answer global ICT marke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nally ETSI has defined testing methodologies and a testing language (TTCN). ETSI also runs interoperability test events. Those events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23652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 opportunity for companies to test their prototypes against a standard with their partners and competito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23652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hancing the quality of specifica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23652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eeding up the standardization proc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23652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ducing time to mark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23652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pporting the deployment of a technolo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F84B5DD1-F8CF-4835-B8D1-9C76A89B6D9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gnizing that the EU Directive 1999/93 on E-Signatures was getting out of date and had not achieved full EU harmonization the EU Commission has issued a new Draft reg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cope of this document is wider that the Directive covering a range of “Trust Services” required for electronic online services across Europe.  It is aimed at achieving a greater degree of harmony between EU N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draft regulation is under discussion in the council of ministers.  There is agreement with the general principles of the new regulation but significant discussion on the details is requi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hoped that a new draft may be produced under the Irish presidency by June / Ju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8D1C9227-1475-4C27-A3C5-C05BD511620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AD5ABE9E-8EC9-48CB-8006-54D765CF22C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868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317875B8-488B-413B-A152-C33130D9B58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FE54E46C-41B8-49C1-BC70-75D13F1EF6F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3795F-B5A7-45D0-A734-34685EDEBD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80927-DFD5-4C4E-AB14-747B9070C18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ECC282F-3238-40FE-A6DE-2DD0887647C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D411A5-9680-4268-999C-CE39B5F26F3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0B537B-02F1-4062-9673-96A3162D577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7CF296-191D-4D36-B437-1AC096D9DD0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443FA3-319C-4C02-A3B9-01AD6B26B26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3FE1756-F08A-4BB2-8001-C9642821AC4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C07EFF-18BA-45DC-9697-F870EF6A3F6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1EF1AE-48C6-4FCD-BA16-D387CAEEF17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07ACD6-C7D3-49C6-A63E-8B9222DDA95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254899-FE3C-4027-A19A-613B13CE90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41342-87CA-4FC5-919E-DDFD98D09E7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AE732-2EF0-4337-88A9-CD62E3714DF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AEC66-2564-4D8E-81F9-E1CA6AD5F3F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DEEDD3-672C-4DA3-AEC8-5C290774697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BC5227-3ECA-436D-AE84-673B22CBD2A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1CAC1-8F53-416E-B960-B205D9FDA88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14610-1B11-4D76-9BFD-C2D71609B0E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808F9-8EA6-4226-873B-6936427FD72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024B7-EC27-4656-ACF3-9E81DCF05D0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5CFCA2-9709-4E4C-8F08-ADFC207D6A3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887E6-5A30-4B59-A0AB-133BEC988E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3E1BB-A195-41C6-90B0-87FE2C5602E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C9081-CB8B-468A-8D74-2E475F47164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1F27E8-C1C7-4CCE-AE91-819227B9003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69973C-BF80-4BD9-A3AD-5F1437CA546E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CA4950-4BBE-46AD-BDC6-03A1D6E45395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A98C08-34F8-4745-ACC7-3A5B61E0788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E5704F-F368-4059-BA16-50C719415C5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2A1113-C4C0-40B7-90F8-C5D5AE26291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106D4B-36D0-4872-90A6-A47E4C81252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A3189E-7CC1-490E-B1D3-EDA1F8012C7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3BD370-9D13-406E-BDFD-1CA9BA5CE8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002AD1-FC7E-4862-85AB-9A2755B75EF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39849E-D657-4B59-A282-EF937BC530D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5AEA4E-872D-4241-B69C-434DEA22AD8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7A8CE65-0758-4643-B0E5-5F83CD5E2EC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96D61E9-5F8C-4EDC-ACE6-96C5AC8A708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996E93D-6E76-4AC5-8F9F-6B5CD90C1FC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35FE756-F04B-4EFE-87CC-6AED1295F37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0999DA2-D99F-4482-923A-F36131FB7B4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6790983-ABC7-40E3-A600-44D7B681237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79BE470-1459-436F-A4DD-BA969E2471B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ADC405D-5CBA-4412-B6CF-5EA7055027C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30093F2-3283-414A-B300-810A1911407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152CCB3-C128-46B3-8435-9715F054E9A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2254884-39C0-46DE-8101-BA0555AB1B1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88626C3-60CD-4354-A21D-78B24040D576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29657F-E8CC-4A88-9EFE-1069D43BB899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C2DBB1-4F5C-4E4F-B8C2-ED4F2D204E74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0AE3C1-2611-4077-B1A8-9F52BAB14D83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E60D8F-8BE2-4BC7-B9A8-F806F2C004E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748753-A988-4B12-881F-C11F3505335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332741-7BD3-46AC-A1B3-1A86D71B4A7F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29C67-8CA5-40B4-9F14-D7A18F2969D1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3ABA95-BA8B-416D-B939-EA2338A0DF2B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23BAA-72A0-4EBA-B7E5-5AAF9BEE7B6A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36E0FB-DF98-40A1-AB75-8A512CDA99B0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B34B20-D36A-42F3-96F3-1025403D6B7F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9BA679-E32D-4341-8F77-F9539D1E73A7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5A2B8B-C378-4066-AD52-C6FD5A48E7B6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92096D-B0CD-45C1-AEDE-D4FAFDCAF3FA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88E76D0-45DE-4825-AD64-691952FFA97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39BD5E-CC33-4A00-BEF2-C3BD5CFA12D2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4E30E9-0B71-47E0-89AD-5EB4EFFB287F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28F8E0-61C6-4077-A166-5405FBA04130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0530A4-CE33-4544-8D19-CE66B58A703B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6BA3A6-3CE8-4D72-93A8-6A1E3F53EF8A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279B1F-ED33-4F08-8D46-F952E7B97375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239013-6828-4DE1-AD95-29FCE4366D38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D0B86D-A39B-423F-8A2D-D28DD6F69408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2165EE-3781-4409-A0D5-B75292D296E4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3E0431-4D7A-4376-9F62-DEB88EAA37D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CCB85D-AAF9-4203-9E7C-404EE2D63EEE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85ADD6-BB06-46D1-B275-69C869A0FF77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2D0204-C27A-44D9-9D17-878153C54499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4607BA-1EEB-45D1-9ACA-4D80980082BD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E71749-1824-41B0-BB6B-567DE38D9914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3745B2-7D9F-40AF-A7AD-F726DCF07A59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34BAD2-6666-436E-B983-D7543FCCB4B4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E7D7AF-2F4B-4F4B-806E-AC9916949A54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9B214E-3DDE-4694-B7D3-C0F41B9E482F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3739B1-C085-4297-92C8-4076877E6B0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CF6D23-F3E2-4911-8CBF-31C460B329AF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14078A-3BF7-49BA-BBB2-B933AE34E45F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62F26B-13F7-4BFA-B026-CD77F26A167E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51D8A5-FC45-4885-AFEE-924D7D24C803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033BFC-4A2E-4E9C-92BC-BD85FE661631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78A508-89A1-420C-A4DE-08B0626B52A2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65AF91-0C9F-4FF6-97EB-06066363D34D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B25B53-2A05-4C68-865C-A5693CCB9D95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48E643-8349-425B-B47C-8E5F956270BA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12C0F0-6CBB-4BD1-BA11-3847C93A3F1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B1E877-59C4-4585-99AB-91022EDDA379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72FAE3-1F88-4352-8D65-7D8F1D877287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6D9B46-8A14-45A2-948B-FAEE72EFE8E8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4F0C118-71D1-4EA8-91DD-6BD9660838E2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DF06ACC-F1C3-437F-B432-69F8CF318E92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6939BA5-40D8-49DE-A9FD-A0935D019E8D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07AA9B2-EF73-4EB8-A363-F1D48B91BB75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658A5C7-5122-40C6-B8B9-AB940BAC2A31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DADB6F1-6757-476A-8BC6-DAA03AD099C1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EE724E6-4B33-4753-ADD6-D694C959B2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31D06-5BC6-41BA-90A5-2FF8E812D2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B9CD54E-EC3F-4258-BFF8-CB7BD89CE23B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B30673D-BA17-4EC5-B61E-12A8791CE91B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A198D9D-9A55-461B-ABA0-E0890D4BE214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B2E72C6-6BF0-46DD-8693-44E8DAB6BF7F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C8FA1C4-86A3-4C7C-9412-26025CBFDC4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F3D1BA-12F2-4076-BD4B-AECE338A8A6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D9300B-F631-478E-AFF1-3154CD53E9E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E1F985-766A-46D6-826A-2197F0D74FF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CF0B02-59F6-4FC5-8B96-047F491DB12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B1B898-0A37-40E4-91EC-A7C62FC07C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EC7A6-7D7F-4928-A4BA-C9BB4AB43D7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54FD28-AF36-4BB2-B9E1-29786A39D0B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9861F5-174B-4DC3-9B94-316DCD91BE9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069C7D-6E5B-4CFA-AB5E-61589E14F96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2DEDB7-AB15-45F4-8B56-873B06D47CB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BD1D6E-2094-4A05-ABA6-AB531F3CA3F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061094-D671-41BF-A41D-407970AEDD2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48DD47-E40B-4F23-A17F-F2EA7F12ED2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5578C-AB85-4C7E-9D5E-54BBBBF645A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6F1AC-7F83-4E1C-B4B4-EB333B6F6CD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B15C6-7087-4224-B138-8ACAC903AA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43920-C0F5-436F-B8FF-DADC2CE9AF1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44425-FA23-4C41-AA55-6D23BA570F7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00822-E15B-4E31-A72E-4121DE67429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61DB9-4BC7-40D3-8524-1AE55FD6D0B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E5ED5-B42D-4676-863E-18CA7C742D9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82104-DA15-4540-BB54-28A096EF1FE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75379-1E87-40BA-A897-6D881FDDDC2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5133B-B023-41CF-991F-EE0BA171B70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36BC0-A7E4-4D42-8DE5-892BAC29C4A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C3408-EFEB-4A3E-B458-C1517AD05B2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E0ECF2-E58E-45C6-B5D9-F64A517B57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CED1B-3DF5-466A-88C6-FD56E8A2BC2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297EFE-E300-4015-BFB7-96EB37571D3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391C9F-A2B6-4DE9-8644-CC4B3D5C308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E5659E-0464-4C2F-8733-494DBFA91ED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DE447F-83E2-4AE4-AEB0-8A9CDDCFFCA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777C10-FFAD-4DA8-BEE0-602D347E121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5190AC-03E8-4736-8FE6-7B7B6A592B7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F08D0C-D341-4A03-AAB1-06CEA86D1FB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F9087F-5E19-4CF0-B878-5CFA3980525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C344DA-DB22-4BDC-AB03-9CADBA1D546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77AE8D-F147-4BE7-8399-01BD801497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FE45F-A849-4349-B8A3-4F401FCFA21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B9B8CE-93BB-4E31-897F-5F8D369B723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3BC9A3-7DDB-498F-B6D4-E7E5A0758FB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CA168A-BB0B-465C-813C-9702E5B049B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8A9BC9-2DFB-43EA-AC1B-2F9DD70B8DD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029659-A136-466F-9D70-D0A510E7E39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B08590-5EF5-42EA-800A-630A4707FBA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5FC0C4-D355-472D-BA24-4177A888A51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41B701-8BE1-41C8-81BD-1B6B1DBE688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24C42E-4C3E-4476-8651-F0446997D9F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C6ABB3-2058-42C9-8A5B-4CCBEAA20D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AF698-B46F-4C10-9361-F9E3CF18E16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43032B-B29B-41D1-B114-52E308241E2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0F51F4-E1F4-4E1E-9650-C189BD1710A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75BCD3-BE26-429D-B3F7-3949DA63167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F8DC6-C759-40DE-BB6D-0131F451736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28C1F-22C3-4721-BCE8-F69F4195B62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ADD16-DE18-4DCB-B5BB-47324084178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6B4F2-1611-4918-9D95-E19A5D185A7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C196D-E702-49BA-ABE9-221662B1EAC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90101-1AF4-46AA-AA42-C2133F34624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BFCC1-7385-4C57-B4FA-0B034EAC32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5BBF0-CEDD-4816-8B23-34F2C20A1F4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67D98-D667-4348-9000-AA0EEB26ABF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BAFAA-B100-47D4-BC04-EAC765EC7CE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CA854-5CAF-4EA9-90F2-58D017174EC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56D73-D6D1-4742-9750-BD545587506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A0418-408E-4FB1-AE20-6A9F666ABE8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039394-1AC7-4C8B-B2F4-B759B692ABF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3FC01C-FA24-41C6-BA58-6C40D663F0F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4223DF-481D-4C5A-9EBA-06D350DA6C0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F25876-CF53-40C0-ABB3-FE1C424A9DA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D6EC8C-9EB0-4D58-BB97-B0B63B69A4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DFEBD-F709-469E-934B-B4B3A8DF7AD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7D6156-D50D-4D94-82C3-5B5F8F2324C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050B28-9411-497E-BF81-51D05B2F95D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C94168-A8DE-4494-9ECA-D8A093E84E9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53B4C1-2CBF-4842-8727-D2DA99E0B26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96175A-B7B7-483F-8D1D-5670AA28BD9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440C91-2222-48AA-BD9B-2E938324501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ACE788-0D35-432D-B7EB-EC9BB8AD2FA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1239E2-A287-413B-87EE-9C31933F770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E1D5784-B259-4F1E-A93D-C3247BA699A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790CA9-5454-4FB6-8F20-C8C28F94D9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2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3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5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6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7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8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9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93.xml"/><Relationship Id="rId7" Type="http://schemas.openxmlformats.org/officeDocument/2006/relationships/slideLayout" Target="../slideLayouts/slideLayout194.xml"/><Relationship Id="rId8" Type="http://schemas.openxmlformats.org/officeDocument/2006/relationships/slideLayout" Target="../slideLayouts/slideLayout195.xml"/><Relationship Id="rId9" Type="http://schemas.openxmlformats.org/officeDocument/2006/relationships/slideLayout" Target="../slideLayouts/slideLayout196.xml"/><Relationship Id="rId10" Type="http://schemas.openxmlformats.org/officeDocument/2006/relationships/slideLayout" Target="../slideLayouts/slideLayout197.xml"/><Relationship Id="rId11" Type="http://schemas.openxmlformats.org/officeDocument/2006/relationships/slideLayout" Target="../slideLayouts/slideLayout198.xml"/><Relationship Id="rId12" Type="http://schemas.openxmlformats.org/officeDocument/2006/relationships/slideLayout" Target="../slideLayouts/slideLayout199.xml"/><Relationship Id="rId13" Type="http://schemas.openxmlformats.org/officeDocument/2006/relationships/slideLayout" Target="../slideLayouts/slideLayout200.xml"/><Relationship Id="rId14" Type="http://schemas.openxmlformats.org/officeDocument/2006/relationships/slideLayout" Target="../slideLayouts/slideLayout201.xml"/><Relationship Id="rId15" Type="http://schemas.openxmlformats.org/officeDocument/2006/relationships/slideLayout" Target="../slideLayouts/slideLayout202.xml"/><Relationship Id="rId16" Type="http://schemas.openxmlformats.org/officeDocument/2006/relationships/slideLayout" Target="../slideLayouts/slideLayout203.xml"/><Relationship Id="rId17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6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7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8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9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0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A1036-E80F-4B39-8107-B6249754796C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E:\DATEN\Nimbus_allgemein\logo_NImbus\Bildschirm\100dpiRGB\Nimbus1-100dpiRGB.jpg"/>
          <p:cNvPicPr/>
          <p:nvPr/>
        </p:nvPicPr>
        <p:blipFill>
          <a:blip r:embed="rId4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387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sldNum" idx="18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FB0FA-CBD4-4C3B-BE15-0D50B779E6C2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19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430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sldNum" idx="20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13897-5942-4E98-8F2D-23CA73358616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1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473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sldNum" idx="22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74C52-4DCC-4407-90A9-659D2B3C33BC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23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516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sldNum" idx="24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E170B-5484-458B-B326-5CE96C720650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25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559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sldNum" idx="26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81BE9-3D2F-42E9-B48E-2AA29488F8C2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27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602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 type="sldNum" idx="28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D7A58-5AB2-4487-99F6-53A1982694BE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 type="ftr" idx="29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645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sldNum" idx="30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8B82E-EFFB-4390-B076-870054D1BFA9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31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688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 type="sldNum" idx="32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7DF3E-AB27-4F02-820D-8959178D2FE0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 type="ftr" idx="33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6"/>
    <p:sldLayoutId id="2147483858" r:id="rId7"/>
    <p:sldLayoutId id="2147483859" r:id="rId8"/>
    <p:sldLayoutId id="2147483860" r:id="rId9"/>
    <p:sldLayoutId id="2147483861" r:id="rId10"/>
    <p:sldLayoutId id="2147483862" r:id="rId11"/>
    <p:sldLayoutId id="2147483863" r:id="rId12"/>
    <p:sldLayoutId id="2147483864" r:id="rId13"/>
    <p:sldLayoutId id="2147483865" r:id="rId14"/>
    <p:sldLayoutId id="2147483866" r:id="rId15"/>
    <p:sldLayoutId id="2147483867" r:id="rId16"/>
    <p:sldLayoutId id="2147483868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44" name="תמונה 6" descr="open-slide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E:\DATEN\Nimbus_allgemein\logo_NImbus\Bildschirm\100dpiRGB\Nimbus1-100dpiRGB.jpg"/>
          <p:cNvPicPr/>
          <p:nvPr/>
        </p:nvPicPr>
        <p:blipFill>
          <a:blip r:embed="rId5"/>
          <a:stretch/>
        </p:blipFill>
        <p:spPr>
          <a:xfrm>
            <a:off x="7513560" y="6213600"/>
            <a:ext cx="1514520" cy="495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4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3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5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18EB2-A8B5-44C3-BFB2-DAE3812C87E3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129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6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949B5-0A87-4365-BA03-28ED68A3798C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7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172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Num" idx="8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29580-7BAC-4C24-BD2E-B983297EDFF0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9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215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Num" idx="10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192AA-DBA0-4D34-8427-C2A332337019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1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258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sldNum" idx="12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C7B6C-1928-4138-86A8-FF089AE7FF8E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3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301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Num" idx="14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6313B-E3EF-41D2-A26B-8110DB4D872E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15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344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Num" idx="16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80807-22D9-4E30-9567-A26857E3468E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17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pda.etsi.org/pda/queryform.asp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eur-lex.europa.eu/LexUriServ/LexUriServ.do?uri=COM:2012:0238:FIN:EN:PDF" TargetMode="External"/><Relationship Id="rId5" Type="http://schemas.openxmlformats.org/officeDocument/2006/relationships/hyperlink" Target="mailto:arno.fiedler@nimbus-berlin.com" TargetMode="External"/><Relationship Id="rId6" Type="http://schemas.openxmlformats.org/officeDocument/2006/relationships/hyperlink" Target="mailto:nick.pope@thales-esecurity.com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jpeg"/><Relationship Id="rId10" Type="http://schemas.openxmlformats.org/officeDocument/2006/relationships/image" Target="../media/image29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Footer Placeholder 4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2 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716040" y="5513400"/>
            <a:ext cx="8067600" cy="58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alibri"/>
              </a:rPr>
              <a:t>EUROPEAN UNION MANDATE/460</a:t>
            </a:r>
            <a:endParaRPr b="1" lang="en-US" sz="1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715680" y="5084280"/>
            <a:ext cx="80802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95959"/>
                </a:solidFill>
                <a:latin typeface="Calibri"/>
              </a:rPr>
              <a:t>Kloster Banz 11.09.2013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742680" y="6000480"/>
            <a:ext cx="808812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7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Calibri"/>
              </a:rPr>
              <a:t>Presented by Arno Fiedler,  Member of </a:t>
            </a:r>
            <a:r>
              <a:rPr b="1" lang="en-GB" sz="1600" spc="-1" strike="noStrike">
                <a:solidFill>
                  <a:srgbClr val="595959"/>
                </a:solidFill>
                <a:latin typeface="Calibri"/>
              </a:rPr>
              <a:t>E</a:t>
            </a:r>
            <a:r>
              <a:rPr b="0" lang="en-GB" sz="1600" spc="-1" strike="noStrike">
                <a:solidFill>
                  <a:srgbClr val="595959"/>
                </a:solidFill>
                <a:latin typeface="Calibri"/>
              </a:rPr>
              <a:t>uropean </a:t>
            </a:r>
            <a:r>
              <a:rPr b="1" lang="en-GB" sz="1600" spc="-1" strike="noStrike">
                <a:solidFill>
                  <a:srgbClr val="595959"/>
                </a:solidFill>
                <a:latin typeface="Calibri"/>
              </a:rPr>
              <a:t>T</a:t>
            </a:r>
            <a:r>
              <a:rPr b="0" lang="en-GB" sz="1600" spc="-1" strike="noStrike">
                <a:solidFill>
                  <a:srgbClr val="595959"/>
                </a:solidFill>
                <a:latin typeface="Calibri"/>
              </a:rPr>
              <a:t>elecommunications </a:t>
            </a:r>
            <a:r>
              <a:rPr b="1" lang="en-GB" sz="1600" spc="-1" strike="noStrike">
                <a:solidFill>
                  <a:srgbClr val="595959"/>
                </a:solidFill>
                <a:latin typeface="Calibri"/>
              </a:rPr>
              <a:t>S</a:t>
            </a:r>
            <a:r>
              <a:rPr b="0" lang="en-GB" sz="1600" spc="-1" strike="noStrike">
                <a:solidFill>
                  <a:srgbClr val="595959"/>
                </a:solidFill>
                <a:latin typeface="Calibri"/>
              </a:rPr>
              <a:t>tandards </a:t>
            </a:r>
            <a:r>
              <a:rPr b="1" lang="en-GB" sz="1600" spc="-1" strike="noStrike">
                <a:solidFill>
                  <a:srgbClr val="595959"/>
                </a:solidFill>
                <a:latin typeface="Calibri"/>
              </a:rPr>
              <a:t>I</a:t>
            </a:r>
            <a:r>
              <a:rPr b="0" lang="en-GB" sz="1600" spc="-1" strike="noStrike">
                <a:solidFill>
                  <a:srgbClr val="595959"/>
                </a:solidFill>
                <a:latin typeface="Calibri"/>
              </a:rPr>
              <a:t>nstitute</a:t>
            </a:r>
            <a:br>
              <a:rPr sz="1600"/>
            </a:br>
            <a:r>
              <a:rPr b="0" lang="en-GB" sz="1600" spc="-1" strike="noStrike">
                <a:solidFill>
                  <a:srgbClr val="595959"/>
                </a:solidFill>
                <a:latin typeface="Calibri"/>
              </a:rPr>
              <a:t>Electronic Signatures and Infrastructures, Specialist Task Force 458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advTm="10000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5. Summary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9" name="Fußzeilenplatzhalter 2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3.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Foliennummernplatzhalter 3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E3FF9-A425-4201-828C-799428A3C2F5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hteck 5"/>
          <p:cNvSpPr/>
          <p:nvPr/>
        </p:nvSpPr>
        <p:spPr>
          <a:xfrm>
            <a:off x="392040" y="2357280"/>
            <a:ext cx="8610840" cy="35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The new draft EU-Regulation will deliver a complete legal and trust framework for 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Proactive Supervision 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on 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qualified level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”</a:t>
            </a:r>
            <a:br>
              <a:rPr sz="2400"/>
            </a:br>
            <a:r>
              <a:rPr b="0" lang="de-DE" sz="24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ETSI and CEN standards will be a fundamental part in future EU legislation (delegating acts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).</a:t>
            </a:r>
            <a:br>
              <a:rPr sz="2400"/>
            </a:b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but: </a:t>
            </a:r>
            <a:br>
              <a:rPr sz="2400"/>
            </a:br>
            <a:r>
              <a:rPr b="1" lang="ja-JP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relying parties (in Europe!) have to consume the Trust we provide</a:t>
            </a:r>
            <a:r>
              <a:rPr b="1" lang="ja-JP" sz="2400" spc="-1" strike="noStrike">
                <a:solidFill>
                  <a:srgbClr val="404040"/>
                </a:solidFill>
                <a:latin typeface="Calibri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f497d"/>
                </a:solidFill>
                <a:latin typeface="Calibri"/>
              </a:rPr>
              <a:t>Thank you !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ETSI Download :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pda.etsi.org/pda/queryform.asp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Enter keyword / title /  document number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Draft EU Regulation:</a:t>
            </a:r>
            <a:br>
              <a:rPr sz="2400"/>
            </a:br>
            <a:r>
              <a:rPr b="0" lang="en-GB" sz="1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eur-lex.europa.eu/LexUriServ/LexUriServ.do?uri=COM:2012:0238:FIN:EN:PDF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Contact: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Arno Fiedler: STF 458  </a:t>
            </a: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arno.fiedler@nimbus-berlin.com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Calibri"/>
              </a:rPr>
              <a:t>Iñigo Barreira: STF 458 </a:t>
            </a:r>
            <a:r>
              <a:rPr b="0" lang="es-ES" sz="2000" spc="-1" strike="noStrike" u="sng">
                <a:solidFill>
                  <a:srgbClr val="254061"/>
                </a:solidFill>
                <a:uFillTx/>
                <a:latin typeface="Calibri"/>
              </a:rPr>
              <a:t>i-barreira@izenpe.net</a:t>
            </a:r>
            <a:br>
              <a:rPr sz="2000"/>
            </a:b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Nick Pope: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Lead STF 458 (TSP &amp; e-Signature standards) </a:t>
            </a:r>
            <a:br>
              <a:rPr sz="2000"/>
            </a:b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nick.pope@thales-esecurity.com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4" name="Footer Placeholder 3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2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Slide Number Placeholder 4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6D925-366B-440A-B57E-6A46822FD9AC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Fußzeilenplatzhalter 1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Foliennummernplatzhalter 2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0857F-CC08-4D58-B0FA-C80813098906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Diagramm 3" descr=""/>
          <p:cNvPicPr/>
          <p:nvPr/>
        </p:nvPicPr>
        <p:blipFill>
          <a:blip r:embed="rId1"/>
          <a:stretch/>
        </p:blipFill>
        <p:spPr>
          <a:xfrm>
            <a:off x="476280" y="1359000"/>
            <a:ext cx="8028000" cy="4992480"/>
          </a:xfrm>
          <a:prstGeom prst="rect">
            <a:avLst/>
          </a:prstGeom>
          <a:ln w="0">
            <a:noFill/>
          </a:ln>
        </p:spPr>
      </p:pic>
      <p:sp>
        <p:nvSpPr>
          <p:cNvPr id="849" name="Rechteck 5"/>
          <p:cNvSpPr/>
          <p:nvPr/>
        </p:nvSpPr>
        <p:spPr>
          <a:xfrm>
            <a:off x="457200" y="212760"/>
            <a:ext cx="623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2. Assessment &amp; Certification – </a:t>
            </a:r>
            <a:br>
              <a:rPr sz="2400"/>
            </a:b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    Actual (Best) Practise for SS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Fußzeilenplatzhalter 1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Foliennummernplatzhalter 2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8FDDF-D8B9-4C5B-A8AC-F26D123675C4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2" name="Diagramm 3" descr=""/>
          <p:cNvPicPr/>
          <p:nvPr/>
        </p:nvPicPr>
        <p:blipFill>
          <a:blip r:embed="rId1"/>
          <a:stretch/>
        </p:blipFill>
        <p:spPr>
          <a:xfrm>
            <a:off x="549360" y="1359000"/>
            <a:ext cx="7924680" cy="4992480"/>
          </a:xfrm>
          <a:prstGeom prst="rect">
            <a:avLst/>
          </a:prstGeom>
          <a:ln w="0">
            <a:noFill/>
          </a:ln>
        </p:spPr>
      </p:pic>
      <p:sp>
        <p:nvSpPr>
          <p:cNvPr id="853" name="Rechteck 5"/>
          <p:cNvSpPr/>
          <p:nvPr/>
        </p:nvSpPr>
        <p:spPr>
          <a:xfrm>
            <a:off x="266760" y="185760"/>
            <a:ext cx="65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2. Assessment &amp; Certification – </a:t>
            </a:r>
            <a:br>
              <a:rPr sz="2400"/>
            </a:b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actual TSP Perspective </a:t>
            </a:r>
            <a:r>
              <a:rPr b="1" lang="en-US" sz="1600" spc="-1" strike="noStrike">
                <a:solidFill>
                  <a:srgbClr val="1f497d"/>
                </a:solidFill>
                <a:latin typeface="Arial"/>
              </a:rPr>
              <a:t>(german examp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634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1f497d"/>
                </a:solidFill>
                <a:latin typeface="Calibri"/>
              </a:rPr>
              <a:t>1. ETSI activities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1" name="Slide Number Placeholder 3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11947-CF1D-4437-A01B-0AA205851923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Text Box 13"/>
          <p:cNvGrpSpPr/>
          <p:nvPr/>
        </p:nvGrpSpPr>
        <p:grpSpPr>
          <a:xfrm>
            <a:off x="463680" y="3067200"/>
            <a:ext cx="2749320" cy="876240"/>
            <a:chOff x="463680" y="3067200"/>
            <a:chExt cx="2749320" cy="876240"/>
          </a:xfrm>
        </p:grpSpPr>
        <p:pic>
          <p:nvPicPr>
            <p:cNvPr id="743" name="Text Box 13" descr=""/>
            <p:cNvPicPr/>
            <p:nvPr/>
          </p:nvPicPr>
          <p:blipFill>
            <a:blip r:embed="rId1"/>
            <a:stretch/>
          </p:blipFill>
          <p:spPr>
            <a:xfrm>
              <a:off x="463680" y="3067200"/>
              <a:ext cx="2749320" cy="87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4" name=""/>
            <p:cNvSpPr/>
            <p:nvPr/>
          </p:nvSpPr>
          <p:spPr>
            <a:xfrm>
              <a:off x="538200" y="3129120"/>
              <a:ext cx="2552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Standards in support of EU regul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5" name="AutoShape 7"/>
          <p:cNvGrpSpPr/>
          <p:nvPr/>
        </p:nvGrpSpPr>
        <p:grpSpPr>
          <a:xfrm>
            <a:off x="2925720" y="2414520"/>
            <a:ext cx="1079640" cy="822240"/>
            <a:chOff x="2925720" y="2414520"/>
            <a:chExt cx="1079640" cy="822240"/>
          </a:xfrm>
        </p:grpSpPr>
        <p:pic>
          <p:nvPicPr>
            <p:cNvPr id="746" name="AutoShape 7" descr=""/>
            <p:cNvPicPr/>
            <p:nvPr/>
          </p:nvPicPr>
          <p:blipFill>
            <a:blip r:embed="rId2"/>
            <a:stretch/>
          </p:blipFill>
          <p:spPr>
            <a:xfrm>
              <a:off x="2925720" y="2414520"/>
              <a:ext cx="107964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7" name=""/>
            <p:cNvSpPr/>
            <p:nvPr/>
          </p:nvSpPr>
          <p:spPr>
            <a:xfrm rot="12693600">
              <a:off x="3025440" y="2805840"/>
              <a:ext cx="965160" cy="9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8" name="Picture 5" descr="MPj03994060000[1]"/>
          <p:cNvPicPr/>
          <p:nvPr/>
        </p:nvPicPr>
        <p:blipFill>
          <a:blip r:embed="rId3"/>
          <a:stretch/>
        </p:blipFill>
        <p:spPr>
          <a:xfrm>
            <a:off x="914400" y="1725480"/>
            <a:ext cx="1762200" cy="138276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34" descr="Globe-for-Web.jpg Shipping Worldewide image by Darmon9"/>
          <p:cNvPicPr/>
          <p:nvPr/>
        </p:nvPicPr>
        <p:blipFill>
          <a:blip r:embed="rId4"/>
          <a:stretch/>
        </p:blipFill>
        <p:spPr>
          <a:xfrm>
            <a:off x="6499080" y="1704960"/>
            <a:ext cx="1622520" cy="1565280"/>
          </a:xfrm>
          <a:prstGeom prst="rect">
            <a:avLst/>
          </a:prstGeom>
          <a:ln w="0">
            <a:noFill/>
          </a:ln>
        </p:spPr>
      </p:pic>
      <p:grpSp>
        <p:nvGrpSpPr>
          <p:cNvPr id="750" name="Text Box 15"/>
          <p:cNvGrpSpPr/>
          <p:nvPr/>
        </p:nvGrpSpPr>
        <p:grpSpPr>
          <a:xfrm>
            <a:off x="3529080" y="5114880"/>
            <a:ext cx="2262240" cy="871560"/>
            <a:chOff x="3529080" y="5114880"/>
            <a:chExt cx="2262240" cy="871560"/>
          </a:xfrm>
        </p:grpSpPr>
        <p:pic>
          <p:nvPicPr>
            <p:cNvPr id="751" name="Text Box 15" descr=""/>
            <p:cNvPicPr/>
            <p:nvPr/>
          </p:nvPicPr>
          <p:blipFill>
            <a:blip r:embed="rId5"/>
            <a:stretch/>
          </p:blipFill>
          <p:spPr>
            <a:xfrm>
              <a:off x="3529080" y="5114880"/>
              <a:ext cx="22622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2" name=""/>
            <p:cNvSpPr/>
            <p:nvPr/>
          </p:nvSpPr>
          <p:spPr>
            <a:xfrm>
              <a:off x="3584520" y="5173560"/>
              <a:ext cx="215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Interoperabilit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Text Box 12"/>
          <p:cNvGrpSpPr/>
          <p:nvPr/>
        </p:nvGrpSpPr>
        <p:grpSpPr>
          <a:xfrm>
            <a:off x="6076800" y="3139920"/>
            <a:ext cx="2451240" cy="871560"/>
            <a:chOff x="6076800" y="3139920"/>
            <a:chExt cx="2451240" cy="871560"/>
          </a:xfrm>
        </p:grpSpPr>
        <p:pic>
          <p:nvPicPr>
            <p:cNvPr id="754" name="Text Box 12" descr=""/>
            <p:cNvPicPr/>
            <p:nvPr/>
          </p:nvPicPr>
          <p:blipFill>
            <a:blip r:embed="rId6"/>
            <a:stretch/>
          </p:blipFill>
          <p:spPr>
            <a:xfrm>
              <a:off x="6076800" y="3139920"/>
              <a:ext cx="24512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5" name=""/>
            <p:cNvSpPr/>
            <p:nvPr/>
          </p:nvSpPr>
          <p:spPr>
            <a:xfrm>
              <a:off x="6149880" y="3200400"/>
              <a:ext cx="2308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Standards for global ICT marke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6" name="AutoShape 7"/>
          <p:cNvGrpSpPr/>
          <p:nvPr/>
        </p:nvGrpSpPr>
        <p:grpSpPr>
          <a:xfrm>
            <a:off x="4492800" y="4065480"/>
            <a:ext cx="347400" cy="1067040"/>
            <a:chOff x="4492800" y="4065480"/>
            <a:chExt cx="347400" cy="1067040"/>
          </a:xfrm>
        </p:grpSpPr>
        <p:pic>
          <p:nvPicPr>
            <p:cNvPr id="757" name="AutoShape 7" descr=""/>
            <p:cNvPicPr/>
            <p:nvPr/>
          </p:nvPicPr>
          <p:blipFill>
            <a:blip r:embed="rId7"/>
            <a:stretch/>
          </p:blipFill>
          <p:spPr>
            <a:xfrm>
              <a:off x="4492800" y="4065480"/>
              <a:ext cx="34740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8" name=""/>
            <p:cNvSpPr/>
            <p:nvPr/>
          </p:nvSpPr>
          <p:spPr>
            <a:xfrm rot="5400000">
              <a:off x="4234320" y="4484160"/>
              <a:ext cx="863640" cy="8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AutoShape 7"/>
          <p:cNvGrpSpPr/>
          <p:nvPr/>
        </p:nvGrpSpPr>
        <p:grpSpPr>
          <a:xfrm>
            <a:off x="5450040" y="2414520"/>
            <a:ext cx="1090440" cy="798480"/>
            <a:chOff x="5450040" y="2414520"/>
            <a:chExt cx="1090440" cy="798480"/>
          </a:xfrm>
        </p:grpSpPr>
        <p:pic>
          <p:nvPicPr>
            <p:cNvPr id="760" name="AutoShape 7" descr=""/>
            <p:cNvPicPr/>
            <p:nvPr/>
          </p:nvPicPr>
          <p:blipFill>
            <a:blip r:embed="rId8"/>
            <a:stretch/>
          </p:blipFill>
          <p:spPr>
            <a:xfrm>
              <a:off x="5450040" y="2414520"/>
              <a:ext cx="109044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1" name=""/>
            <p:cNvSpPr/>
            <p:nvPr/>
          </p:nvSpPr>
          <p:spPr>
            <a:xfrm rot="19785600">
              <a:off x="5467320" y="2792520"/>
              <a:ext cx="96516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2" name="Picture 14" descr="PLUGTESTS.jpg"/>
          <p:cNvPicPr/>
          <p:nvPr/>
        </p:nvPicPr>
        <p:blipFill>
          <a:blip r:embed="rId9"/>
          <a:stretch/>
        </p:blipFill>
        <p:spPr>
          <a:xfrm>
            <a:off x="3629160" y="5854680"/>
            <a:ext cx="2033280" cy="56520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13" descr="ETSI Logo_S_Office1.jpg"/>
          <p:cNvPicPr/>
          <p:nvPr/>
        </p:nvPicPr>
        <p:blipFill>
          <a:blip r:embed="rId10"/>
          <a:stretch/>
        </p:blipFill>
        <p:spPr>
          <a:xfrm>
            <a:off x="3340080" y="3159000"/>
            <a:ext cx="2625840" cy="846360"/>
          </a:xfrm>
          <a:prstGeom prst="rect">
            <a:avLst/>
          </a:prstGeom>
          <a:ln w="0">
            <a:noFill/>
          </a:ln>
        </p:spPr>
      </p:pic>
      <p:sp>
        <p:nvSpPr>
          <p:cNvPr id="764" name="מציין מיקום של כותרת תחתונה 4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eb4e3"/>
                </a:solidFill>
                <a:latin typeface="Arial"/>
              </a:rPr>
              <a:t>© ETSI 2012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hteck 1"/>
          <p:cNvSpPr/>
          <p:nvPr/>
        </p:nvSpPr>
        <p:spPr>
          <a:xfrm>
            <a:off x="2838600" y="1573200"/>
            <a:ext cx="38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SM, DECT, TETRA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GPP: UMTS, LTE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I:TSL, XAdES, PAdES, 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276120" y="0"/>
            <a:ext cx="8229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1. ETSI Electronic Signatures </a:t>
            </a:r>
            <a:br>
              <a:rPr sz="2800"/>
            </a:b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and Infrastructures (ESI) TC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114480" y="1402920"/>
            <a:ext cx="885816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nce 2000 ETSI/ESI plays a key role in the development of electronic signature related standards: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Signature formats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: XAdES (TS 101 903) -&gt;ISO, CAdES (TS 101 733) -&gt;ISO, PAdES (TS 102 778) -&gt;ISO and ASiC (TS 102 918) and related profil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rust Service Provider (TSP) Status Information (TSL, TS 102 231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Policy requirements for CAs: TS 102 042, TS 101 456 (</a:t>
            </a: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Qual. Cert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.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SA policy requirements: TS 102 023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Certificate profiles: TS 101 862 (Qual. Cert.), TS 102 280 (Nat. Persons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Registered Electronic Mail 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(eDelivery): TS 102 640 (multipart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Data preservation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: TS 101 533-1, TR 101 533-2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Algo paper: TS 102 176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ollaborates with ETSI CTI, Centre for Testing and Interoperability for Plugtests event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LOI with CA/B-Forum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99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8" name="Segnaposto numero diapositiva 4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FA379-2597-45D2-8691-75D7E37C0B64}" type="slidenum">
              <a:rPr b="0" lang="it-IT" sz="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9" name="Group 33"/>
          <p:cNvGrpSpPr/>
          <p:nvPr/>
        </p:nvGrpSpPr>
        <p:grpSpPr>
          <a:xfrm>
            <a:off x="552600" y="3929040"/>
            <a:ext cx="8108640" cy="2305080"/>
            <a:chOff x="552600" y="3929040"/>
            <a:chExt cx="8108640" cy="2305080"/>
          </a:xfrm>
        </p:grpSpPr>
        <p:sp>
          <p:nvSpPr>
            <p:cNvPr id="770" name="Rounded Rectangle 24"/>
            <p:cNvSpPr/>
            <p:nvPr/>
          </p:nvSpPr>
          <p:spPr>
            <a:xfrm>
              <a:off x="552600" y="3929040"/>
              <a:ext cx="8108640" cy="2305080"/>
            </a:xfrm>
            <a:prstGeom prst="roundRect">
              <a:avLst>
                <a:gd name="adj" fmla="val 16667"/>
              </a:avLst>
            </a:prstGeom>
            <a:solidFill>
              <a:srgbClr val="f2f2f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1" name="Group 31"/>
            <p:cNvGrpSpPr/>
            <p:nvPr/>
          </p:nvGrpSpPr>
          <p:grpSpPr>
            <a:xfrm>
              <a:off x="2443320" y="4036680"/>
              <a:ext cx="4298040" cy="649800"/>
              <a:chOff x="2443320" y="4036680"/>
              <a:chExt cx="4298040" cy="649800"/>
            </a:xfrm>
          </p:grpSpPr>
          <p:sp>
            <p:nvSpPr>
              <p:cNvPr id="772" name="Rectangle 98"/>
              <p:cNvSpPr/>
              <p:nvPr/>
            </p:nvSpPr>
            <p:spPr>
              <a:xfrm>
                <a:off x="2579400" y="4036680"/>
                <a:ext cx="41198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d0d0d"/>
                    </a:solidFill>
                    <a:latin typeface="Arial"/>
                    <a:ea typeface="Arial"/>
                  </a:rPr>
                  <a:t>Consistency &amp; formal (efficient) mappin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3" name="Group 19"/>
              <p:cNvGrpSpPr/>
              <p:nvPr/>
            </p:nvGrpSpPr>
            <p:grpSpPr>
              <a:xfrm>
                <a:off x="2443320" y="4272840"/>
                <a:ext cx="4298040" cy="413640"/>
                <a:chOff x="2443320" y="4272840"/>
                <a:chExt cx="4298040" cy="413640"/>
              </a:xfrm>
            </p:grpSpPr>
            <p:sp>
              <p:nvSpPr>
                <p:cNvPr id="774" name="Left-Right Arrow 28"/>
                <p:cNvSpPr/>
                <p:nvPr/>
              </p:nvSpPr>
              <p:spPr>
                <a:xfrm rot="18837600">
                  <a:off x="2438640" y="4399200"/>
                  <a:ext cx="412920" cy="163440"/>
                </a:xfrm>
                <a:prstGeom prst="leftRightArrow">
                  <a:avLst>
                    <a:gd name="adj1" fmla="val 50000"/>
                    <a:gd name="adj2" fmla="val 35089"/>
                  </a:avLst>
                </a:prstGeom>
                <a:solidFill>
                  <a:srgbClr val="92d050"/>
                </a:solidFill>
                <a:ln w="28440">
                  <a:solidFill>
                    <a:srgbClr val="7f7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Left-Right Arrow 29"/>
                <p:cNvSpPr/>
                <p:nvPr/>
              </p:nvSpPr>
              <p:spPr>
                <a:xfrm flipH="1" rot="2762400">
                  <a:off x="6332400" y="4396320"/>
                  <a:ext cx="412920" cy="163800"/>
                </a:xfrm>
                <a:prstGeom prst="leftRightArrow">
                  <a:avLst>
                    <a:gd name="adj1" fmla="val 50000"/>
                    <a:gd name="adj2" fmla="val 35012"/>
                  </a:avLst>
                </a:prstGeom>
                <a:solidFill>
                  <a:srgbClr val="92d050"/>
                </a:solidFill>
                <a:ln w="28440">
                  <a:solidFill>
                    <a:srgbClr val="7f7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Left-Right Arrow 30"/>
                <p:cNvSpPr/>
                <p:nvPr/>
              </p:nvSpPr>
              <p:spPr>
                <a:xfrm rot="16200000">
                  <a:off x="4376160" y="4412520"/>
                  <a:ext cx="299880" cy="163440"/>
                </a:xfrm>
                <a:prstGeom prst="leftRightArrow">
                  <a:avLst>
                    <a:gd name="adj1" fmla="val 50000"/>
                    <a:gd name="adj2" fmla="val 35048"/>
                  </a:avLst>
                </a:prstGeom>
                <a:solidFill>
                  <a:srgbClr val="92d050"/>
                </a:solidFill>
                <a:ln w="28440">
                  <a:solidFill>
                    <a:srgbClr val="7f7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77" name="Rectangle 3"/>
          <p:cNvSpPr/>
          <p:nvPr/>
        </p:nvSpPr>
        <p:spPr>
          <a:xfrm>
            <a:off x="0" y="1246320"/>
            <a:ext cx="896472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Realizations, consistency and mapping of efficient Legal, Technical, Trust and Promotional frameworks are key success factors to convince market &amp; business stakeholders of the possible ROI of eSignatures securing their eProc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8" name="Group 20"/>
          <p:cNvGrpSpPr/>
          <p:nvPr/>
        </p:nvGrpSpPr>
        <p:grpSpPr>
          <a:xfrm>
            <a:off x="2786040" y="4722840"/>
            <a:ext cx="3600360" cy="1511280"/>
            <a:chOff x="2786040" y="4722840"/>
            <a:chExt cx="3600360" cy="1511280"/>
          </a:xfrm>
        </p:grpSpPr>
        <p:sp>
          <p:nvSpPr>
            <p:cNvPr id="779" name="Rounded Rectangle 6"/>
            <p:cNvSpPr/>
            <p:nvPr/>
          </p:nvSpPr>
          <p:spPr>
            <a:xfrm>
              <a:off x="2786040" y="4722840"/>
              <a:ext cx="3600360" cy="1511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Rectangle 98"/>
            <p:cNvSpPr/>
            <p:nvPr/>
          </p:nvSpPr>
          <p:spPr>
            <a:xfrm>
              <a:off x="2912760" y="4794120"/>
              <a:ext cx="3373560" cy="13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Sound </a:t>
              </a:r>
              <a:r>
                <a:rPr b="1" i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Standardization</a:t>
              </a:r>
              <a:r>
                <a:rPr b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 Framewor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Covering whole range of ES prod / serv., ES types and types of CSP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Business practice driv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Appropriate guid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International dimen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1" name="Rectangle 98"/>
          <p:cNvSpPr/>
          <p:nvPr/>
        </p:nvSpPr>
        <p:spPr>
          <a:xfrm>
            <a:off x="2739960" y="2333520"/>
            <a:ext cx="3714840" cy="73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b050"/>
                </a:solidFill>
                <a:latin typeface="Arial"/>
              </a:rPr>
              <a:t>Sound CSPs &amp;Trust Services Provisioning market for interoperable and cross-border use eSign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2" name="Group 22"/>
          <p:cNvGrpSpPr/>
          <p:nvPr/>
        </p:nvGrpSpPr>
        <p:grpSpPr>
          <a:xfrm>
            <a:off x="6500880" y="4722840"/>
            <a:ext cx="2359080" cy="1511280"/>
            <a:chOff x="6500880" y="4722840"/>
            <a:chExt cx="2359080" cy="1511280"/>
          </a:xfrm>
        </p:grpSpPr>
        <p:sp>
          <p:nvSpPr>
            <p:cNvPr id="783" name="Rounded Rectangle 10"/>
            <p:cNvSpPr/>
            <p:nvPr/>
          </p:nvSpPr>
          <p:spPr>
            <a:xfrm>
              <a:off x="6500880" y="4722840"/>
              <a:ext cx="2359080" cy="1511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98"/>
            <p:cNvSpPr/>
            <p:nvPr/>
          </p:nvSpPr>
          <p:spPr>
            <a:xfrm>
              <a:off x="6659640" y="4786200"/>
              <a:ext cx="2001960" cy="138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Sound </a:t>
              </a:r>
              <a:r>
                <a:rPr b="1" i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Trust</a:t>
              </a:r>
              <a:r>
                <a:rPr b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 Framewor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Supervision of CSP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Voluntary accreditatio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Trust Status Lis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Application labell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5" name="Rectangle 2"/>
          <p:cNvSpPr/>
          <p:nvPr/>
        </p:nvSpPr>
        <p:spPr>
          <a:xfrm>
            <a:off x="357120" y="81000"/>
            <a:ext cx="777240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2. Crobies Study in 2010: </a:t>
            </a:r>
            <a:br>
              <a:rPr sz="2800"/>
            </a:b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Key success factors for eSignat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Group 32"/>
          <p:cNvGrpSpPr/>
          <p:nvPr/>
        </p:nvGrpSpPr>
        <p:grpSpPr>
          <a:xfrm>
            <a:off x="3535200" y="3137040"/>
            <a:ext cx="1965600" cy="755640"/>
            <a:chOff x="3535200" y="3137040"/>
            <a:chExt cx="1965600" cy="755640"/>
          </a:xfrm>
        </p:grpSpPr>
        <p:sp>
          <p:nvSpPr>
            <p:cNvPr id="787" name="Down Arrow 25"/>
            <p:cNvSpPr/>
            <p:nvPr/>
          </p:nvSpPr>
          <p:spPr>
            <a:xfrm flipV="1">
              <a:off x="4392720" y="3137040"/>
              <a:ext cx="179280" cy="720720"/>
            </a:xfrm>
            <a:prstGeom prst="downArrow">
              <a:avLst>
                <a:gd name="adj1" fmla="val 50000"/>
                <a:gd name="adj2" fmla="val 50028"/>
              </a:avLst>
            </a:prstGeom>
            <a:solidFill>
              <a:srgbClr val="92d050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Rectangle 98"/>
            <p:cNvSpPr/>
            <p:nvPr/>
          </p:nvSpPr>
          <p:spPr>
            <a:xfrm>
              <a:off x="3535200" y="3344760"/>
              <a:ext cx="196560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Promo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9" name="Group 19"/>
          <p:cNvGrpSpPr/>
          <p:nvPr/>
        </p:nvGrpSpPr>
        <p:grpSpPr>
          <a:xfrm>
            <a:off x="285840" y="4721400"/>
            <a:ext cx="2340000" cy="1511280"/>
            <a:chOff x="285840" y="4721400"/>
            <a:chExt cx="2340000" cy="1511280"/>
          </a:xfrm>
        </p:grpSpPr>
        <p:sp>
          <p:nvSpPr>
            <p:cNvPr id="790" name="Rounded Rectangle 22"/>
            <p:cNvSpPr/>
            <p:nvPr/>
          </p:nvSpPr>
          <p:spPr>
            <a:xfrm>
              <a:off x="285840" y="4721400"/>
              <a:ext cx="2340000" cy="1511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Rectangle 98"/>
            <p:cNvSpPr/>
            <p:nvPr/>
          </p:nvSpPr>
          <p:spPr>
            <a:xfrm>
              <a:off x="357120" y="4765680"/>
              <a:ext cx="2203560" cy="14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Sound </a:t>
              </a:r>
              <a:r>
                <a:rPr b="1" i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Legal </a:t>
              </a:r>
              <a:r>
                <a:rPr b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Framewor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Different level of 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Range of ES prod/serv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Different types of CSP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International dimen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10000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3.1 New approach for legal framework: </a:t>
            </a:r>
            <a:br>
              <a:rPr sz="2800"/>
            </a:b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Draft EU EIDAS- Regulation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3" name="Footer Placeholder 2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2.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Slide Number Placeholder 3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91F71-B90E-4668-8EEB-059D13C462BA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6840" y="1272960"/>
            <a:ext cx="853596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June 2012 – EU Commission publish </a:t>
            </a:r>
            <a:r>
              <a:rPr b="0" lang="en-GB" sz="2400" spc="-1" strike="noStrike" u="sng">
                <a:solidFill>
                  <a:srgbClr val="404040"/>
                </a:solidFill>
                <a:uFillTx/>
                <a:latin typeface="Calibri"/>
              </a:rPr>
              <a:t>first draft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 regulation </a:t>
            </a:r>
            <a:br>
              <a:rPr sz="2400"/>
            </a:br>
            <a:r>
              <a:rPr b="1" lang="ja-JP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on electronic identification and trust services for electronic transactions in the internal market</a:t>
            </a:r>
            <a:r>
              <a:rPr b="1" lang="ja-JP" sz="2400" spc="-1" strike="noStrike">
                <a:solidFill>
                  <a:srgbClr val="404040"/>
                </a:solidFill>
                <a:latin typeface="Calibri"/>
              </a:rPr>
              <a:t>”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Added 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Mutual recognition of electronic identification [E-ID]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Extended Supervision of 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Certification Service Providers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”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 </a:t>
            </a:r>
            <a:br>
              <a:rPr sz="2400"/>
            </a:b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to 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Trust Service Providers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”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, includes 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proactive supervision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”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Qualified Electronic trust services: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Electronic signatures interoperability and usability,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Electronic seals interoperability and usability,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ime stamping,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Electronic delivery service,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Electronic documents admissibility,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Website authentication.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advTm="10000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276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1f497d"/>
                </a:solidFill>
                <a:latin typeface="Calibri"/>
              </a:rPr>
              <a:t>3.2 Standards Framework I:</a:t>
            </a:r>
            <a:br>
              <a:rPr sz="2800"/>
            </a:br>
            <a:r>
              <a:rPr b="1" lang="fr-BE" sz="2800" spc="-1" strike="noStrike">
                <a:solidFill>
                  <a:srgbClr val="1f497d"/>
                </a:solidFill>
                <a:latin typeface="Calibri"/>
              </a:rPr>
              <a:t>M460 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European</a:t>
            </a:r>
            <a:r>
              <a:rPr b="1" lang="fr-BE" sz="2800" spc="-1" strike="noStrike">
                <a:solidFill>
                  <a:srgbClr val="1f497d"/>
                </a:solidFill>
                <a:latin typeface="Calibri"/>
              </a:rPr>
              <a:t> Commission mandate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361800" y="164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EC founded eSignatures standardization activitie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22200" indent="-322200">
              <a:spcBef>
                <a:spcPts val="601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4 years: 2011-2015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22200" indent="-322200">
              <a:spcBef>
                <a:spcPts val="601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1st phase (executed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698400" indent="-322200">
              <a:spcBef>
                <a:spcPts val="499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definition of a rationalized standardization framework, in collaboration with CE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98400" indent="-322200">
              <a:spcBef>
                <a:spcPts val="499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ral specifications upgrades primarily aimed at providing quick technical fixes to existing electronic signatures standards, and definition of test specification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22200" indent="-322200">
              <a:spcBef>
                <a:spcPts val="601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2nd phase (now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698400" indent="-322200">
              <a:spcBef>
                <a:spcPts val="499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implement the rationalized standardization framework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98400" indent="-322200">
              <a:spcBef>
                <a:spcPts val="499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support the new EU Regulation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on electronic identification and trust services for electronic transactions in the internal market (exp. approval in 2014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8" name="Foliennummernplatzhalter 3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6022F-4529-494D-9DF0-A792A96FE5ED}" type="slidenum">
              <a:rPr b="0" lang="en-GB" sz="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1f497d"/>
                </a:solidFill>
                <a:latin typeface="Calibri"/>
              </a:rPr>
              <a:t>3.2 Standards Framework II</a:t>
            </a:r>
            <a:br>
              <a:rPr sz="2800"/>
            </a:br>
            <a:r>
              <a:rPr b="1" lang="de-AT" sz="2800" spc="-1" strike="noStrike">
                <a:solidFill>
                  <a:srgbClr val="1f497d"/>
                </a:solidFill>
                <a:latin typeface="Calibri"/>
              </a:rPr>
              <a:t>Mandate/460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grpSp>
        <p:nvGrpSpPr>
          <p:cNvPr id="800" name="Group 41"/>
          <p:cNvGrpSpPr/>
          <p:nvPr/>
        </p:nvGrpSpPr>
        <p:grpSpPr>
          <a:xfrm>
            <a:off x="2354400" y="3814920"/>
            <a:ext cx="4363920" cy="1357200"/>
            <a:chOff x="2354400" y="3814920"/>
            <a:chExt cx="4363920" cy="1357200"/>
          </a:xfrm>
        </p:grpSpPr>
        <p:sp>
          <p:nvSpPr>
            <p:cNvPr id="801" name="Rectangle 5"/>
            <p:cNvSpPr/>
            <p:nvPr/>
          </p:nvSpPr>
          <p:spPr>
            <a:xfrm>
              <a:off x="2354400" y="3814920"/>
              <a:ext cx="4363920" cy="13572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TextBox 7"/>
            <p:cNvSpPr/>
            <p:nvPr/>
          </p:nvSpPr>
          <p:spPr>
            <a:xfrm>
              <a:off x="2782800" y="4243320"/>
              <a:ext cx="3570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Signature Cre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&amp; Valid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34"/>
            <p:cNvSpPr/>
            <p:nvPr/>
          </p:nvSpPr>
          <p:spPr>
            <a:xfrm>
              <a:off x="4367160" y="3905280"/>
              <a:ext cx="287280" cy="287280"/>
            </a:xfrm>
            <a:prstGeom prst="ellipse">
              <a:avLst/>
            </a:prstGeom>
            <a:solidFill>
              <a:srgbClr val="f2f2f2"/>
            </a:solidFill>
            <a:ln w="9360">
              <a:solidFill>
                <a:srgbClr val="d9d9d9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c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4" name="Group 42"/>
          <p:cNvGrpSpPr/>
          <p:nvPr/>
        </p:nvGrpSpPr>
        <p:grpSpPr>
          <a:xfrm>
            <a:off x="2155680" y="5386320"/>
            <a:ext cx="2198880" cy="642960"/>
            <a:chOff x="2155680" y="5386320"/>
            <a:chExt cx="2198880" cy="642960"/>
          </a:xfrm>
        </p:grpSpPr>
        <p:sp>
          <p:nvSpPr>
            <p:cNvPr id="805" name="Rectangle 9"/>
            <p:cNvSpPr/>
            <p:nvPr/>
          </p:nvSpPr>
          <p:spPr>
            <a:xfrm>
              <a:off x="2350800" y="5386320"/>
              <a:ext cx="2003760" cy="6429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TextBox 11"/>
            <p:cNvSpPr/>
            <p:nvPr/>
          </p:nvSpPr>
          <p:spPr>
            <a:xfrm>
              <a:off x="2155680" y="5386320"/>
              <a:ext cx="216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Signatur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Creation Devi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35"/>
            <p:cNvSpPr/>
            <p:nvPr/>
          </p:nvSpPr>
          <p:spPr>
            <a:xfrm>
              <a:off x="4003920" y="5441760"/>
              <a:ext cx="287280" cy="287280"/>
            </a:xfrm>
            <a:prstGeom prst="ellipse">
              <a:avLst/>
            </a:prstGeom>
            <a:solidFill>
              <a:srgbClr val="f2f2f2"/>
            </a:solidFill>
            <a:ln w="9360">
              <a:solidFill>
                <a:srgbClr val="d9d9d9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c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" name="Group 43"/>
          <p:cNvGrpSpPr/>
          <p:nvPr/>
        </p:nvGrpSpPr>
        <p:grpSpPr>
          <a:xfrm>
            <a:off x="4716360" y="5415120"/>
            <a:ext cx="2156040" cy="642960"/>
            <a:chOff x="4716360" y="5415120"/>
            <a:chExt cx="2156040" cy="642960"/>
          </a:xfrm>
        </p:grpSpPr>
        <p:sp>
          <p:nvSpPr>
            <p:cNvPr id="809" name="Rectangle 13"/>
            <p:cNvSpPr/>
            <p:nvPr/>
          </p:nvSpPr>
          <p:spPr>
            <a:xfrm>
              <a:off x="4716360" y="5415120"/>
              <a:ext cx="2002320" cy="6429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TextBox 12"/>
            <p:cNvSpPr/>
            <p:nvPr/>
          </p:nvSpPr>
          <p:spPr>
            <a:xfrm>
              <a:off x="4881960" y="5415120"/>
              <a:ext cx="1990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Cryptographic Sui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36"/>
            <p:cNvSpPr/>
            <p:nvPr/>
          </p:nvSpPr>
          <p:spPr>
            <a:xfrm>
              <a:off x="4790880" y="5470560"/>
              <a:ext cx="288720" cy="287280"/>
            </a:xfrm>
            <a:prstGeom prst="ellipse">
              <a:avLst/>
            </a:prstGeom>
            <a:solidFill>
              <a:srgbClr val="f2f2f2"/>
            </a:solidFill>
            <a:ln w="9360">
              <a:solidFill>
                <a:srgbClr val="d9d9d9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c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2" name="Group 46"/>
          <p:cNvGrpSpPr/>
          <p:nvPr/>
        </p:nvGrpSpPr>
        <p:grpSpPr>
          <a:xfrm>
            <a:off x="4697280" y="2970360"/>
            <a:ext cx="2211480" cy="699840"/>
            <a:chOff x="4697280" y="2970360"/>
            <a:chExt cx="2211480" cy="699840"/>
          </a:xfrm>
        </p:grpSpPr>
        <p:sp>
          <p:nvSpPr>
            <p:cNvPr id="813" name="Rectangle 17"/>
            <p:cNvSpPr/>
            <p:nvPr/>
          </p:nvSpPr>
          <p:spPr>
            <a:xfrm>
              <a:off x="4697280" y="2986200"/>
              <a:ext cx="2036880" cy="6840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TextBox 9"/>
            <p:cNvSpPr/>
            <p:nvPr/>
          </p:nvSpPr>
          <p:spPr>
            <a:xfrm>
              <a:off x="4781520" y="2970360"/>
              <a:ext cx="2127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Trust Appl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Service Provid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Oval 37"/>
            <p:cNvSpPr/>
            <p:nvPr/>
          </p:nvSpPr>
          <p:spPr>
            <a:xfrm>
              <a:off x="4755960" y="3333600"/>
              <a:ext cx="287280" cy="287280"/>
            </a:xfrm>
            <a:prstGeom prst="ellipse">
              <a:avLst/>
            </a:prstGeom>
            <a:solidFill>
              <a:srgbClr val="f2f2f2"/>
            </a:solidFill>
            <a:ln w="9360">
              <a:solidFill>
                <a:srgbClr val="d9d9d9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c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6" name="Group 45"/>
          <p:cNvGrpSpPr/>
          <p:nvPr/>
        </p:nvGrpSpPr>
        <p:grpSpPr>
          <a:xfrm>
            <a:off x="2351160" y="2941560"/>
            <a:ext cx="2003400" cy="700200"/>
            <a:chOff x="2351160" y="2941560"/>
            <a:chExt cx="2003400" cy="700200"/>
          </a:xfrm>
        </p:grpSpPr>
        <p:sp>
          <p:nvSpPr>
            <p:cNvPr id="817" name="Rectangle 21"/>
            <p:cNvSpPr/>
            <p:nvPr/>
          </p:nvSpPr>
          <p:spPr>
            <a:xfrm>
              <a:off x="2352600" y="2957400"/>
              <a:ext cx="2001960" cy="684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TextBox 8"/>
            <p:cNvSpPr/>
            <p:nvPr/>
          </p:nvSpPr>
          <p:spPr>
            <a:xfrm>
              <a:off x="2351160" y="2941560"/>
              <a:ext cx="1945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TSPs supporting eSignatu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38"/>
            <p:cNvSpPr/>
            <p:nvPr/>
          </p:nvSpPr>
          <p:spPr>
            <a:xfrm>
              <a:off x="4003920" y="3305160"/>
              <a:ext cx="288720" cy="287280"/>
            </a:xfrm>
            <a:prstGeom prst="ellipse">
              <a:avLst/>
            </a:prstGeom>
            <a:solidFill>
              <a:srgbClr val="f2f2f2"/>
            </a:solidFill>
            <a:ln w="9360">
              <a:solidFill>
                <a:srgbClr val="d9d9d9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c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Group 44"/>
          <p:cNvGrpSpPr/>
          <p:nvPr/>
        </p:nvGrpSpPr>
        <p:grpSpPr>
          <a:xfrm>
            <a:off x="2139840" y="1890720"/>
            <a:ext cx="4746600" cy="885960"/>
            <a:chOff x="2139840" y="1890720"/>
            <a:chExt cx="4746600" cy="885960"/>
          </a:xfrm>
        </p:grpSpPr>
        <p:sp>
          <p:nvSpPr>
            <p:cNvPr id="821" name="Rectangle 25"/>
            <p:cNvSpPr/>
            <p:nvPr/>
          </p:nvSpPr>
          <p:spPr>
            <a:xfrm>
              <a:off x="2352240" y="2057400"/>
              <a:ext cx="4381560" cy="71928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TextBox 10"/>
            <p:cNvSpPr/>
            <p:nvPr/>
          </p:nvSpPr>
          <p:spPr>
            <a:xfrm>
              <a:off x="2139840" y="2255760"/>
              <a:ext cx="474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Trust Service Status Lists Provid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39"/>
            <p:cNvSpPr/>
            <p:nvPr/>
          </p:nvSpPr>
          <p:spPr>
            <a:xfrm>
              <a:off x="4289400" y="1890720"/>
              <a:ext cx="287280" cy="289080"/>
            </a:xfrm>
            <a:prstGeom prst="ellipse">
              <a:avLst/>
            </a:prstGeom>
            <a:solidFill>
              <a:srgbClr val="f2f2f2"/>
            </a:solidFill>
            <a:ln w="9360">
              <a:solidFill>
                <a:srgbClr val="d9d9d9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c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4" name="TextBox 47"/>
          <p:cNvSpPr/>
          <p:nvPr/>
        </p:nvSpPr>
        <p:spPr>
          <a:xfrm>
            <a:off x="332640" y="3868560"/>
            <a:ext cx="1739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Rules &amp;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Forma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Signature Creation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  / Vali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Protection Pro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Box 47"/>
          <p:cNvSpPr/>
          <p:nvPr/>
        </p:nvSpPr>
        <p:spPr>
          <a:xfrm>
            <a:off x="6898680" y="3749760"/>
            <a:ext cx="19969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XAdES (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CAdES (C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PAdES (PD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AdES in Mobile envm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ASiC (contain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Box 47"/>
          <p:cNvSpPr/>
          <p:nvPr/>
        </p:nvSpPr>
        <p:spPr>
          <a:xfrm>
            <a:off x="332280" y="5365800"/>
            <a:ext cx="1716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Made by CE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SSCDs (e.g. 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HSMs &amp; other SC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Box 47"/>
          <p:cNvSpPr/>
          <p:nvPr/>
        </p:nvSpPr>
        <p:spPr>
          <a:xfrm>
            <a:off x="6849360" y="5176800"/>
            <a:ext cx="18932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Key 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Hash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Signature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Key leng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Box 47"/>
          <p:cNvSpPr/>
          <p:nvPr/>
        </p:nvSpPr>
        <p:spPr>
          <a:xfrm>
            <a:off x="6843600" y="2868480"/>
            <a:ext cx="2079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Registered 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Long term pre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Box 47"/>
          <p:cNvSpPr/>
          <p:nvPr/>
        </p:nvSpPr>
        <p:spPr>
          <a:xfrm>
            <a:off x="326160" y="2819520"/>
            <a:ext cx="1724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Issuing certific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Time-stam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Signing Ser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Validation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47"/>
          <p:cNvSpPr/>
          <p:nvPr/>
        </p:nvSpPr>
        <p:spPr>
          <a:xfrm>
            <a:off x="6900480" y="1625760"/>
            <a:ext cx="19501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List of TSP serv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approved (supervi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by National 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(e.g. Trusted Lis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009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1f497d"/>
                </a:solidFill>
                <a:latin typeface="Calibri"/>
              </a:rPr>
              <a:t>AFTER Mandate 460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2" name="Slide Number Placeholder 3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Object 2" descr=""/>
          <p:cNvPicPr/>
          <p:nvPr/>
        </p:nvPicPr>
        <p:blipFill>
          <a:blip r:embed="rId1"/>
          <a:stretch/>
        </p:blipFill>
        <p:spPr>
          <a:xfrm>
            <a:off x="671400" y="1268280"/>
            <a:ext cx="7783560" cy="558972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4. Next Steps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5" name="Footer Placeholder 2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2.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Slide Number Placeholder 3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3E993-0834-473A-B75F-16EA85980CDA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6840" y="1377720"/>
            <a:ext cx="85280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In Spring 2013 EU Commission published new 2nd draft regulation “on electronic identification and trust services for electronic transactions in the internal market”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Under EU Mandate 460 (2013 to 2015) ETSI commissioned to produc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74304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European Norm for TSP Conformity Assessmen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743040" indent="-3430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European Norms for Best Practices (Policy Requirements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00280" indent="-34308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Qualified Certificates for Personal Sign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00280" indent="-34308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Qualified Certificates for organisational </a:t>
            </a:r>
            <a:r>
              <a:rPr b="0" lang="ja-JP" sz="20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seals</a:t>
            </a:r>
            <a:r>
              <a:rPr b="0" lang="ja-JP" sz="2000" spc="-1" strike="noStrike">
                <a:solidFill>
                  <a:srgbClr val="404040"/>
                </a:solidFill>
                <a:latin typeface="Calibri"/>
              </a:rPr>
              <a:t>”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00280" indent="-34308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Qualified Time-stamping Servic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00280" indent="-34308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Qualified Website Certificates  (should be EN 319 411-4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00280" indent="-34308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…………</a:t>
            </a: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advTm="10000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13:52:04Z</dcterms:created>
  <dc:creator>Arno Fiedler</dc:creator>
  <dc:description/>
  <dc:language>en-US</dc:language>
  <cp:lastModifiedBy>Arno Fiedler</cp:lastModifiedBy>
  <cp:lastPrinted>2012-04-17T12:11:33Z</cp:lastPrinted>
  <dcterms:modified xsi:type="dcterms:W3CDTF">2013-09-09T15:18:08Z</dcterms:modified>
  <cp:revision>784</cp:revision>
  <dc:subject/>
  <dc:title>Slide 1</dc:title>
</cp:coreProperties>
</file>