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4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34"/>
          </p:nvPr>
        </p:nvSpPr>
        <p:spPr>
          <a:xfrm>
            <a:off x="402120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ftr" idx="35"/>
          </p:nvPr>
        </p:nvSpPr>
        <p:spPr>
          <a:xfrm>
            <a:off x="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 type="sldNum" idx="36"/>
          </p:nvPr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5ADF2AD-6388-4C0D-B014-B76F94A9D7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6B5D090-F262-49E8-8A40-7DD5555E70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f the published ETSI documents mentioned in this presentation are available for download via the ETSI download page.  Just enter the TS number of key words from the ti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questions feel free to contact myself (standards) , or Olivier Delos (regul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more formal statement on questions regarding the regulation contact Gerard Galler of the EU commi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508E0AB-7CDF-4DF2-AE60-9190783EF9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810F02F-1A70-4205-BFC6-FBA49929C4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0EA9318-9865-4244-8829-71A8CFA0B1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3 main dimensions to its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is a recognized European Standards Organization and as such can produce standards supporting European reg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also become highly-respected as a producer of technical standards for worldwide use. Many ETSI standards answer global ICT mark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nally ETSI has defined testing methodologies and a testing language (TTCN). ETSI also runs interoperability test events. Those even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pportunity for companies to test their prototypes against a standard with their partners and competi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ancing the quality of specif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eding up the standardiz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ucing time to mark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ing the deployment of a techn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3E3BDE7-4794-49A0-873D-B7ADE2791A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ing that the EU Directive 1999/93 on E-Signatures was getting out of date and had not achieved full EU harmonization the EU Commission has issued a new Draft reg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ope of this document is wider that the Directive covering a range of “Trust Services” required for electronic online services across Europe.  It is aimed at achieving a greater degree of harmony between EU 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raft regulation is under discussion in the council of ministers.  There is agreement with the general principles of the new regulation but significant discussion on the details i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d that a new draft may be produced under the Irish presidency by June / Ju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DE2190B-4E50-4C1B-A26B-43853799D5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44F1AA8-265B-4048-9D88-993C42ADE8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4AD0507-71E1-4DEF-BE5B-DEF3A6C6EA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FC32CD1-2936-4829-A4D7-EE166FCAD3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6E76B-9BE8-4224-96A5-524FE9B5D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56F40-6E4E-4E03-B545-CABE5F16D4B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E37EB5-D946-480C-AEC3-80F4324C89F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5B0E55-A242-49E2-AC94-991721CDB8D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20A808-F621-4CBA-9FFC-B258E6ED263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D7E59D-4944-4EBB-8120-57ED944DDD0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ACF3C9-8B77-4486-B6F2-6735F114C60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C3DF80-FF06-4DE9-BC99-58FEF2C8059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1B01FA-2C0D-485E-933E-A955027ECD9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4EFE95-D8F4-4DA6-BA69-CADA3558116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3691DB-3909-4C46-9F7B-E134D03E5A1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918A4-EF61-4172-950E-F68C2C530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B4C23-9D9B-42C1-A62B-05DC91C64FD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19BF0-5BF6-480B-B4BA-71FB071759A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E9FDB-FA6F-463A-AD95-6D216544E3E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1C2B9-CB64-46B5-BA5E-1B793E19191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ED5F8-F89F-46BE-8BE4-FBF89881DDB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95AE0-4314-4884-B677-E7F8C717814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53E76-1B36-4C15-BA23-EE8EFD80313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9D3E8-B3E5-43F0-A0D2-46B57B3828C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B7CB6-F8FC-4E0D-A8A1-8C2A460CD54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B8906-B3FF-41E8-B466-208506095FB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B6900-A154-4AEC-B274-D7A17E700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F288F-EDED-4E81-B099-09D6056D47C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85516-CAD9-4EBA-9DEF-4E388647F87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29AE15-8CC4-4BEF-828B-5B5DAFA063B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80508C-61E8-4F7F-9A64-F123C8FBDD5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6CFE2F-35AA-4907-B5FA-412F85E6865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69A7FF-04F6-4445-9A38-72EBCBAA0A0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6DCBC3-28DC-4462-A3CE-8602253A9DA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19B319-EF25-4EC8-8FC5-E1043FE120A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6A2F4D-0F4D-49D4-B910-68B2B9F0B52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9FB726-8069-4278-A6E6-022A410DD25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9E2B20-608A-4709-858F-C03F7B460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4406FB-80B1-4106-93AA-894589E97C1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2BF995-5F42-4F23-8AAF-6D82E6BFF35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485C5-B30B-41BC-9CB1-D3BF75C6014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911F75-9617-428F-8D15-4BFF8356640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DC6263-73FE-4A6D-84C7-DFE45817EE2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5197FD-DFE4-47D8-BE61-6AFB91588FF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A8D35F-48D7-4178-86D0-F4B3CA4B52A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42BDAF-BF63-43A4-8235-AAB77CB99B0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15AB3F-5182-49D7-9710-FC9AC59C705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90C75B-F5A4-4B51-827E-FB262D1AF8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6CBC09-9C9A-4B03-84FF-F55B04E14C5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40A184-E55A-4446-B023-03DBD1B95B7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6B70FF-6640-4BB9-AE27-F53CA8E96F7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552851-8DED-48C2-95D6-2116A4B23EF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72D69E-49F7-4A56-9354-D457FA2C54B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D8F47-56A3-4467-9CF8-F255B869D1B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CC9CD-2F4B-474D-AF3E-D865B334D20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A108C-C986-4E55-A363-EC09237474E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FB739-5982-40C3-A49E-4FBED97EEA1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4767E-33F8-4D67-90E6-A62A20410E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A55D5-C1FD-4804-92E2-614B5D23DD3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DA378-DA5F-4B52-B331-FFC71FFCDDF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A8218-AE3E-46E2-97C2-74394E30152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1BAB6-842D-400B-8B4B-81EA006ED3D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85C51-EFE9-430E-972E-E355C1630B8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9DDFF-DF9A-4C6A-9B68-B6AA07F876F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E6AE6-A16F-428D-906D-E7182A1A4B5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0E147D-DBF6-4638-8C62-EC6CB7654E6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567064-6DDD-4F7F-A6CB-6EAB1DA39A6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BF1AD9-04F9-4246-A64A-0E609EDF6B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71C363-F50C-476F-9C94-6AE1241D73A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3FD17F-6028-465D-B1A0-3D5E96BA2E2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9BBEF3-91C9-47E1-A9D1-03509FE0146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0E7F8D-E6CE-4F6F-810C-DE28B36A31A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D5CCF7-8D19-4995-B68E-FBD55CA058E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9778EF-0FF5-487F-8F53-E26CDB4132C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4C29BF-0CBA-4F59-8ED1-CD17FF29D80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7C38AD-ECB4-40F2-8580-6805D6094E9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041A5D-6C9F-4F97-87F1-23AA14B6E5B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59AF72-14D8-46E9-AA1D-79E29EF056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A895E-9BD0-4E72-A73F-2030E3A35FE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76665B-896C-4C3F-8103-58338600CF1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74EF3C-D2BC-43EF-8C40-760E4CAFFF4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098761-F169-4DD9-9CC9-3BD40FC5E14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16F2F-9AFB-4350-9704-A1F061313EA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8F5E97-175F-4BC4-9009-7A5594B6E6B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87E1DA-27D0-4147-A5C6-711DAEAF376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2BBC00-4697-4632-98DE-554CB72EC77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674ED-E23E-4B76-9773-861BECC28F0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749D8-2950-43DA-95FF-51D96E80AC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37660-87B8-4CA5-8A93-76EFFF1ACB2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E8C15-FF8E-4959-9C16-7350038ED45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C357E-77ED-4DF6-A5BD-6D29D9366E0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F2C9B-D57C-41F9-B947-DBC338F5D25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03213-E31D-445C-BCAF-FBA6BF2079A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14739-D71B-48A6-9936-3355D75E283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BDF7E-B838-494F-9E52-2A8375F84B3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3B320-921C-4AE5-8287-1A463503672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7F892-8D1D-43A6-A70C-1D10EA945D3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96F01-56CB-4983-8CAA-7D5379D824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F996E-C244-4E37-A401-BA7139B64F1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0B753-D9A9-44BC-B7F9-CD91EF07BF6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C488D-30D7-404C-8A94-7CF29EB9F71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35C232-FBD0-4170-BEF6-D5070580BAA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B0A951-829D-45C7-A0E5-F22A24C27BF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AFEC78-71A7-4DAB-B097-30875344932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E06D1C-10DE-47C9-9388-FD830B61567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0B0A07-2E2B-449B-B0F0-A8D92BABF40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B94ED4-B51C-4C98-82E2-0449A95CB56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0B988C-CA76-4DF0-BE79-F231C11C8D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F5215-E359-4D6D-B35B-3FE9365F5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6E439F-440F-4394-9F9C-965E29C8765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02A7D2-32CB-49F6-ACB7-A0B8779EBF2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9B147C-CB62-4979-88AF-99B9C36C248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34D778-7F37-4689-B374-A4C6BFB1AFC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DC750F-7239-4A07-AC3B-1789AFB0E1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DB140-E394-4C8D-A80E-85D828526E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CCC94-817B-45BC-AA1C-4CF88D86C7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5D4B9-96C8-4338-92AF-28BC05798C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71CCB-7458-4874-ABE1-95E77EDA6B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30F00-E31C-4D9D-9719-6D84969BCA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2D438-CC92-4557-A838-F90CDE718A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2F965-20EA-4E3E-B6FB-CA5B500F84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7AB2C-9804-4A32-A783-C4B6B47C87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12FD1-9ADE-47D8-82E8-F1091538A4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F7019-E2AA-45CC-B65F-AF0B1D7ACF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D440A-39FD-4E0C-AB16-50D7458466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85F66-CC2F-40CC-A510-B31365CEBB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248C3-5A4C-4CC4-9C6F-3529806536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6996-3E0E-4498-AD1F-76BF646A4B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4D36-CDA7-4E3A-B6B5-5CC6C52AC9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CAC0-49E9-48CB-8A01-F4D7E7919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9AA2F-9896-42A4-AE1C-212DC9650C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B496-5AC0-4B0A-BC4F-EBB5C3209C8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2F23-4240-4FE1-8838-169B63A2651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1359-7D14-42BB-BD7E-2691F3D4D3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493C-BA1E-466A-B556-47CDD69B80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FE4E-F4F0-486C-B778-C8D30E5EF1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1366-FF98-49E6-B531-B9A52A6DC6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63F3-3891-46F5-A450-13C2BFA79B3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49FB-9D8C-4C69-B114-CD5B0BF6B6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17D0-A315-4F4E-9CB4-5DA816FCE6E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2DBA8-E4B0-4FA3-9362-7FE75D453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1D961-FCDE-402A-A824-550F51A01C0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89685-D883-4574-AC80-9748A979BB1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CBB62-0795-495C-B9BA-0015210603A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DE299-DF62-4E70-848E-E9A57770AE1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37964-57B5-4D3B-8F19-D37CD7E4B18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C06B1-A7EA-43EA-9602-459F7DB56CB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97A2D-D3D3-4D5D-A15F-33DBDCF0CB4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BABA6-ACE9-4113-8F1C-FEC45EFC53B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5CFD2-2E37-4DA6-8293-C46ADC4F477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2B83F-2056-4C50-B613-38C454A93D1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7D4ED-ED21-49F5-A6AD-95757DB62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7186A-C0FB-403D-B5F8-7AEDD6CE9CF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77A25-3FA2-4725-8475-FCA99067885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04CCC4-70B3-4BD4-BEA7-3571A23DF61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2D2BD5-D8D5-47ED-8328-9A59C322EF2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2488C-6D1C-4DD9-AEA6-41A07F76088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A88D36-69F1-49EC-BC0D-BF8AAA05FD7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5780FB-324E-48B8-AA3C-459FD8FE522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9B42C8-70D7-47EA-940B-29F8D0CC695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0D6442-3973-4DAA-BA86-2A7553B9DA9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E196C2-F0C6-4F96-8340-CA166464A9A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FF51D9-D98F-41C6-BC47-804D1C69B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5E2E1-EF40-41DB-BF1F-55F2EC22BFC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C5B64F-A124-4D79-985D-53DB2651C03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3F4CED-9D7E-4FA1-9BAB-6AF8D7D4779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697493-014D-4DF1-9FED-12CFE8018DA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7E60E-63F3-411F-843A-10CE0C0E47D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8D5DB-D1FD-4237-8B18-6430E18E748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87720-9B8E-4E40-85F7-4FA27E20F8E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D621D-050F-4B76-A0A6-D2DCB1FA88D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D6CDC-1A2E-4DD0-928C-22C8F620E45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476EC-75A8-40E9-9FD5-014A213E3FF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55E30-34CA-4E8A-AEAB-31C59EC54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E8E56-2D2B-48D4-83F4-B63E0D0893E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8B9FD-2D1A-4980-B109-8894CBE25C3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93083-8C27-4144-9F68-F496768288B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FF4E6-9430-4AE2-8081-EE5BDBEADD5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F7E45-98AC-4F6B-929D-787C6C21D87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CECC2-2C98-424C-80AC-941A0ADF89D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23105B-EA97-4A5A-B366-3DA968E04F3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8FA417-9990-4762-A883-8573F71F69B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F34D61-F728-4DF1-9D45-18185C6D180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212EAD-ED7B-4E55-8E7C-782FA21D8B1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4CC369-BB05-4660-81AF-E5EDE3DCA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6DE41-0C9A-4FC0-BFF6-3563D20FD5E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675CC-A5F7-4FA0-9C2A-E8E4F84ABA9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3C5A5E-7DEA-45A9-A1D7-E56D0B5CC89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F6A969-33D6-4B82-B39B-BA458890912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438FA2-4585-47BA-BDB1-B0B3E54143F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3A785-D525-40C9-B86C-187CEDA58A8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379583-1C6E-44A4-8C58-03388BF7088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80EF22-B3CD-41DE-9BE1-F10E0E97BF1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8F8367-43CD-4A45-BA1B-C925CBD69B2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F50CFF-FFE1-44BC-8F06-93E82F52371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A5EC0F-EB66-4E1F-B1A2-9CD7D3619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CDF6-8551-42FF-817A-E6D620C6D462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:\DATEN\Nimbus_allgemein\logo_NImbus\Bildschirm\100dpiRGB\Nimbus1-100dpiRGB.jpg"/>
          <p:cNvPicPr/>
          <p:nvPr/>
        </p:nvPicPr>
        <p:blipFill>
          <a:blip r:embed="rId4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87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915A-1A5A-4E0A-ABA3-2181EEC06982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30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2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0693-1051-4E81-81D0-B3A99A743912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73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10F4-2448-4EC4-B695-3C850A25649B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16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2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4EC5-C6EB-4B19-BBE7-6AEFC4FAACFF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59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2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6CEC-0209-45AA-8BA9-E7D604C6FD76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02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Num" idx="2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259E-122C-4DE3-809A-5F9A589E9E3D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45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Num" idx="3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0196-EA2C-4CAD-B125-BEB80268EFD4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88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3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2D12-64BD-4395-8019-961BDCCE0858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4" name="תמונה 6" descr="open-slide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:\DATEN\Nimbus_allgemein\logo_NImbus\Bildschirm\100dpiRGB\Nimbus1-100dpiRGB.jpg"/>
          <p:cNvPicPr/>
          <p:nvPr/>
        </p:nvPicPr>
        <p:blipFill>
          <a:blip r:embed="rId5"/>
          <a:stretch/>
        </p:blipFill>
        <p:spPr>
          <a:xfrm>
            <a:off x="7513560" y="6213600"/>
            <a:ext cx="1514520" cy="49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BB75-6547-4603-AB4D-E362C8647A05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29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79B6-0C0A-4C3C-B6C8-960AEE0D7B39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72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EC15-69B6-4B63-8C77-EBDDB96BAB3D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15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D0E4-B9A0-47F1-8B96-70345F85F155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58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5668-8B4C-4D13-8A55-24C7EA4F1BCB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01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828B-A9DD-46EA-AAFC-B1DD7343686B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44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C15C-008E-4826-A9D5-786CC5994E95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da.etsi.org/pda/queryform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eur-lex.europa.eu/LexUriServ/LexUriServ.do?uri=COM:2012:0238:FIN:EN:PDF" TargetMode="External"/><Relationship Id="rId5" Type="http://schemas.openxmlformats.org/officeDocument/2006/relationships/hyperlink" Target="mailto:arno.fiedler@nimbus-berlin.com" TargetMode="External"/><Relationship Id="rId6" Type="http://schemas.openxmlformats.org/officeDocument/2006/relationships/hyperlink" Target="mailto:nick.pope@thales-esecurity.c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16040" y="5513400"/>
            <a:ext cx="8067600" cy="5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EUROPEAN UNION MANDATE/460</a:t>
            </a:r>
            <a:endParaRPr b="1" lang="en-US" sz="1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15680" y="5084280"/>
            <a:ext cx="80802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5959"/>
                </a:solidFill>
                <a:latin typeface="Calibri"/>
              </a:rPr>
              <a:t>Kloster Banz 11.09.2013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42680" y="6000480"/>
            <a:ext cx="808812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Presented by Arno Fiedler,  Member of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E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uropean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T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ommunication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S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tandard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I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nstitute</a:t>
            </a:r>
            <a:br>
              <a:rPr sz="1600"/>
            </a:b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tronic Signatures and Infrastructures, Specialist Task Force 458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5. Summary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9" name="Fußzeilenplatzhalt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oliennummernplatzhalt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113A-48CD-494C-8D02-9C6BB2C68DBB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hteck 5"/>
          <p:cNvSpPr/>
          <p:nvPr/>
        </p:nvSpPr>
        <p:spPr>
          <a:xfrm>
            <a:off x="392040" y="2357280"/>
            <a:ext cx="86108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he new draft EU-Regulation will deliver a complete legal and trust framework for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oactive Supervision 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on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qualified level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br>
              <a:rPr sz="2400"/>
            </a:br>
            <a:r>
              <a:rPr b="0" lang="de-DE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TSI and CEN standards will be a fundamental part in future EU legislation (delegating acts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).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ut: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lying parties (in Europe!) have to consume the Trust we provide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Thank you !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TSI Download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da.etsi.org/pda/queryform.asp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nter keyword / title /  document numb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Draft EU Regulation:</a:t>
            </a:r>
            <a:br>
              <a:rPr sz="2400"/>
            </a:b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ur-lex.europa.eu/LexUriServ/LexUriServ.do?uri=COM:2012:0238:FIN:EN:PDF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ontact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Arno Fiedler: STF 458 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arno.fiedler@nimbus-berlin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Iñigo Barreira: STF 458 </a:t>
            </a:r>
            <a:r>
              <a:rPr b="0" lang="es-ES" sz="2000" spc="-1" strike="noStrike" u="sng">
                <a:solidFill>
                  <a:srgbClr val="254061"/>
                </a:solidFill>
                <a:uFillTx/>
                <a:latin typeface="Calibri"/>
              </a:rPr>
              <a:t>i-barreira@izenpe.net</a:t>
            </a:r>
            <a:br>
              <a:rPr sz="2000"/>
            </a:b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Nick Pope: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ead STF 458 (TSP &amp; e-Signature standards) </a:t>
            </a:r>
            <a:br>
              <a:rPr sz="20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nick.pope@thales-esecurity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Footer Placehold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4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148F-895C-4AA3-B0E6-A966C191FDEE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CC1B-36C8-4C7E-9F22-04EA0146155A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Diagramm 3" descr=""/>
          <p:cNvPicPr/>
          <p:nvPr/>
        </p:nvPicPr>
        <p:blipFill>
          <a:blip r:embed="rId1"/>
          <a:stretch/>
        </p:blipFill>
        <p:spPr>
          <a:xfrm>
            <a:off x="476280" y="1359000"/>
            <a:ext cx="8028000" cy="4992480"/>
          </a:xfrm>
          <a:prstGeom prst="rect">
            <a:avLst/>
          </a:prstGeom>
          <a:ln w="0">
            <a:noFill/>
          </a:ln>
        </p:spPr>
      </p:pic>
      <p:sp>
        <p:nvSpPr>
          <p:cNvPr id="849" name="Rechteck 5"/>
          <p:cNvSpPr/>
          <p:nvPr/>
        </p:nvSpPr>
        <p:spPr>
          <a:xfrm>
            <a:off x="457200" y="212760"/>
            <a:ext cx="623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   Actual (Best) Practise for SS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CB69-F1C0-4AF4-9E30-B90BFFCEFEF6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Diagramm 3" descr=""/>
          <p:cNvPicPr/>
          <p:nvPr/>
        </p:nvPicPr>
        <p:blipFill>
          <a:blip r:embed="rId1"/>
          <a:stretch/>
        </p:blipFill>
        <p:spPr>
          <a:xfrm>
            <a:off x="549360" y="1359000"/>
            <a:ext cx="7924680" cy="4992480"/>
          </a:xfrm>
          <a:prstGeom prst="rect">
            <a:avLst/>
          </a:prstGeom>
          <a:ln w="0">
            <a:noFill/>
          </a:ln>
        </p:spPr>
      </p:pic>
      <p:sp>
        <p:nvSpPr>
          <p:cNvPr id="853" name="Rechteck 5"/>
          <p:cNvSpPr/>
          <p:nvPr/>
        </p:nvSpPr>
        <p:spPr>
          <a:xfrm>
            <a:off x="266760" y="185760"/>
            <a:ext cx="65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actual TSP Perspective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(german exam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63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1. ETSI activiti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02C2-4B38-48A3-BB0B-2FE6071FEF72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Text Box 13"/>
          <p:cNvGrpSpPr/>
          <p:nvPr/>
        </p:nvGrpSpPr>
        <p:grpSpPr>
          <a:xfrm>
            <a:off x="463680" y="3067200"/>
            <a:ext cx="2749320" cy="876240"/>
            <a:chOff x="463680" y="3067200"/>
            <a:chExt cx="2749320" cy="876240"/>
          </a:xfrm>
        </p:grpSpPr>
        <p:pic>
          <p:nvPicPr>
            <p:cNvPr id="743" name="Text Box 13" descr=""/>
            <p:cNvPicPr/>
            <p:nvPr/>
          </p:nvPicPr>
          <p:blipFill>
            <a:blip r:embed="rId1"/>
            <a:stretch/>
          </p:blipFill>
          <p:spPr>
            <a:xfrm>
              <a:off x="463680" y="3067200"/>
              <a:ext cx="274932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538200" y="3129120"/>
              <a:ext cx="255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in support of EU reg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AutoShape 7"/>
          <p:cNvGrpSpPr/>
          <p:nvPr/>
        </p:nvGrpSpPr>
        <p:grpSpPr>
          <a:xfrm>
            <a:off x="2925720" y="2414520"/>
            <a:ext cx="1079640" cy="822240"/>
            <a:chOff x="2925720" y="2414520"/>
            <a:chExt cx="1079640" cy="822240"/>
          </a:xfrm>
        </p:grpSpPr>
        <p:pic>
          <p:nvPicPr>
            <p:cNvPr id="746" name="AutoShape 7" descr=""/>
            <p:cNvPicPr/>
            <p:nvPr/>
          </p:nvPicPr>
          <p:blipFill>
            <a:blip r:embed="rId2"/>
            <a:stretch/>
          </p:blipFill>
          <p:spPr>
            <a:xfrm>
              <a:off x="2925720" y="2414520"/>
              <a:ext cx="107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 rot="12693600">
              <a:off x="3025440" y="2805840"/>
              <a:ext cx="96516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8" name="Picture 5" descr="MPj03994060000[1]"/>
          <p:cNvPicPr/>
          <p:nvPr/>
        </p:nvPicPr>
        <p:blipFill>
          <a:blip r:embed="rId3"/>
          <a:stretch/>
        </p:blipFill>
        <p:spPr>
          <a:xfrm>
            <a:off x="914400" y="1725480"/>
            <a:ext cx="1762200" cy="13827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4" descr="Globe-for-Web.jpg Shipping Worldewide image by Darmon9"/>
          <p:cNvPicPr/>
          <p:nvPr/>
        </p:nvPicPr>
        <p:blipFill>
          <a:blip r:embed="rId4"/>
          <a:stretch/>
        </p:blipFill>
        <p:spPr>
          <a:xfrm>
            <a:off x="6499080" y="1704960"/>
            <a:ext cx="1622520" cy="1565280"/>
          </a:xfrm>
          <a:prstGeom prst="rect">
            <a:avLst/>
          </a:prstGeom>
          <a:ln w="0">
            <a:noFill/>
          </a:ln>
        </p:spPr>
      </p:pic>
      <p:grpSp>
        <p:nvGrpSpPr>
          <p:cNvPr id="750" name="Text Box 15"/>
          <p:cNvGrpSpPr/>
          <p:nvPr/>
        </p:nvGrpSpPr>
        <p:grpSpPr>
          <a:xfrm>
            <a:off x="3529080" y="5114880"/>
            <a:ext cx="2262240" cy="871560"/>
            <a:chOff x="3529080" y="5114880"/>
            <a:chExt cx="2262240" cy="871560"/>
          </a:xfrm>
        </p:grpSpPr>
        <p:pic>
          <p:nvPicPr>
            <p:cNvPr id="751" name="Text Box 15" descr=""/>
            <p:cNvPicPr/>
            <p:nvPr/>
          </p:nvPicPr>
          <p:blipFill>
            <a:blip r:embed="rId5"/>
            <a:stretch/>
          </p:blipFill>
          <p:spPr>
            <a:xfrm>
              <a:off x="3529080" y="5114880"/>
              <a:ext cx="2262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3584520" y="5173560"/>
              <a:ext cx="21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teroperabilit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Text Box 12"/>
          <p:cNvGrpSpPr/>
          <p:nvPr/>
        </p:nvGrpSpPr>
        <p:grpSpPr>
          <a:xfrm>
            <a:off x="6076800" y="3139920"/>
            <a:ext cx="2451240" cy="871560"/>
            <a:chOff x="6076800" y="3139920"/>
            <a:chExt cx="2451240" cy="871560"/>
          </a:xfrm>
        </p:grpSpPr>
        <p:pic>
          <p:nvPicPr>
            <p:cNvPr id="754" name="Text Box 12" descr=""/>
            <p:cNvPicPr/>
            <p:nvPr/>
          </p:nvPicPr>
          <p:blipFill>
            <a:blip r:embed="rId6"/>
            <a:stretch/>
          </p:blipFill>
          <p:spPr>
            <a:xfrm>
              <a:off x="6076800" y="3139920"/>
              <a:ext cx="2451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6149880" y="3200400"/>
              <a:ext cx="230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for global ICT mar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AutoShape 7"/>
          <p:cNvGrpSpPr/>
          <p:nvPr/>
        </p:nvGrpSpPr>
        <p:grpSpPr>
          <a:xfrm>
            <a:off x="4492800" y="4065480"/>
            <a:ext cx="347400" cy="1067040"/>
            <a:chOff x="4492800" y="4065480"/>
            <a:chExt cx="347400" cy="1067040"/>
          </a:xfrm>
        </p:grpSpPr>
        <p:pic>
          <p:nvPicPr>
            <p:cNvPr id="757" name="AutoShape 7" descr=""/>
            <p:cNvPicPr/>
            <p:nvPr/>
          </p:nvPicPr>
          <p:blipFill>
            <a:blip r:embed="rId7"/>
            <a:stretch/>
          </p:blipFill>
          <p:spPr>
            <a:xfrm>
              <a:off x="4492800" y="4065480"/>
              <a:ext cx="347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 rot="5400000">
              <a:off x="4234320" y="4484160"/>
              <a:ext cx="8636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AutoShape 7"/>
          <p:cNvGrpSpPr/>
          <p:nvPr/>
        </p:nvGrpSpPr>
        <p:grpSpPr>
          <a:xfrm>
            <a:off x="5450040" y="2414520"/>
            <a:ext cx="1090440" cy="798480"/>
            <a:chOff x="5450040" y="2414520"/>
            <a:chExt cx="1090440" cy="798480"/>
          </a:xfrm>
        </p:grpSpPr>
        <p:pic>
          <p:nvPicPr>
            <p:cNvPr id="760" name="AutoShape 7" descr=""/>
            <p:cNvPicPr/>
            <p:nvPr/>
          </p:nvPicPr>
          <p:blipFill>
            <a:blip r:embed="rId8"/>
            <a:stretch/>
          </p:blipFill>
          <p:spPr>
            <a:xfrm>
              <a:off x="5450040" y="2414520"/>
              <a:ext cx="1090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 rot="19785600">
              <a:off x="5467320" y="2792520"/>
              <a:ext cx="965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14" descr="PLUGTESTS.jpg"/>
          <p:cNvPicPr/>
          <p:nvPr/>
        </p:nvPicPr>
        <p:blipFill>
          <a:blip r:embed="rId9"/>
          <a:stretch/>
        </p:blipFill>
        <p:spPr>
          <a:xfrm>
            <a:off x="3629160" y="5854680"/>
            <a:ext cx="2033280" cy="5652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3" descr="ETSI Logo_S_Office1.jpg"/>
          <p:cNvPicPr/>
          <p:nvPr/>
        </p:nvPicPr>
        <p:blipFill>
          <a:blip r:embed="rId10"/>
          <a:stretch/>
        </p:blipFill>
        <p:spPr>
          <a:xfrm>
            <a:off x="3340080" y="3159000"/>
            <a:ext cx="2625840" cy="846360"/>
          </a:xfrm>
          <a:prstGeom prst="rect">
            <a:avLst/>
          </a:prstGeom>
          <a:ln w="0">
            <a:noFill/>
          </a:ln>
        </p:spPr>
      </p:pic>
      <p:sp>
        <p:nvSpPr>
          <p:cNvPr id="764" name="מציין מיקום של כותרת תחתונה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eb4e3"/>
                </a:solidFill>
                <a:latin typeface="Arial"/>
              </a:rPr>
              <a:t>© ETSI 2012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hteck 1"/>
          <p:cNvSpPr/>
          <p:nvPr/>
        </p:nvSpPr>
        <p:spPr>
          <a:xfrm>
            <a:off x="2838600" y="157320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, DECT, TETR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: UMTS, LT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:TSL, XAdES, PAdES, 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76120" y="0"/>
            <a:ext cx="8229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1. ETSI Electronic Signatures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and Infrastructures (ESI) TC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4480" y="1402920"/>
            <a:ext cx="885816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nce 2000 ETSI/ESI plays a key role in the development of electronic signature related standard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ignature formats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XAdES (TS 101 903) -&gt;ISO, CAdES (TS 101 733) -&gt;ISO, PAdES (TS 102 778) -&gt;ISO and ASiC (TS 102 918) and related profil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rust Service Provider (TSP) Status Information (TSL, TS 102 231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olicy requirements for CAs: TS 102 042, TS 101 456 (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Qual. Cer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.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SA policy requirements: TS 102 023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ertificate profiles: TS 101 862 (Qual. Cert.), TS 102 280 (Nat. Person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gistered Electronic Mail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(eDelivery): TS 102 640 (multipart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ata preservation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TS 101 533-1, TR 101 533-2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lgo paper: TS 102 17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llaborates with ETSI CTI, Centre for Testing and Interoperability for Plugtests even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OI with CA/B-Forum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Segnaposto numero diapositiva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F20C-DFCA-4671-93C9-C5ED9E0F88CD}" type="slidenum">
              <a:rPr b="0" lang="it-IT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33"/>
          <p:cNvGrpSpPr/>
          <p:nvPr/>
        </p:nvGrpSpPr>
        <p:grpSpPr>
          <a:xfrm>
            <a:off x="552600" y="3929040"/>
            <a:ext cx="8108640" cy="2305080"/>
            <a:chOff x="552600" y="3929040"/>
            <a:chExt cx="8108640" cy="2305080"/>
          </a:xfrm>
        </p:grpSpPr>
        <p:sp>
          <p:nvSpPr>
            <p:cNvPr id="770" name="Rounded Rectangle 24"/>
            <p:cNvSpPr/>
            <p:nvPr/>
          </p:nvSpPr>
          <p:spPr>
            <a:xfrm>
              <a:off x="552600" y="3929040"/>
              <a:ext cx="8108640" cy="230508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Group 31"/>
            <p:cNvGrpSpPr/>
            <p:nvPr/>
          </p:nvGrpSpPr>
          <p:grpSpPr>
            <a:xfrm>
              <a:off x="2443320" y="4036680"/>
              <a:ext cx="4298040" cy="649800"/>
              <a:chOff x="2443320" y="4036680"/>
              <a:chExt cx="4298040" cy="649800"/>
            </a:xfrm>
          </p:grpSpPr>
          <p:sp>
            <p:nvSpPr>
              <p:cNvPr id="772" name="Rectangle 98"/>
              <p:cNvSpPr/>
              <p:nvPr/>
            </p:nvSpPr>
            <p:spPr>
              <a:xfrm>
                <a:off x="2579400" y="4036680"/>
                <a:ext cx="4119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d0d0d"/>
                    </a:solidFill>
                    <a:latin typeface="Arial"/>
                    <a:ea typeface="Arial"/>
                  </a:rPr>
                  <a:t>Consistency &amp; formal (efficient) mapp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9"/>
              <p:cNvGrpSpPr/>
              <p:nvPr/>
            </p:nvGrpSpPr>
            <p:grpSpPr>
              <a:xfrm>
                <a:off x="2443320" y="4272840"/>
                <a:ext cx="4298040" cy="413640"/>
                <a:chOff x="2443320" y="4272840"/>
                <a:chExt cx="4298040" cy="413640"/>
              </a:xfrm>
            </p:grpSpPr>
            <p:sp>
              <p:nvSpPr>
                <p:cNvPr id="774" name="Left-Right Arrow 28"/>
                <p:cNvSpPr/>
                <p:nvPr/>
              </p:nvSpPr>
              <p:spPr>
                <a:xfrm rot="18837600">
                  <a:off x="2438640" y="4399200"/>
                  <a:ext cx="412920" cy="163440"/>
                </a:xfrm>
                <a:prstGeom prst="leftRightArrow">
                  <a:avLst>
                    <a:gd name="adj1" fmla="val 50000"/>
                    <a:gd name="adj2" fmla="val 35089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Left-Right Arrow 29"/>
                <p:cNvSpPr/>
                <p:nvPr/>
              </p:nvSpPr>
              <p:spPr>
                <a:xfrm flipH="1" rot="2762400">
                  <a:off x="6332400" y="4396320"/>
                  <a:ext cx="412920" cy="163800"/>
                </a:xfrm>
                <a:prstGeom prst="leftRightArrow">
                  <a:avLst>
                    <a:gd name="adj1" fmla="val 50000"/>
                    <a:gd name="adj2" fmla="val 35012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eft-Right Arrow 30"/>
                <p:cNvSpPr/>
                <p:nvPr/>
              </p:nvSpPr>
              <p:spPr>
                <a:xfrm rot="16200000">
                  <a:off x="4376160" y="4412520"/>
                  <a:ext cx="299880" cy="163440"/>
                </a:xfrm>
                <a:prstGeom prst="leftRightArrow">
                  <a:avLst>
                    <a:gd name="adj1" fmla="val 50000"/>
                    <a:gd name="adj2" fmla="val 35048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77" name="Rectangle 3"/>
          <p:cNvSpPr/>
          <p:nvPr/>
        </p:nvSpPr>
        <p:spPr>
          <a:xfrm>
            <a:off x="0" y="1246320"/>
            <a:ext cx="89647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alizations, consistency and mapping of efficient Legal, Technical, Trust and Promotional frameworks are key success factors to convince market &amp; business stakeholders of the possible ROI of eSignatures securing their e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20"/>
          <p:cNvGrpSpPr/>
          <p:nvPr/>
        </p:nvGrpSpPr>
        <p:grpSpPr>
          <a:xfrm>
            <a:off x="2786040" y="4722840"/>
            <a:ext cx="3600360" cy="1511280"/>
            <a:chOff x="2786040" y="4722840"/>
            <a:chExt cx="3600360" cy="1511280"/>
          </a:xfrm>
        </p:grpSpPr>
        <p:sp>
          <p:nvSpPr>
            <p:cNvPr id="779" name="Rounded Rectangle 6"/>
            <p:cNvSpPr/>
            <p:nvPr/>
          </p:nvSpPr>
          <p:spPr>
            <a:xfrm>
              <a:off x="2786040" y="4722840"/>
              <a:ext cx="360036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98"/>
            <p:cNvSpPr/>
            <p:nvPr/>
          </p:nvSpPr>
          <p:spPr>
            <a:xfrm>
              <a:off x="2912760" y="4794120"/>
              <a:ext cx="3373560" cy="13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tandardization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Covering whole range of ES prod / serv., ES types and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Business practice driv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ropriate guid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98"/>
          <p:cNvSpPr/>
          <p:nvPr/>
        </p:nvSpPr>
        <p:spPr>
          <a:xfrm>
            <a:off x="2739960" y="2333520"/>
            <a:ext cx="37148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50"/>
                </a:solidFill>
                <a:latin typeface="Arial"/>
              </a:rPr>
              <a:t>Sound CSPs &amp;Trust Services Provisioning market for interoperable and cross-border use e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22"/>
          <p:cNvGrpSpPr/>
          <p:nvPr/>
        </p:nvGrpSpPr>
        <p:grpSpPr>
          <a:xfrm>
            <a:off x="6500880" y="4722840"/>
            <a:ext cx="2359080" cy="1511280"/>
            <a:chOff x="6500880" y="4722840"/>
            <a:chExt cx="2359080" cy="1511280"/>
          </a:xfrm>
        </p:grpSpPr>
        <p:sp>
          <p:nvSpPr>
            <p:cNvPr id="783" name="Rounded Rectangle 10"/>
            <p:cNvSpPr/>
            <p:nvPr/>
          </p:nvSpPr>
          <p:spPr>
            <a:xfrm>
              <a:off x="6500880" y="4722840"/>
              <a:ext cx="235908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98"/>
            <p:cNvSpPr/>
            <p:nvPr/>
          </p:nvSpPr>
          <p:spPr>
            <a:xfrm>
              <a:off x="6659640" y="4786200"/>
              <a:ext cx="20019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Supervision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Voluntary accredit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 Status Li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lication labe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2"/>
          <p:cNvSpPr/>
          <p:nvPr/>
        </p:nvSpPr>
        <p:spPr>
          <a:xfrm>
            <a:off x="357120" y="81000"/>
            <a:ext cx="77724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2. Crobies Study in 2010: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Key success factors for eSign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2"/>
          <p:cNvGrpSpPr/>
          <p:nvPr/>
        </p:nvGrpSpPr>
        <p:grpSpPr>
          <a:xfrm>
            <a:off x="3535200" y="3137040"/>
            <a:ext cx="1965600" cy="755640"/>
            <a:chOff x="3535200" y="3137040"/>
            <a:chExt cx="1965600" cy="755640"/>
          </a:xfrm>
        </p:grpSpPr>
        <p:sp>
          <p:nvSpPr>
            <p:cNvPr id="787" name="Down Arrow 25"/>
            <p:cNvSpPr/>
            <p:nvPr/>
          </p:nvSpPr>
          <p:spPr>
            <a:xfrm flipV="1">
              <a:off x="4392720" y="3137040"/>
              <a:ext cx="179280" cy="720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92d05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98"/>
            <p:cNvSpPr/>
            <p:nvPr/>
          </p:nvSpPr>
          <p:spPr>
            <a:xfrm>
              <a:off x="3535200" y="3344760"/>
              <a:ext cx="196560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Promo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9"/>
          <p:cNvGrpSpPr/>
          <p:nvPr/>
        </p:nvGrpSpPr>
        <p:grpSpPr>
          <a:xfrm>
            <a:off x="285840" y="4721400"/>
            <a:ext cx="2340000" cy="1511280"/>
            <a:chOff x="285840" y="4721400"/>
            <a:chExt cx="2340000" cy="1511280"/>
          </a:xfrm>
        </p:grpSpPr>
        <p:sp>
          <p:nvSpPr>
            <p:cNvPr id="790" name="Rounded Rectangle 22"/>
            <p:cNvSpPr/>
            <p:nvPr/>
          </p:nvSpPr>
          <p:spPr>
            <a:xfrm>
              <a:off x="285840" y="4721400"/>
              <a:ext cx="234000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98"/>
            <p:cNvSpPr/>
            <p:nvPr/>
          </p:nvSpPr>
          <p:spPr>
            <a:xfrm>
              <a:off x="357120" y="4765680"/>
              <a:ext cx="2203560" cy="14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Legal 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level of 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Range of ES prod/ser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3.1 New approach for legal framework: </a:t>
            </a:r>
            <a:br>
              <a:rPr sz="2800"/>
            </a:b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Draft EU EIDAS- Regulation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3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0C3F-EABA-4ABB-B0DD-EE1BFF1F495E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272960"/>
            <a:ext cx="85359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June 2012 – EU Commission publish </a:t>
            </a:r>
            <a:r>
              <a:rPr b="0" lang="en-GB" sz="2400" spc="-1" strike="noStrike" u="sng">
                <a:solidFill>
                  <a:srgbClr val="404040"/>
                </a:solidFill>
                <a:uFillTx/>
                <a:latin typeface="Calibri"/>
              </a:rPr>
              <a:t>first draft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regulation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Added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utual recognition of electronic identification [E-ID]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xtended Supervision of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ertification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o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rust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, includes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proactive supervision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Qualified Electronic trust service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ignature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eal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ime stamping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elivery service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ocuments admissibility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ebsite authentication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6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3.2 Standards Framework I:</a:t>
            </a:r>
            <a:br>
              <a:rPr sz="2800"/>
            </a:b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M460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uropean</a:t>
            </a: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 Commission mandat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61800" y="164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C founded eSignatures standardization activit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4 years: 2011-2015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1st phase (executed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efinition of a rationalized standardization framework, in collaboration with CE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ral specifications upgrades primarily aimed at providing quick technical fixes to existing electronic signatures standards, and definition of test specif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2nd phase (now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lement the rationalized standardization framework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upport the new EU Regulation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 (exp. approval in 201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liennummernplatzhalt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7129-6097-48BE-9C11-0A47EAB70A41}" type="slidenum">
              <a:rPr b="0" lang="en-GB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3.2 Standards Framework II</a:t>
            </a:r>
            <a:br>
              <a:rPr sz="2800"/>
            </a:b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Mandate/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800" name="Group 41"/>
          <p:cNvGrpSpPr/>
          <p:nvPr/>
        </p:nvGrpSpPr>
        <p:grpSpPr>
          <a:xfrm>
            <a:off x="2354400" y="3814920"/>
            <a:ext cx="4363920" cy="1357200"/>
            <a:chOff x="2354400" y="3814920"/>
            <a:chExt cx="4363920" cy="1357200"/>
          </a:xfrm>
        </p:grpSpPr>
        <p:sp>
          <p:nvSpPr>
            <p:cNvPr id="801" name="Rectangle 5"/>
            <p:cNvSpPr/>
            <p:nvPr/>
          </p:nvSpPr>
          <p:spPr>
            <a:xfrm>
              <a:off x="2354400" y="3814920"/>
              <a:ext cx="4363920" cy="1357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Box 7"/>
            <p:cNvSpPr/>
            <p:nvPr/>
          </p:nvSpPr>
          <p:spPr>
            <a:xfrm>
              <a:off x="2782800" y="4243320"/>
              <a:ext cx="357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Cre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&amp; Valid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34"/>
            <p:cNvSpPr/>
            <p:nvPr/>
          </p:nvSpPr>
          <p:spPr>
            <a:xfrm>
              <a:off x="4367160" y="390528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42"/>
          <p:cNvGrpSpPr/>
          <p:nvPr/>
        </p:nvGrpSpPr>
        <p:grpSpPr>
          <a:xfrm>
            <a:off x="2155680" y="5386320"/>
            <a:ext cx="2198880" cy="642960"/>
            <a:chOff x="2155680" y="5386320"/>
            <a:chExt cx="2198880" cy="642960"/>
          </a:xfrm>
        </p:grpSpPr>
        <p:sp>
          <p:nvSpPr>
            <p:cNvPr id="805" name="Rectangle 9"/>
            <p:cNvSpPr/>
            <p:nvPr/>
          </p:nvSpPr>
          <p:spPr>
            <a:xfrm>
              <a:off x="2350800" y="5386320"/>
              <a:ext cx="200376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11"/>
            <p:cNvSpPr/>
            <p:nvPr/>
          </p:nvSpPr>
          <p:spPr>
            <a:xfrm>
              <a:off x="2155680" y="5386320"/>
              <a:ext cx="216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eation De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35"/>
            <p:cNvSpPr/>
            <p:nvPr/>
          </p:nvSpPr>
          <p:spPr>
            <a:xfrm>
              <a:off x="4003920" y="544176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3"/>
          <p:cNvGrpSpPr/>
          <p:nvPr/>
        </p:nvGrpSpPr>
        <p:grpSpPr>
          <a:xfrm>
            <a:off x="4716360" y="5415120"/>
            <a:ext cx="2156040" cy="642960"/>
            <a:chOff x="4716360" y="5415120"/>
            <a:chExt cx="2156040" cy="642960"/>
          </a:xfrm>
        </p:grpSpPr>
        <p:sp>
          <p:nvSpPr>
            <p:cNvPr id="809" name="Rectangle 13"/>
            <p:cNvSpPr/>
            <p:nvPr/>
          </p:nvSpPr>
          <p:spPr>
            <a:xfrm>
              <a:off x="4716360" y="5415120"/>
              <a:ext cx="200232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Box 12"/>
            <p:cNvSpPr/>
            <p:nvPr/>
          </p:nvSpPr>
          <p:spPr>
            <a:xfrm>
              <a:off x="4881960" y="5415120"/>
              <a:ext cx="199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yptographic Sui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6"/>
            <p:cNvSpPr/>
            <p:nvPr/>
          </p:nvSpPr>
          <p:spPr>
            <a:xfrm>
              <a:off x="4790880" y="54705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46"/>
          <p:cNvGrpSpPr/>
          <p:nvPr/>
        </p:nvGrpSpPr>
        <p:grpSpPr>
          <a:xfrm>
            <a:off x="4697280" y="2970360"/>
            <a:ext cx="2211480" cy="699840"/>
            <a:chOff x="4697280" y="2970360"/>
            <a:chExt cx="2211480" cy="699840"/>
          </a:xfrm>
        </p:grpSpPr>
        <p:sp>
          <p:nvSpPr>
            <p:cNvPr id="813" name="Rectangle 17"/>
            <p:cNvSpPr/>
            <p:nvPr/>
          </p:nvSpPr>
          <p:spPr>
            <a:xfrm>
              <a:off x="4697280" y="2986200"/>
              <a:ext cx="2036880" cy="684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Box 9"/>
            <p:cNvSpPr/>
            <p:nvPr/>
          </p:nvSpPr>
          <p:spPr>
            <a:xfrm>
              <a:off x="4781520" y="2970360"/>
              <a:ext cx="212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ervice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37"/>
            <p:cNvSpPr/>
            <p:nvPr/>
          </p:nvSpPr>
          <p:spPr>
            <a:xfrm>
              <a:off x="4755960" y="333360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45"/>
          <p:cNvGrpSpPr/>
          <p:nvPr/>
        </p:nvGrpSpPr>
        <p:grpSpPr>
          <a:xfrm>
            <a:off x="2351160" y="2941560"/>
            <a:ext cx="2003400" cy="700200"/>
            <a:chOff x="2351160" y="2941560"/>
            <a:chExt cx="2003400" cy="700200"/>
          </a:xfrm>
        </p:grpSpPr>
        <p:sp>
          <p:nvSpPr>
            <p:cNvPr id="817" name="Rectangle 21"/>
            <p:cNvSpPr/>
            <p:nvPr/>
          </p:nvSpPr>
          <p:spPr>
            <a:xfrm>
              <a:off x="2352600" y="2957400"/>
              <a:ext cx="2001960" cy="684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Box 8"/>
            <p:cNvSpPr/>
            <p:nvPr/>
          </p:nvSpPr>
          <p:spPr>
            <a:xfrm>
              <a:off x="2351160" y="2941560"/>
              <a:ext cx="194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SPs supporting eSigna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4003920" y="33051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4"/>
          <p:cNvGrpSpPr/>
          <p:nvPr/>
        </p:nvGrpSpPr>
        <p:grpSpPr>
          <a:xfrm>
            <a:off x="2139840" y="1890720"/>
            <a:ext cx="4746600" cy="885960"/>
            <a:chOff x="2139840" y="1890720"/>
            <a:chExt cx="4746600" cy="885960"/>
          </a:xfrm>
        </p:grpSpPr>
        <p:sp>
          <p:nvSpPr>
            <p:cNvPr id="821" name="Rectangle 25"/>
            <p:cNvSpPr/>
            <p:nvPr/>
          </p:nvSpPr>
          <p:spPr>
            <a:xfrm>
              <a:off x="2352240" y="2057400"/>
              <a:ext cx="4381560" cy="719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Box 10"/>
            <p:cNvSpPr/>
            <p:nvPr/>
          </p:nvSpPr>
          <p:spPr>
            <a:xfrm>
              <a:off x="2139840" y="2255760"/>
              <a:ext cx="474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Service Status Lists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39"/>
            <p:cNvSpPr/>
            <p:nvPr/>
          </p:nvSpPr>
          <p:spPr>
            <a:xfrm>
              <a:off x="4289400" y="1890720"/>
              <a:ext cx="287280" cy="2890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Box 47"/>
          <p:cNvSpPr/>
          <p:nvPr/>
        </p:nvSpPr>
        <p:spPr>
          <a:xfrm>
            <a:off x="332640" y="3868560"/>
            <a:ext cx="1739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ules &amp;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Form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Creation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/ 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rotection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7"/>
          <p:cNvSpPr/>
          <p:nvPr/>
        </p:nvSpPr>
        <p:spPr>
          <a:xfrm>
            <a:off x="6898680" y="3749760"/>
            <a:ext cx="1996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XAdES (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AdES (C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AdES (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dES in Mobile envm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SiC (contain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47"/>
          <p:cNvSpPr/>
          <p:nvPr/>
        </p:nvSpPr>
        <p:spPr>
          <a:xfrm>
            <a:off x="332280" y="5365800"/>
            <a:ext cx="171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Made by CE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SCDs (e.g. 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SMs &amp; other S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47"/>
          <p:cNvSpPr/>
          <p:nvPr/>
        </p:nvSpPr>
        <p:spPr>
          <a:xfrm>
            <a:off x="6849360" y="5176800"/>
            <a:ext cx="189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as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47"/>
          <p:cNvSpPr/>
          <p:nvPr/>
        </p:nvSpPr>
        <p:spPr>
          <a:xfrm>
            <a:off x="6843600" y="2868480"/>
            <a:ext cx="207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egistered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ong term p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47"/>
          <p:cNvSpPr/>
          <p:nvPr/>
        </p:nvSpPr>
        <p:spPr>
          <a:xfrm>
            <a:off x="326160" y="2819520"/>
            <a:ext cx="172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Issuing certific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Time-st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ing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Valida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47"/>
          <p:cNvSpPr/>
          <p:nvPr/>
        </p:nvSpPr>
        <p:spPr>
          <a:xfrm>
            <a:off x="6900480" y="1625760"/>
            <a:ext cx="1950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ist of TSP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pproved (supervi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by National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(e.g. Trusted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09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AFTER Mandate 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Object 2" descr=""/>
          <p:cNvPicPr/>
          <p:nvPr/>
        </p:nvPicPr>
        <p:blipFill>
          <a:blip r:embed="rId1"/>
          <a:stretch/>
        </p:blipFill>
        <p:spPr>
          <a:xfrm>
            <a:off x="671400" y="1268280"/>
            <a:ext cx="7783560" cy="5589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4. Next Steps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76EC-465B-4363-B040-7CDAADD9A305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377720"/>
            <a:ext cx="8528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n Spring 2013 EU Commission published new 2nd draft regulation “on electronic identification and trust services for electronic transactions in the internal market”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Under EU Mandate 460 (2013 to 2015) ETSI commissioned to produc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 for TSP Conformity Assess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s for Best Practices (Policy Requireme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Personal Sign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organisational 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eals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Time-stamping Servi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Website Certificates  (should be EN 319 411-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…………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52:04Z</dcterms:created>
  <dc:creator>Arno Fiedler</dc:creator>
  <dc:description/>
  <dc:language>en-US</dc:language>
  <cp:lastModifiedBy>Arno Fiedler</cp:lastModifiedBy>
  <cp:lastPrinted>2012-04-17T12:11:33Z</cp:lastPrinted>
  <dcterms:modified xsi:type="dcterms:W3CDTF">2013-09-09T15:18:08Z</dcterms:modified>
  <cp:revision>784</cp:revision>
  <dc:subject/>
  <dc:title>Slide 1</dc:title>
</cp:coreProperties>
</file>