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4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1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png" ContentType="image/png"/>
  <Override PartName="/ppt/media/image22.png" ContentType="image/png"/>
  <Override PartName="/ppt/media/image23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dt" idx="34"/>
          </p:nvPr>
        </p:nvSpPr>
        <p:spPr>
          <a:xfrm>
            <a:off x="402120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ftr" idx="35"/>
          </p:nvPr>
        </p:nvSpPr>
        <p:spPr>
          <a:xfrm>
            <a:off x="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 type="sldNum" idx="36"/>
          </p:nvPr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2EE11B76-795A-4528-8688-1D74B5CADF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C85CA18A-4AA0-4A69-B60C-CDB9ACD3ED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f the published ETSI documents mentioned in this presentation are available for download via the ETSI download page.  Just enter the TS number of key words from the ti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questions feel free to contact myself (standards) , or Olivier Delos (regul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more formal statement on questions regarding the regulation contact Gerard Galler of the EU commi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EDF27BA3-E146-4B20-811F-DE221E11BD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Foliennummernplatzhalt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53B9A72-CF26-4317-BB3E-5FDE519C7A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Foliennummernplatzhalt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FFB2F295-45A7-4F76-AD64-8E6FC526AA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has 3 main dimensions to its activ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is a recognized European Standards Organization and as such can produce standards supporting European reg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has also become highly-respected as a producer of technical standards for worldwide use. Many ETSI standards answer global ICT mark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nally ETSI has defined testing methodologies and a testing language (TTCN). ETSI also runs interoperability test events. Those even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pportunity for companies to test their prototypes against a standard with their partners and competit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ancing the quality of specif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eeding up the standardizat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ucing time to mark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pporting the deployment of a technolo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76289B5A-A7FC-47FF-B76D-55FB1F8C30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ing that the EU Directive 1999/93 on E-Signatures was getting out of date and had not achieved full EU harmonization the EU Commission has issued a new Draft reg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ope of this document is wider that the Directive covering a range of “Trust Services” required for electronic online services across Europe.  It is aimed at achieving a greater degree of harmony between EU N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raft regulation is under discussion in the council of ministers.  There is agreement with the general principles of the new regulation but significant discussion on the details is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hoped that a new draft may be produced under the Irish presidency by June / Ju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55E3E5C-4A67-4FB7-B7B9-4EAFB7F483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B920237-9EC0-4B28-92B0-E72CD2C120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D147C94-F3E8-4F62-B69B-433F97308A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BBA2946-6ECD-4738-9BB0-BD0D543DCD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BA469-5174-4F8A-A705-9008F72D6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B50F3-84E7-4328-92DB-9A7935673BD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C3882F-49D2-4209-A5F3-3BD2B41DC0A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E2EBE9-16F2-4712-9BF9-C69035CC0D4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8730B7-2C12-450B-AB4A-DBA08E91DE3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07822E-F5A3-49CC-B503-F499A570B51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DD34A6-69C1-48A8-B097-E75DDBD7024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486728-1997-4246-9C61-DF581371B8E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1F1896-7746-4110-A812-DEA0FD655E3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F3F2B8-43A9-4808-A11E-16B014CCF5F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3E5772-4A40-4286-BD72-DBAB1C3C134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873F3-B3CD-4D8D-A22E-9E903BFF9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6F91A-8181-4FAD-A5D0-2AE18FB773D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2F25A-97C5-4481-8D35-506553EDCBB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E3658-7966-481C-B030-8D33EC4386E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37645-CAAA-4553-A4A0-9642A8C5F22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1FACE-F5BC-4AF1-8B93-9985C628F9C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4B57F-8A86-4CFC-9DA6-AA61FA799A4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EB18C-2B50-45F8-A1AD-018B6B5501D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F2014-F61A-4151-9529-3358EFCF2E4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6BAA8-9500-4987-A059-13C8D7E556F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BD164-28AC-4FD5-B0A5-C3F6D7691B9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ACCA4-F72A-4D25-9E7A-5FCB6A0A3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BACEE-35C3-4BE4-B216-E897825B38C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72F40-2E36-4457-A665-6B148A50C4B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07022F-691C-4802-87F0-4AF32891374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20AA49-84DE-43B5-A495-0DECC7EF32F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261407-ADF1-46EE-A3E6-F370343865B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5A5C04-2C85-47FD-91A1-B66795D3360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AA5A3F-342F-439F-ABBD-B279151BBCB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723AC3-27A3-4B6A-89D0-787BAAC4E5A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CC44D9-0710-4429-8F56-13C608EC3E8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65F2D4-D91E-4364-914F-CC0C3F1BAEC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61CBFA-FE9E-4D03-AE9D-00470A5994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374FA0-F739-46EE-8E6C-D5D43ECF1E0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B57D65-2E78-476E-B897-CAAABE8AEAD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AAAFA7-3E17-4F9E-937C-A7F8E1621F8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A43686-B82C-4CA6-B4B8-FD2DB19F191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00D349-BED3-457E-B760-0FC2B58E4F1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5F9C48-842F-4139-B1EF-5B8C6CC6CC8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D1D5DA-3EB0-4249-B6AE-B471823E6DD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D24CF4-14BA-4029-8FA5-50D698A7A36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6AC1B0-F744-439F-8B22-3E19014334F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9DD747-A8FD-4E63-99F2-A9639E9E78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1AD86C-01A7-4273-B12F-991024F61C5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45093B-6154-40BC-8C00-D1BBE567926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59C3FE-848B-42FE-A71F-CD5009B834C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89CABA-C824-4477-A30F-48FFCF77A6E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4B730F-AE00-4724-90A4-553E7B73E1A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3C232-7230-4430-BA25-20BB81E3600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44BFE-E9C1-4F99-8EE5-FCF9735B29F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C4C09-80A3-4EB7-A80D-809CC7AF9DF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7CF36-1861-45C1-8138-887FD980F4F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564DE-4590-459C-9E59-6EF154FABB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48A1D-DF21-46EF-9C0F-39AC2C0E8B6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2E207-0A1D-488C-9853-3D19C6FAB74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3B8C4-081A-4088-9F7B-1B07390A0C2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6C24E-0E48-4BB5-870B-1C41CAA9314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D19C1-171F-4014-AFC5-6F6EDB31433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E6E7F-D946-47FD-B86D-ABDB98A3076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6F758-6102-4B73-A2D1-33DEAE3DA1D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9F1A50-4FCF-4C3E-B9B5-6B43E00D498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BCAE6E-05D3-4E28-A731-4663220F8AB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0513A5-179F-4577-9F25-A1A3EFC8D3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E27601-C081-4DB0-8444-21D688F56DB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F3D4D8-17A8-4112-B70C-112F0711F5C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F6C366-BD38-495A-83E8-AFC87F0A062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35862F-DA62-401D-BE9A-437EF2F46B5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923E28-DF45-40F5-AB97-25AA9ADB179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2B8225-BF9D-4085-B737-AAD642E8293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18C77F-60E3-43E3-A08E-A0A2A1F78CF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F41919-1427-41E1-A0E5-76D1952EA1E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2F4B1E-FD2D-4C8E-99A6-957410B42A4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6E3A7C-E680-4FF6-AE6C-96B5BBB9FE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028886-57D3-454C-881D-1C3B1C88DE0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82BFCE-9152-47F8-8358-BB10BFCFB27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107B1D-8260-4F4A-A2A8-322C517B839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847D31-DE55-4DC1-A9AA-A5560444E9C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712E9C-8EC9-4159-8EE1-37CF0E98054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93D3C6-CE14-414C-9F9F-A89A322A79E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CDC4A0-4BD3-4BC4-9EB3-A4E3A54389A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310FC6-BF4B-438D-B1FF-019034E505E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B3ACB4-3845-4560-BB5C-97D7F4166A9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F71C3F-884E-4B8B-92BE-E3900633C2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F3CA0B-6B05-4671-BDA0-033DEC20D5B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51639-82AE-44FB-9F2E-7DE5DACB1A2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E3AA8-C863-48A4-B1C5-78F9A980100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887BE-C2A6-4C87-8E47-EB06EC7FF38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6F485-85F7-4A38-BE3D-463B3BFB781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5A5E0-CB08-499C-A594-112CD3D76EB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53230-DB0F-4A26-A6E0-255BC916A65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0D501-0C26-43B6-B14F-893DBE34560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353F8-4B9B-4101-9198-77C74A4434B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B5C69-9EC2-4BD3-8F7C-8E2E6BA622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3A9A8-C4F9-4D68-B69A-E7FF918EB59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06D80-1A14-466F-B940-E3DDA2FD580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7E5D4-174A-4714-B96D-39137B2D6FC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2A5811-B1E5-4C48-BCAE-9C8FCE2FB7A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24F9A5-9A58-4B56-A850-161AA8D5A02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2C1FD1-70AA-465C-9B02-0B8B6903C76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814288-871A-47A1-A7CE-334C2D88D44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1CAF13-6B17-454F-A0C9-4A054D4BB30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68F266-EEAC-4EDE-95C2-31721AE3FBF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A7410E-4A87-490F-A168-76944D7759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8ACE1-D87E-49C1-A239-B176056BD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001C58-70FD-467E-A13B-0D22D343096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48224C-FE2A-4996-8450-AB1DE978C9D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816650-1BB9-403D-8278-411AFE79304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4181CA-CB55-4348-82D9-F73BE334BAD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B87D78-3226-48B9-BAEF-6410BDE28A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CC5B4-9337-485F-BDA6-B2AA68B123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0E8C6-BEFD-4DF4-93DE-B646C2DD63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9F4F8-3F45-4E60-8280-F957C45ADC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BB608-668D-4FED-B77F-FC97A08035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96F7B-DA3B-470F-A246-38EAA559FA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4D902-334A-4F7F-B631-26A417C6C3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C2595-E12D-4F8C-A3BE-48E4520A0E2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23BFE-91BF-4953-A6EF-84C7EA08A6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BE7B3-3A8C-4DFB-BD04-93B865B17D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53D3B-8FDB-4EBE-A0A1-6B360634AC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66A23-DD5E-4001-B012-F1F070973E6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AC149-15AA-4BBA-B003-74CC4FDFDD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8A123-6FF5-4796-8B9D-0BBAFA9DE32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0F72-4E7F-4AB2-8486-FFC597EE26C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B914-F055-47C8-A3F4-E93DC5D5B35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F6F3-3E9D-4AC2-908F-5307CC1196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3A3B7-B37E-4552-BDCE-BC55A5180ED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2F1F-8367-4901-8A85-321AE962D9D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7998-72E4-4CF9-A98A-662687A8B9D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EABF-6716-4BFF-A4A8-1BC315945A8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F771-4747-4173-9DB3-FB43B824E6C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5842-9E57-44CB-87D1-1A31EA446B4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674D-916F-4F6C-95EC-4F042E2D657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653D-2AAC-43F0-9EEA-FD51E8ECCBE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AA6D-6D0C-44D9-8CF1-0B83FC021EA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AB7D-06B7-4C31-B276-22824CACB72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F10C02-AD1F-41C9-8524-C7208BC913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7557E-1F1A-4430-A64E-2D37FD7BB4C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F9E0F5-4F67-4572-8E89-8C7265B73F2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2F6C7-3081-4FB9-9F2E-F46E9D82700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A78D69-7575-4485-8846-5121AC2E52B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C34E8E-C63F-4956-9F17-EA11CED6201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EB01B6-B6F6-4DB2-B071-EFEA7B35195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AD2CE4-7676-44B2-8235-442B4A21A66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531C5A-5EF4-4799-B135-F5FA82E3C72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DB648-4C76-4DA0-9515-95FA41A691C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1768E9-7CA0-4926-B54D-21E44DEC855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D1AFC-FF00-4328-8FF8-12DAD6CC08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005E0-CE59-4602-8F9C-AC9FAE78FAF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FCAD8-78AD-4AFB-8280-408E3041430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4FBBEC-E48A-49A7-B78E-2E2040E262B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384808-A4B5-4198-AA77-CBFC0010FD2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B413D3-1095-45AC-95CF-DB034B6518B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BD7244-5A5A-433E-9F45-1D61A04CE55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A340F1-EE88-4AFD-BE80-89BF76AD955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CD43D9-708B-424D-970E-7BEE5A4060A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9E4AF1-D0A3-492E-BD0C-8A7AD9FBDCF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7F662A-1EFE-4F69-85FE-F1A84E16178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7F3E8E-4F79-494D-88DF-B102DB216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A4C75-21B8-4FF6-A0BF-3C790262C48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7C4953-7477-46F4-BC3C-AB8233447D7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71679D-B698-4E7F-B989-9BB65B8E243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F7438D-48DE-42C7-9AA1-F27D0C16BE9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398F3-F32A-4A50-B240-07001B8A47F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1524C-BB3A-4AFF-B4F5-18CBA484FC6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ABBB1-8C13-47A8-B062-159B116CA38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2649B-76E9-4A0F-B89B-6536DB0D69D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6F007-EA4C-4809-8195-3FA92478BC4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92ACB-6F53-4318-B4D6-3920D85FEAE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83328-CB4E-4623-B806-F84E5511D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BAEDA-CE21-44E5-9E92-D985FA1C75C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F1BA6-66B8-43A3-AAA9-9786597024D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4F349-4316-4DE3-886F-B0957DD046B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BE630-43E4-4DF5-B215-756BB10828B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802EB-F755-41AB-B904-2E02D4C6ADC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6D9D4-F935-47FE-B871-DE9E96D19CC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83F6D4-6E08-4D48-B8F8-FCC0C025390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FD24A4-CF63-4B92-981D-7DCC9FB5128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8C7352-7509-408C-B42F-A4FE5E1C110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8382E6-666C-4ED4-A2D9-F09636EBC72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0E018C-E36A-4130-9F06-40850EF8D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4A2BC-4659-4A5F-81DC-75A988E66C0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2E1ADA-EC07-4613-BC11-B898985A2A4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87A955-02B9-4559-B1A6-DA9B707182C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765565-C16D-4651-8EE5-E560EC7EDA0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E0B982-8928-4F26-88B0-48F5BD0C2B0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811756-0E68-4B9E-A5AF-F629856701B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9C7052-8543-4174-92F5-486FA184207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24CDAB-5357-4602-945D-3EC39F01E9D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5B2126-6D51-40A5-AFFC-90F4E401904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B48F24-000E-4741-84E7-2FF5A6080B5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1D50E1-B164-4732-97BD-AF982F7C7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0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293A-76F0-44EF-BD19-2553E3163226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:\DATEN\Nimbus_allgemein\logo_NImbus\Bildschirm\100dpiRGB\Nimbus1-100dpiRGB.jpg"/>
          <p:cNvPicPr/>
          <p:nvPr/>
        </p:nvPicPr>
        <p:blipFill>
          <a:blip r:embed="rId4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87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1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7536-6CF6-475E-89B5-328E10CEC948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1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30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2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D18B-7B99-448F-90A7-FEEAE8AF351E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73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2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85FA-85D7-4FBE-AA44-F39BB6C6A590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516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Num" idx="24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F669-B3F7-4F8D-A477-855C0AB484E7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5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559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Num" idx="2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EB26-0D55-4EF0-B6C0-FEC72BBBA7D2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02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Num" idx="2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897D-0931-41BA-9C51-6BE6FC4378BD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2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45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Num" idx="3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EA9B-B886-4505-BFB1-53E8D1F355C7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88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Num" idx="3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8D50-7247-468C-B6FE-2296CF92E94D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3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4" name="תמונה 6" descr="open-slide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E:\DATEN\Nimbus_allgemein\logo_NImbus\Bildschirm\100dpiRGB\Nimbus1-100dpiRGB.jpg"/>
          <p:cNvPicPr/>
          <p:nvPr/>
        </p:nvPicPr>
        <p:blipFill>
          <a:blip r:embed="rId5"/>
          <a:stretch/>
        </p:blipFill>
        <p:spPr>
          <a:xfrm>
            <a:off x="7513560" y="6213600"/>
            <a:ext cx="1514520" cy="49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3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CBE3-F2DB-49BC-AFE2-B0924CE4C8EC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129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E9A4-79AF-4C3B-99E0-3409D0C3B177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172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B76D-5D96-49A6-A6A1-C8D99075B976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215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1897-2E8F-4042-BE7F-8E0706D5DF7D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258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D28F-A88C-443D-A9A5-37E265C24B1F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01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4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8F42-CE58-442E-A2C3-5A6FA630CE00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5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44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1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E0FD-69F9-4DFE-BEF3-CA7573DAB003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da.etsi.org/pda/queryform.asp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eur-lex.europa.eu/LexUriServ/LexUriServ.do?uri=COM:2012:0238:FIN:EN:PDF" TargetMode="External"/><Relationship Id="rId5" Type="http://schemas.openxmlformats.org/officeDocument/2006/relationships/hyperlink" Target="mailto:arno.fiedler@nimbus-berlin.com" TargetMode="External"/><Relationship Id="rId6" Type="http://schemas.openxmlformats.org/officeDocument/2006/relationships/hyperlink" Target="mailto:nick.pope@thales-esecurity.c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ooter Placeholder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 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16040" y="5513400"/>
            <a:ext cx="8067600" cy="58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EUROPEAN UNION MANDATE/460</a:t>
            </a:r>
            <a:endParaRPr b="1" lang="en-US" sz="1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15680" y="5084280"/>
            <a:ext cx="80802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95959"/>
                </a:solidFill>
                <a:latin typeface="Calibri"/>
              </a:rPr>
              <a:t>Kloster Banz 11.09.2013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742680" y="6000480"/>
            <a:ext cx="808812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Presented by Arno Fiedler,  Member of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E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uropean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T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elecommunications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S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tandards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I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nstitute</a:t>
            </a:r>
            <a:br>
              <a:rPr sz="1600"/>
            </a:b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Electronic Signatures and Infrastructures, Specialist Task Force 458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5. Summary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9" name="Fußzeilenplatzhalt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3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oliennummernplatzhalt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BAD2-F118-4EB3-9D84-2BA78CBED3B1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hteck 5"/>
          <p:cNvSpPr/>
          <p:nvPr/>
        </p:nvSpPr>
        <p:spPr>
          <a:xfrm>
            <a:off x="392040" y="2357280"/>
            <a:ext cx="86108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he new draft EU-Regulation will deliver a complete legal and trust framework for 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Proactive Supervision 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on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qualified level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br>
              <a:rPr sz="2400"/>
            </a:br>
            <a:r>
              <a:rPr b="0" lang="de-DE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TSI and CEN standards will be a fundamental part in future EU legislation (delegating acts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).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but: </a:t>
            </a:r>
            <a:br>
              <a:rPr sz="2400"/>
            </a:b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relying parties (in Europe!) have to consume the Trust we provide</a:t>
            </a: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Thank you !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TSI Download 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da.etsi.org/pda/queryform.asp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nter keyword / title /  document numb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Draft EU Regulation:</a:t>
            </a:r>
            <a:br>
              <a:rPr sz="2400"/>
            </a:b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ur-lex.europa.eu/LexUriServ/LexUriServ.do?uri=COM:2012:0238:FIN:EN:PDF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Contact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Arno Fiedler: STF 458 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arno.fiedler@nimbus-berlin.co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Iñigo Barreira: STF 458 </a:t>
            </a:r>
            <a:r>
              <a:rPr b="0" lang="es-ES" sz="2000" spc="-1" strike="noStrike" u="sng">
                <a:solidFill>
                  <a:srgbClr val="254061"/>
                </a:solidFill>
                <a:uFillTx/>
                <a:latin typeface="Calibri"/>
              </a:rPr>
              <a:t>i-barreira@izenpe.net</a:t>
            </a:r>
            <a:br>
              <a:rPr sz="2000"/>
            </a:b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Nick Pope: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ead STF 458 (TSP &amp; e-Signature standards) </a:t>
            </a:r>
            <a:br>
              <a:rPr sz="20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nick.pope@thales-esecurity.co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4" name="Footer Placeholder 3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lide Number Placeholder 4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E718-EEB9-4A0A-9768-BDA38B07D2CF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ußzeilenplatzhalter 1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oliennummernplatzhalter 2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5ECA-8192-43CF-A186-9A358FE51F81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Diagramm 3" descr=""/>
          <p:cNvPicPr/>
          <p:nvPr/>
        </p:nvPicPr>
        <p:blipFill>
          <a:blip r:embed="rId1"/>
          <a:stretch/>
        </p:blipFill>
        <p:spPr>
          <a:xfrm>
            <a:off x="476280" y="1359000"/>
            <a:ext cx="8028000" cy="4992480"/>
          </a:xfrm>
          <a:prstGeom prst="rect">
            <a:avLst/>
          </a:prstGeom>
          <a:ln w="0">
            <a:noFill/>
          </a:ln>
        </p:spPr>
      </p:pic>
      <p:sp>
        <p:nvSpPr>
          <p:cNvPr id="849" name="Rechteck 5"/>
          <p:cNvSpPr/>
          <p:nvPr/>
        </p:nvSpPr>
        <p:spPr>
          <a:xfrm>
            <a:off x="457200" y="212760"/>
            <a:ext cx="623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. Assessment &amp; Certification –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    Actual (Best) Practise for SS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Fußzeilenplatzhalter 1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oliennummernplatzhalter 2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377B-4B25-4C1C-85E4-405EA4DCB449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Diagramm 3" descr=""/>
          <p:cNvPicPr/>
          <p:nvPr/>
        </p:nvPicPr>
        <p:blipFill>
          <a:blip r:embed="rId1"/>
          <a:stretch/>
        </p:blipFill>
        <p:spPr>
          <a:xfrm>
            <a:off x="549360" y="1359000"/>
            <a:ext cx="7924680" cy="4992480"/>
          </a:xfrm>
          <a:prstGeom prst="rect">
            <a:avLst/>
          </a:prstGeom>
          <a:ln w="0">
            <a:noFill/>
          </a:ln>
        </p:spPr>
      </p:pic>
      <p:sp>
        <p:nvSpPr>
          <p:cNvPr id="853" name="Rechteck 5"/>
          <p:cNvSpPr/>
          <p:nvPr/>
        </p:nvSpPr>
        <p:spPr>
          <a:xfrm>
            <a:off x="266760" y="185760"/>
            <a:ext cx="65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. Assessment &amp; Certification –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actual TSP Perspective 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(german examp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63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1. ETSI activitie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054D-8B7F-4086-9701-800804967554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Text Box 13"/>
          <p:cNvGrpSpPr/>
          <p:nvPr/>
        </p:nvGrpSpPr>
        <p:grpSpPr>
          <a:xfrm>
            <a:off x="463680" y="3067200"/>
            <a:ext cx="2749320" cy="876240"/>
            <a:chOff x="463680" y="3067200"/>
            <a:chExt cx="2749320" cy="876240"/>
          </a:xfrm>
        </p:grpSpPr>
        <p:pic>
          <p:nvPicPr>
            <p:cNvPr id="743" name="Text Box 13" descr=""/>
            <p:cNvPicPr/>
            <p:nvPr/>
          </p:nvPicPr>
          <p:blipFill>
            <a:blip r:embed="rId1"/>
            <a:stretch/>
          </p:blipFill>
          <p:spPr>
            <a:xfrm>
              <a:off x="463680" y="3067200"/>
              <a:ext cx="274932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538200" y="3129120"/>
              <a:ext cx="255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tandards in support of EU reg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AutoShape 7"/>
          <p:cNvGrpSpPr/>
          <p:nvPr/>
        </p:nvGrpSpPr>
        <p:grpSpPr>
          <a:xfrm>
            <a:off x="2925720" y="2414520"/>
            <a:ext cx="1079640" cy="822240"/>
            <a:chOff x="2925720" y="2414520"/>
            <a:chExt cx="1079640" cy="822240"/>
          </a:xfrm>
        </p:grpSpPr>
        <p:pic>
          <p:nvPicPr>
            <p:cNvPr id="746" name="AutoShape 7" descr=""/>
            <p:cNvPicPr/>
            <p:nvPr/>
          </p:nvPicPr>
          <p:blipFill>
            <a:blip r:embed="rId2"/>
            <a:stretch/>
          </p:blipFill>
          <p:spPr>
            <a:xfrm>
              <a:off x="2925720" y="2414520"/>
              <a:ext cx="107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 rot="12693600">
              <a:off x="3025440" y="2805840"/>
              <a:ext cx="96516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8" name="Picture 5" descr="MPj03994060000[1]"/>
          <p:cNvPicPr/>
          <p:nvPr/>
        </p:nvPicPr>
        <p:blipFill>
          <a:blip r:embed="rId3"/>
          <a:stretch/>
        </p:blipFill>
        <p:spPr>
          <a:xfrm>
            <a:off x="914400" y="1725480"/>
            <a:ext cx="1762200" cy="13827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4" descr="Globe-for-Web.jpg Shipping Worldewide image by Darmon9"/>
          <p:cNvPicPr/>
          <p:nvPr/>
        </p:nvPicPr>
        <p:blipFill>
          <a:blip r:embed="rId4"/>
          <a:stretch/>
        </p:blipFill>
        <p:spPr>
          <a:xfrm>
            <a:off x="6499080" y="1704960"/>
            <a:ext cx="1622520" cy="1565280"/>
          </a:xfrm>
          <a:prstGeom prst="rect">
            <a:avLst/>
          </a:prstGeom>
          <a:ln w="0">
            <a:noFill/>
          </a:ln>
        </p:spPr>
      </p:pic>
      <p:grpSp>
        <p:nvGrpSpPr>
          <p:cNvPr id="750" name="Text Box 15"/>
          <p:cNvGrpSpPr/>
          <p:nvPr/>
        </p:nvGrpSpPr>
        <p:grpSpPr>
          <a:xfrm>
            <a:off x="3529080" y="5114880"/>
            <a:ext cx="2262240" cy="871560"/>
            <a:chOff x="3529080" y="5114880"/>
            <a:chExt cx="2262240" cy="871560"/>
          </a:xfrm>
        </p:grpSpPr>
        <p:pic>
          <p:nvPicPr>
            <p:cNvPr id="751" name="Text Box 15" descr=""/>
            <p:cNvPicPr/>
            <p:nvPr/>
          </p:nvPicPr>
          <p:blipFill>
            <a:blip r:embed="rId5"/>
            <a:stretch/>
          </p:blipFill>
          <p:spPr>
            <a:xfrm>
              <a:off x="3529080" y="5114880"/>
              <a:ext cx="2262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3584520" y="5173560"/>
              <a:ext cx="21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Interoperabilit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Text Box 12"/>
          <p:cNvGrpSpPr/>
          <p:nvPr/>
        </p:nvGrpSpPr>
        <p:grpSpPr>
          <a:xfrm>
            <a:off x="6076800" y="3139920"/>
            <a:ext cx="2451240" cy="871560"/>
            <a:chOff x="6076800" y="3139920"/>
            <a:chExt cx="2451240" cy="871560"/>
          </a:xfrm>
        </p:grpSpPr>
        <p:pic>
          <p:nvPicPr>
            <p:cNvPr id="754" name="Text Box 12" descr=""/>
            <p:cNvPicPr/>
            <p:nvPr/>
          </p:nvPicPr>
          <p:blipFill>
            <a:blip r:embed="rId6"/>
            <a:stretch/>
          </p:blipFill>
          <p:spPr>
            <a:xfrm>
              <a:off x="6076800" y="3139920"/>
              <a:ext cx="2451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6149880" y="3200400"/>
              <a:ext cx="230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tandards for global ICT mark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AutoShape 7"/>
          <p:cNvGrpSpPr/>
          <p:nvPr/>
        </p:nvGrpSpPr>
        <p:grpSpPr>
          <a:xfrm>
            <a:off x="4492800" y="4065480"/>
            <a:ext cx="347400" cy="1067040"/>
            <a:chOff x="4492800" y="4065480"/>
            <a:chExt cx="347400" cy="1067040"/>
          </a:xfrm>
        </p:grpSpPr>
        <p:pic>
          <p:nvPicPr>
            <p:cNvPr id="757" name="AutoShape 7" descr=""/>
            <p:cNvPicPr/>
            <p:nvPr/>
          </p:nvPicPr>
          <p:blipFill>
            <a:blip r:embed="rId7"/>
            <a:stretch/>
          </p:blipFill>
          <p:spPr>
            <a:xfrm>
              <a:off x="4492800" y="4065480"/>
              <a:ext cx="347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 rot="5400000">
              <a:off x="4234320" y="4484160"/>
              <a:ext cx="8636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AutoShape 7"/>
          <p:cNvGrpSpPr/>
          <p:nvPr/>
        </p:nvGrpSpPr>
        <p:grpSpPr>
          <a:xfrm>
            <a:off x="5450040" y="2414520"/>
            <a:ext cx="1090440" cy="798480"/>
            <a:chOff x="5450040" y="2414520"/>
            <a:chExt cx="1090440" cy="798480"/>
          </a:xfrm>
        </p:grpSpPr>
        <p:pic>
          <p:nvPicPr>
            <p:cNvPr id="760" name="AutoShape 7" descr=""/>
            <p:cNvPicPr/>
            <p:nvPr/>
          </p:nvPicPr>
          <p:blipFill>
            <a:blip r:embed="rId8"/>
            <a:stretch/>
          </p:blipFill>
          <p:spPr>
            <a:xfrm>
              <a:off x="5450040" y="2414520"/>
              <a:ext cx="10904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 rot="19785600">
              <a:off x="5467320" y="2792520"/>
              <a:ext cx="96516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2" name="Picture 14" descr="PLUGTESTS.jpg"/>
          <p:cNvPicPr/>
          <p:nvPr/>
        </p:nvPicPr>
        <p:blipFill>
          <a:blip r:embed="rId9"/>
          <a:stretch/>
        </p:blipFill>
        <p:spPr>
          <a:xfrm>
            <a:off x="3629160" y="5854680"/>
            <a:ext cx="2033280" cy="5652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13" descr="ETSI Logo_S_Office1.jpg"/>
          <p:cNvPicPr/>
          <p:nvPr/>
        </p:nvPicPr>
        <p:blipFill>
          <a:blip r:embed="rId10"/>
          <a:stretch/>
        </p:blipFill>
        <p:spPr>
          <a:xfrm>
            <a:off x="3340080" y="3159000"/>
            <a:ext cx="2625840" cy="846360"/>
          </a:xfrm>
          <a:prstGeom prst="rect">
            <a:avLst/>
          </a:prstGeom>
          <a:ln w="0">
            <a:noFill/>
          </a:ln>
        </p:spPr>
      </p:pic>
      <p:sp>
        <p:nvSpPr>
          <p:cNvPr id="764" name="מציין מיקום של כותרת תחתונה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eb4e3"/>
                </a:solidFill>
                <a:latin typeface="Arial"/>
              </a:rPr>
              <a:t>© ETSI 2012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hteck 1"/>
          <p:cNvSpPr/>
          <p:nvPr/>
        </p:nvSpPr>
        <p:spPr>
          <a:xfrm>
            <a:off x="2838600" y="157320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M, DECT, TETRA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: UMTS, LT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:TSL, XAdES, PAdES, 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76120" y="0"/>
            <a:ext cx="8229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1. ETSI Electronic Signatures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and Infrastructures (ESI) TC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14480" y="1402920"/>
            <a:ext cx="885816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nce 2000 ETSI/ESI plays a key role in the development of electronic signature related standard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Signature formats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: XAdES (TS 101 903) -&gt;ISO, CAdES (TS 101 733) -&gt;ISO, PAdES (TS 102 778) -&gt;ISO and ASiC (TS 102 918) and related profil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rust Service Provider (TSP) Status Information (TSL, TS 102 231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olicy requirements for CAs: TS 102 042, TS 101 456 (</a:t>
            </a: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Qual. Cert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.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SA policy requirements: TS 102 023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ertificate profiles: TS 101 862 (Qual. Cert.), TS 102 280 (Nat. Person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Registered Electronic Mail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(eDelivery): TS 102 640 (multipart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ata preservation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: TS 101 533-1, TR 101 533-2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lgo paper: TS 102 17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ollaborates with ETSI CTI, Centre for Testing and Interoperability for Plugtests event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OI with CA/B-Forum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Segnaposto numero diapositiva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AE8F-3A4B-4692-9C37-D53C989FAC9D}" type="slidenum">
              <a:rPr b="0" lang="it-IT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Group 33"/>
          <p:cNvGrpSpPr/>
          <p:nvPr/>
        </p:nvGrpSpPr>
        <p:grpSpPr>
          <a:xfrm>
            <a:off x="552600" y="3929040"/>
            <a:ext cx="8108640" cy="2305080"/>
            <a:chOff x="552600" y="3929040"/>
            <a:chExt cx="8108640" cy="2305080"/>
          </a:xfrm>
        </p:grpSpPr>
        <p:sp>
          <p:nvSpPr>
            <p:cNvPr id="770" name="Rounded Rectangle 24"/>
            <p:cNvSpPr/>
            <p:nvPr/>
          </p:nvSpPr>
          <p:spPr>
            <a:xfrm>
              <a:off x="552600" y="3929040"/>
              <a:ext cx="8108640" cy="230508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Group 31"/>
            <p:cNvGrpSpPr/>
            <p:nvPr/>
          </p:nvGrpSpPr>
          <p:grpSpPr>
            <a:xfrm>
              <a:off x="2443320" y="4036680"/>
              <a:ext cx="4298040" cy="649800"/>
              <a:chOff x="2443320" y="4036680"/>
              <a:chExt cx="4298040" cy="649800"/>
            </a:xfrm>
          </p:grpSpPr>
          <p:sp>
            <p:nvSpPr>
              <p:cNvPr id="772" name="Rectangle 98"/>
              <p:cNvSpPr/>
              <p:nvPr/>
            </p:nvSpPr>
            <p:spPr>
              <a:xfrm>
                <a:off x="2579400" y="4036680"/>
                <a:ext cx="4119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d0d0d"/>
                    </a:solidFill>
                    <a:latin typeface="Arial"/>
                    <a:ea typeface="Arial"/>
                  </a:rPr>
                  <a:t>Consistency &amp; formal (efficient) mapp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3" name="Group 19"/>
              <p:cNvGrpSpPr/>
              <p:nvPr/>
            </p:nvGrpSpPr>
            <p:grpSpPr>
              <a:xfrm>
                <a:off x="2443320" y="4272840"/>
                <a:ext cx="4298040" cy="413640"/>
                <a:chOff x="2443320" y="4272840"/>
                <a:chExt cx="4298040" cy="413640"/>
              </a:xfrm>
            </p:grpSpPr>
            <p:sp>
              <p:nvSpPr>
                <p:cNvPr id="774" name="Left-Right Arrow 28"/>
                <p:cNvSpPr/>
                <p:nvPr/>
              </p:nvSpPr>
              <p:spPr>
                <a:xfrm rot="18837600">
                  <a:off x="2438640" y="4399200"/>
                  <a:ext cx="412920" cy="163440"/>
                </a:xfrm>
                <a:prstGeom prst="leftRightArrow">
                  <a:avLst>
                    <a:gd name="adj1" fmla="val 50000"/>
                    <a:gd name="adj2" fmla="val 35089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Left-Right Arrow 29"/>
                <p:cNvSpPr/>
                <p:nvPr/>
              </p:nvSpPr>
              <p:spPr>
                <a:xfrm flipH="1" rot="2762400">
                  <a:off x="6332400" y="4396320"/>
                  <a:ext cx="412920" cy="163800"/>
                </a:xfrm>
                <a:prstGeom prst="leftRightArrow">
                  <a:avLst>
                    <a:gd name="adj1" fmla="val 50000"/>
                    <a:gd name="adj2" fmla="val 35012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Left-Right Arrow 30"/>
                <p:cNvSpPr/>
                <p:nvPr/>
              </p:nvSpPr>
              <p:spPr>
                <a:xfrm rot="16200000">
                  <a:off x="4376160" y="4412520"/>
                  <a:ext cx="299880" cy="163440"/>
                </a:xfrm>
                <a:prstGeom prst="leftRightArrow">
                  <a:avLst>
                    <a:gd name="adj1" fmla="val 50000"/>
                    <a:gd name="adj2" fmla="val 35048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77" name="Rectangle 3"/>
          <p:cNvSpPr/>
          <p:nvPr/>
        </p:nvSpPr>
        <p:spPr>
          <a:xfrm>
            <a:off x="0" y="1246320"/>
            <a:ext cx="89647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alizations, consistency and mapping of efficient Legal, Technical, Trust and Promotional frameworks are key success factors to convince market &amp; business stakeholders of the possible ROI of eSignatures securing their e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Group 20"/>
          <p:cNvGrpSpPr/>
          <p:nvPr/>
        </p:nvGrpSpPr>
        <p:grpSpPr>
          <a:xfrm>
            <a:off x="2786040" y="4722840"/>
            <a:ext cx="3600360" cy="1511280"/>
            <a:chOff x="2786040" y="4722840"/>
            <a:chExt cx="3600360" cy="1511280"/>
          </a:xfrm>
        </p:grpSpPr>
        <p:sp>
          <p:nvSpPr>
            <p:cNvPr id="779" name="Rounded Rectangle 6"/>
            <p:cNvSpPr/>
            <p:nvPr/>
          </p:nvSpPr>
          <p:spPr>
            <a:xfrm>
              <a:off x="2786040" y="4722840"/>
              <a:ext cx="360036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98"/>
            <p:cNvSpPr/>
            <p:nvPr/>
          </p:nvSpPr>
          <p:spPr>
            <a:xfrm>
              <a:off x="2912760" y="4794120"/>
              <a:ext cx="3373560" cy="13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tandardization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Covering whole range of ES prod / serv., ES types and types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Business practice driv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Appropriate guid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International 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98"/>
          <p:cNvSpPr/>
          <p:nvPr/>
        </p:nvSpPr>
        <p:spPr>
          <a:xfrm>
            <a:off x="2739960" y="2333520"/>
            <a:ext cx="371484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50"/>
                </a:solidFill>
                <a:latin typeface="Arial"/>
              </a:rPr>
              <a:t>Sound CSPs &amp;Trust Services Provisioning market for interoperable and cross-border use eSign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22"/>
          <p:cNvGrpSpPr/>
          <p:nvPr/>
        </p:nvGrpSpPr>
        <p:grpSpPr>
          <a:xfrm>
            <a:off x="6500880" y="4722840"/>
            <a:ext cx="2359080" cy="1511280"/>
            <a:chOff x="6500880" y="4722840"/>
            <a:chExt cx="2359080" cy="1511280"/>
          </a:xfrm>
        </p:grpSpPr>
        <p:sp>
          <p:nvSpPr>
            <p:cNvPr id="783" name="Rounded Rectangle 10"/>
            <p:cNvSpPr/>
            <p:nvPr/>
          </p:nvSpPr>
          <p:spPr>
            <a:xfrm>
              <a:off x="6500880" y="4722840"/>
              <a:ext cx="235908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98"/>
            <p:cNvSpPr/>
            <p:nvPr/>
          </p:nvSpPr>
          <p:spPr>
            <a:xfrm>
              <a:off x="6659640" y="4786200"/>
              <a:ext cx="2001960" cy="13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Trust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Supervision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Voluntary accredit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Trust Status Li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Application label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Rectangle 2"/>
          <p:cNvSpPr/>
          <p:nvPr/>
        </p:nvSpPr>
        <p:spPr>
          <a:xfrm>
            <a:off x="357120" y="81000"/>
            <a:ext cx="77724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2. Crobies Study in 2010: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Key success factors for eSign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32"/>
          <p:cNvGrpSpPr/>
          <p:nvPr/>
        </p:nvGrpSpPr>
        <p:grpSpPr>
          <a:xfrm>
            <a:off x="3535200" y="3137040"/>
            <a:ext cx="1965600" cy="755640"/>
            <a:chOff x="3535200" y="3137040"/>
            <a:chExt cx="1965600" cy="755640"/>
          </a:xfrm>
        </p:grpSpPr>
        <p:sp>
          <p:nvSpPr>
            <p:cNvPr id="787" name="Down Arrow 25"/>
            <p:cNvSpPr/>
            <p:nvPr/>
          </p:nvSpPr>
          <p:spPr>
            <a:xfrm flipV="1">
              <a:off x="4392720" y="3137040"/>
              <a:ext cx="179280" cy="720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92d050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98"/>
            <p:cNvSpPr/>
            <p:nvPr/>
          </p:nvSpPr>
          <p:spPr>
            <a:xfrm>
              <a:off x="3535200" y="3344760"/>
              <a:ext cx="196560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Promo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19"/>
          <p:cNvGrpSpPr/>
          <p:nvPr/>
        </p:nvGrpSpPr>
        <p:grpSpPr>
          <a:xfrm>
            <a:off x="285840" y="4721400"/>
            <a:ext cx="2340000" cy="1511280"/>
            <a:chOff x="285840" y="4721400"/>
            <a:chExt cx="2340000" cy="1511280"/>
          </a:xfrm>
        </p:grpSpPr>
        <p:sp>
          <p:nvSpPr>
            <p:cNvPr id="790" name="Rounded Rectangle 22"/>
            <p:cNvSpPr/>
            <p:nvPr/>
          </p:nvSpPr>
          <p:spPr>
            <a:xfrm>
              <a:off x="285840" y="4721400"/>
              <a:ext cx="234000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98"/>
            <p:cNvSpPr/>
            <p:nvPr/>
          </p:nvSpPr>
          <p:spPr>
            <a:xfrm>
              <a:off x="357120" y="4765680"/>
              <a:ext cx="2203560" cy="14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Legal 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Different level of 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Range of ES prod/serv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Different types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International 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3.1 New approach for legal framework: </a:t>
            </a:r>
            <a:br>
              <a:rPr sz="2800"/>
            </a:b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Draft EU EIDAS- Regulation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3" name="Footer Placehold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9EFE-7544-4AEF-80CA-3FB5E8E695CC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6840" y="1272960"/>
            <a:ext cx="85359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June 2012 – EU Commission publish </a:t>
            </a:r>
            <a:r>
              <a:rPr b="0" lang="en-GB" sz="2400" spc="-1" strike="noStrike" u="sng">
                <a:solidFill>
                  <a:srgbClr val="404040"/>
                </a:solidFill>
                <a:uFillTx/>
                <a:latin typeface="Calibri"/>
              </a:rPr>
              <a:t>first draft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regulation </a:t>
            </a:r>
            <a:br>
              <a:rPr sz="2400"/>
            </a:b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on electronic identification and trust services for electronic transactions in the internal market</a:t>
            </a: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Added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Mutual recognition of electronic identification [E-ID]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xtended Supervision of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Certification Service Providers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o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rust Service Providers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, includes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proactive supervision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Qualified Electronic trust service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signatures interoperability and usability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seals interoperability and usability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ime stamping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delivery service,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documents admissibility,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Website authentication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76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3.2 Standards Framework I:</a:t>
            </a:r>
            <a:br>
              <a:rPr sz="2800"/>
            </a:b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M460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uropean</a:t>
            </a: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 Commission mandat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61800" y="164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C founded eSignatures standardization activiti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4 years: 2011-2015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1st phase (executed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efinition of a rationalized standardization framework, in collaboration with CE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ral specifications upgrades primarily aimed at providing quick technical fixes to existing electronic signatures standards, and definition of test specific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2nd phase (now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mplement the rationalized standardization framework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support the new EU Regulation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on electronic identification and trust services for electronic transactions in the internal market (exp. approval in 2014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liennummernplatzhalter 3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095D-BE68-45D7-9BD6-28030A849485}" type="slidenum">
              <a:rPr b="0" lang="en-GB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1f497d"/>
                </a:solidFill>
                <a:latin typeface="Calibri"/>
              </a:rPr>
              <a:t>3.2 Standards Framework II</a:t>
            </a:r>
            <a:br>
              <a:rPr sz="2800"/>
            </a:br>
            <a:r>
              <a:rPr b="1" lang="de-AT" sz="2800" spc="-1" strike="noStrike">
                <a:solidFill>
                  <a:srgbClr val="1f497d"/>
                </a:solidFill>
                <a:latin typeface="Calibri"/>
              </a:rPr>
              <a:t>Mandate/460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800" name="Group 41"/>
          <p:cNvGrpSpPr/>
          <p:nvPr/>
        </p:nvGrpSpPr>
        <p:grpSpPr>
          <a:xfrm>
            <a:off x="2354400" y="3814920"/>
            <a:ext cx="4363920" cy="1357200"/>
            <a:chOff x="2354400" y="3814920"/>
            <a:chExt cx="4363920" cy="1357200"/>
          </a:xfrm>
        </p:grpSpPr>
        <p:sp>
          <p:nvSpPr>
            <p:cNvPr id="801" name="Rectangle 5"/>
            <p:cNvSpPr/>
            <p:nvPr/>
          </p:nvSpPr>
          <p:spPr>
            <a:xfrm>
              <a:off x="2354400" y="3814920"/>
              <a:ext cx="4363920" cy="13572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Box 7"/>
            <p:cNvSpPr/>
            <p:nvPr/>
          </p:nvSpPr>
          <p:spPr>
            <a:xfrm>
              <a:off x="2782800" y="4243320"/>
              <a:ext cx="357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ignature Cre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&amp; Valid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34"/>
            <p:cNvSpPr/>
            <p:nvPr/>
          </p:nvSpPr>
          <p:spPr>
            <a:xfrm>
              <a:off x="4367160" y="390528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Group 42"/>
          <p:cNvGrpSpPr/>
          <p:nvPr/>
        </p:nvGrpSpPr>
        <p:grpSpPr>
          <a:xfrm>
            <a:off x="2155680" y="5386320"/>
            <a:ext cx="2198880" cy="642960"/>
            <a:chOff x="2155680" y="5386320"/>
            <a:chExt cx="2198880" cy="642960"/>
          </a:xfrm>
        </p:grpSpPr>
        <p:sp>
          <p:nvSpPr>
            <p:cNvPr id="805" name="Rectangle 9"/>
            <p:cNvSpPr/>
            <p:nvPr/>
          </p:nvSpPr>
          <p:spPr>
            <a:xfrm>
              <a:off x="2350800" y="5386320"/>
              <a:ext cx="2003760" cy="642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Box 11"/>
            <p:cNvSpPr/>
            <p:nvPr/>
          </p:nvSpPr>
          <p:spPr>
            <a:xfrm>
              <a:off x="2155680" y="5386320"/>
              <a:ext cx="216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ignatur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reation Dev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35"/>
            <p:cNvSpPr/>
            <p:nvPr/>
          </p:nvSpPr>
          <p:spPr>
            <a:xfrm>
              <a:off x="4003920" y="544176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43"/>
          <p:cNvGrpSpPr/>
          <p:nvPr/>
        </p:nvGrpSpPr>
        <p:grpSpPr>
          <a:xfrm>
            <a:off x="4716360" y="5415120"/>
            <a:ext cx="2156040" cy="642960"/>
            <a:chOff x="4716360" y="5415120"/>
            <a:chExt cx="2156040" cy="642960"/>
          </a:xfrm>
        </p:grpSpPr>
        <p:sp>
          <p:nvSpPr>
            <p:cNvPr id="809" name="Rectangle 13"/>
            <p:cNvSpPr/>
            <p:nvPr/>
          </p:nvSpPr>
          <p:spPr>
            <a:xfrm>
              <a:off x="4716360" y="5415120"/>
              <a:ext cx="2002320" cy="642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Box 12"/>
            <p:cNvSpPr/>
            <p:nvPr/>
          </p:nvSpPr>
          <p:spPr>
            <a:xfrm>
              <a:off x="4881960" y="5415120"/>
              <a:ext cx="1990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ryptographic Sui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36"/>
            <p:cNvSpPr/>
            <p:nvPr/>
          </p:nvSpPr>
          <p:spPr>
            <a:xfrm>
              <a:off x="4790880" y="5470560"/>
              <a:ext cx="28872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Group 46"/>
          <p:cNvGrpSpPr/>
          <p:nvPr/>
        </p:nvGrpSpPr>
        <p:grpSpPr>
          <a:xfrm>
            <a:off x="4697280" y="2970360"/>
            <a:ext cx="2211480" cy="699840"/>
            <a:chOff x="4697280" y="2970360"/>
            <a:chExt cx="2211480" cy="699840"/>
          </a:xfrm>
        </p:grpSpPr>
        <p:sp>
          <p:nvSpPr>
            <p:cNvPr id="813" name="Rectangle 17"/>
            <p:cNvSpPr/>
            <p:nvPr/>
          </p:nvSpPr>
          <p:spPr>
            <a:xfrm>
              <a:off x="4697280" y="2986200"/>
              <a:ext cx="2036880" cy="684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Box 9"/>
            <p:cNvSpPr/>
            <p:nvPr/>
          </p:nvSpPr>
          <p:spPr>
            <a:xfrm>
              <a:off x="4781520" y="2970360"/>
              <a:ext cx="2127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st 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ervice 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37"/>
            <p:cNvSpPr/>
            <p:nvPr/>
          </p:nvSpPr>
          <p:spPr>
            <a:xfrm>
              <a:off x="4755960" y="333360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45"/>
          <p:cNvGrpSpPr/>
          <p:nvPr/>
        </p:nvGrpSpPr>
        <p:grpSpPr>
          <a:xfrm>
            <a:off x="2351160" y="2941560"/>
            <a:ext cx="2003400" cy="700200"/>
            <a:chOff x="2351160" y="2941560"/>
            <a:chExt cx="2003400" cy="700200"/>
          </a:xfrm>
        </p:grpSpPr>
        <p:sp>
          <p:nvSpPr>
            <p:cNvPr id="817" name="Rectangle 21"/>
            <p:cNvSpPr/>
            <p:nvPr/>
          </p:nvSpPr>
          <p:spPr>
            <a:xfrm>
              <a:off x="2352600" y="2957400"/>
              <a:ext cx="2001960" cy="684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Box 8"/>
            <p:cNvSpPr/>
            <p:nvPr/>
          </p:nvSpPr>
          <p:spPr>
            <a:xfrm>
              <a:off x="2351160" y="2941560"/>
              <a:ext cx="1945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SPs supporting eSigna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38"/>
            <p:cNvSpPr/>
            <p:nvPr/>
          </p:nvSpPr>
          <p:spPr>
            <a:xfrm>
              <a:off x="4003920" y="3305160"/>
              <a:ext cx="28872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44"/>
          <p:cNvGrpSpPr/>
          <p:nvPr/>
        </p:nvGrpSpPr>
        <p:grpSpPr>
          <a:xfrm>
            <a:off x="2139840" y="1890720"/>
            <a:ext cx="4746600" cy="885960"/>
            <a:chOff x="2139840" y="1890720"/>
            <a:chExt cx="4746600" cy="885960"/>
          </a:xfrm>
        </p:grpSpPr>
        <p:sp>
          <p:nvSpPr>
            <p:cNvPr id="821" name="Rectangle 25"/>
            <p:cNvSpPr/>
            <p:nvPr/>
          </p:nvSpPr>
          <p:spPr>
            <a:xfrm>
              <a:off x="2352240" y="2057400"/>
              <a:ext cx="4381560" cy="719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Box 10"/>
            <p:cNvSpPr/>
            <p:nvPr/>
          </p:nvSpPr>
          <p:spPr>
            <a:xfrm>
              <a:off x="2139840" y="2255760"/>
              <a:ext cx="474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st Service Status Lists 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39"/>
            <p:cNvSpPr/>
            <p:nvPr/>
          </p:nvSpPr>
          <p:spPr>
            <a:xfrm>
              <a:off x="4289400" y="1890720"/>
              <a:ext cx="287280" cy="2890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TextBox 47"/>
          <p:cNvSpPr/>
          <p:nvPr/>
        </p:nvSpPr>
        <p:spPr>
          <a:xfrm>
            <a:off x="332640" y="3868560"/>
            <a:ext cx="1739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ules &amp;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Forma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ature Creation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 / Va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rotection Pro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47"/>
          <p:cNvSpPr/>
          <p:nvPr/>
        </p:nvSpPr>
        <p:spPr>
          <a:xfrm>
            <a:off x="6898680" y="3749760"/>
            <a:ext cx="1996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XAdES (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CAdES (C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AdES (PD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dES in Mobile envm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SiC (contain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47"/>
          <p:cNvSpPr/>
          <p:nvPr/>
        </p:nvSpPr>
        <p:spPr>
          <a:xfrm>
            <a:off x="332280" y="5365800"/>
            <a:ext cx="171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Made by CE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SCDs (e.g. 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SMs &amp; other S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47"/>
          <p:cNvSpPr/>
          <p:nvPr/>
        </p:nvSpPr>
        <p:spPr>
          <a:xfrm>
            <a:off x="6849360" y="5176800"/>
            <a:ext cx="189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ey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as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ature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ey 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47"/>
          <p:cNvSpPr/>
          <p:nvPr/>
        </p:nvSpPr>
        <p:spPr>
          <a:xfrm>
            <a:off x="6843600" y="2868480"/>
            <a:ext cx="2079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egistered 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ong term pre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47"/>
          <p:cNvSpPr/>
          <p:nvPr/>
        </p:nvSpPr>
        <p:spPr>
          <a:xfrm>
            <a:off x="326160" y="2819520"/>
            <a:ext cx="172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Issuing certific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Time-sta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ing Ser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Validation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47"/>
          <p:cNvSpPr/>
          <p:nvPr/>
        </p:nvSpPr>
        <p:spPr>
          <a:xfrm>
            <a:off x="6900480" y="1625760"/>
            <a:ext cx="1950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ist of TSP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pproved (supervi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by National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(e.g. Trusted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009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AFTER Mandate 460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Object 2" descr=""/>
          <p:cNvPicPr/>
          <p:nvPr/>
        </p:nvPicPr>
        <p:blipFill>
          <a:blip r:embed="rId1"/>
          <a:stretch/>
        </p:blipFill>
        <p:spPr>
          <a:xfrm>
            <a:off x="671400" y="1268280"/>
            <a:ext cx="7783560" cy="55897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4. Next Steps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5" name="Footer Placehold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BB09-CF94-4F21-8E96-CDA440C2BD0C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6840" y="1377720"/>
            <a:ext cx="8528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n Spring 2013 EU Commission published new 2nd draft regulation “on electronic identification and trust services for electronic transactions in the internal market”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Under EU Mandate 460 (2013 to 2015) ETSI commissioned to produc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uropean Norm for TSP Conformity Assessme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uropean Norms for Best Practices (Policy Requiremen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Certificates for Personal Sign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Certificates for organisational </a:t>
            </a:r>
            <a:r>
              <a:rPr b="0" lang="ja-JP" sz="20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seals</a:t>
            </a:r>
            <a:r>
              <a:rPr b="0" lang="ja-JP" sz="20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Time-stamping Servic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Website Certificates  (should be EN 319 411-4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…………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52:04Z</dcterms:created>
  <dc:creator>Arno Fiedler</dc:creator>
  <dc:description/>
  <dc:language>en-US</dc:language>
  <cp:lastModifiedBy>Arno Fiedler</cp:lastModifiedBy>
  <cp:lastPrinted>2012-04-17T12:11:33Z</cp:lastPrinted>
  <dcterms:modified xsi:type="dcterms:W3CDTF">2013-09-09T15:18:08Z</dcterms:modified>
  <cp:revision>784</cp:revision>
  <dc:subject/>
  <dc:title>Slide 1</dc:title>
</cp:coreProperties>
</file>