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4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2.png" ContentType="image/png"/>
  <Override PartName="/ppt/media/image2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dt" idx="34"/>
          </p:nvPr>
        </p:nvSpPr>
        <p:spPr>
          <a:xfrm>
            <a:off x="402120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ftr" idx="35"/>
          </p:nvPr>
        </p:nvSpPr>
        <p:spPr>
          <a:xfrm>
            <a:off x="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 type="sldNum" idx="36"/>
          </p:nvPr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EF8F1AA9-CE6E-4451-B251-97411621CF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9805376C-921E-48A7-A8D0-AF252B4E40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f the published ETSI documents mentioned in this presentation are available for download via the ETSI download page.  Just enter the TS number of key words from the ti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questions feel free to contact myself (standards) , or Olivier Delos (regul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more formal statement on questions regarding the regulation contact Gerard Galler of the EU commi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9C479968-3936-4221-B418-F74B4407AB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1DA2A90B-2241-47B1-9ECF-A922516619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344A136-8A2B-4EF4-80A0-27E231C3FA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3 main dimensions to its activ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is a recognized European Standards Organization and as such can produce standards supporting European reg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also become highly-respected as a producer of technical standards for worldwide use. Many ETSI standards answer global ICT mark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nally ETSI has defined testing methodologies and a testing language (TTCN). ETSI also runs interoperability test events. Those even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pportunity for companies to test their prototypes against a standard with their partners and competit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ancing the quality of specif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eeding up the standardiz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ucing time to mark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orting the deployment of a techn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21A29FA-E5CB-4473-B695-96124B82DA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ing that the EU Directive 1999/93 on E-Signatures was getting out of date and had not achieved full EU harmonization the EU Commission has issued a new Draft reg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ope of this document is wider that the Directive covering a range of “Trust Services” required for electronic online services across Europe.  It is aimed at achieving a greater degree of harmony between EU N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raft regulation is under discussion in the council of ministers.  There is agreement with the general principles of the new regulation but significant discussion on the details i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d that a new draft may be produced under the Irish presidency by June / Ju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3B4EBAE-27C1-4F14-8A14-7EB8F77AD9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956180BD-2989-456E-B0E0-518A21213F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172C683B-4401-4135-958C-35149DB733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70E037B5-AC99-498E-BD21-57C4F89E93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8FE4E-98D9-4557-AADD-C17034DBC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44CF4-86D6-4119-A3A0-CE61B49640E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438748-3FE4-464B-857E-39AB96240DA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ED991E-EB38-4955-B4A4-B940FB8E671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8AE194-53B2-4CEA-B887-72BC68A77E1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448243-390B-4925-8E5A-60197F1FD9A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39FE9F-3983-4CE7-BC75-CAB3187A0E4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232873-4A55-4BD0-B1FB-C0C35731EC3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41BB30-CDA8-46C8-88CB-A16B1E0B90F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102FE0-D192-4A99-AAA1-93143CFB2B2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9B8606-5A22-46A4-9789-FD231229093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96615-8527-4C40-8D9C-5277742D3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6C5AD-111C-40A0-AA53-553F5BEA7BC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77579-CE45-406D-A521-C9F82C42A29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D7637-54DF-440E-9A94-DF6DEBF402A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1C811-F847-4D0D-B95E-D2EC6E5F3A7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FEEAE-8863-4315-B86E-274ECC7295F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06B18-39C5-491B-9839-FDC5060A911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4DE6D-5449-4F93-918E-CF65867F21E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7298D-44DE-4A24-B60F-D4D75355440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C911C-8262-4B69-B4A6-8373ACA907A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43260-B23D-4122-870B-E4A39DFE17A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05996-4ED8-4852-8502-AC051A086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6F4DF-D81F-4CD5-94F2-7F3947E6CD4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042F2-E9C5-4500-8E30-64F6CC8A1B2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B3725B-9C97-4EA0-BC5C-598D6B1D5F0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665493-4E6E-4F30-A38B-1CF62D1C848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0D8544-9239-46A5-A4B6-0E990B1DD2C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A6460A-0A99-4264-AACE-4BA0FD66258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9C0BD9-8202-4323-B357-E0AD9EB1365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078425-27EE-4DA2-A9CB-B3A7618F776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7DB717-DBA6-40BF-9EBA-794791068B6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4C7B8D-1CA2-4BA0-876B-EDB420E3E60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019F32-AA7F-4B3B-9C12-FD1A09660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F07BC7-595E-4E6C-9C42-A4C9FEED49D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4DA43F-15FC-4E0F-8A85-CF9D0F08FDB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3857B5-7582-4F91-8750-7648B26AF1F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F43D8B-43BE-4BCD-BCD7-0470E01F91D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575445-B820-4FF7-9861-36C21EC882A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8136A7-7D08-4DA4-8594-3F39ED1EE6B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8028B5-A33C-46F8-AD07-C9C32F7F510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36DEAE-5F5A-4231-83EA-0ED5466F73A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357F20-84AA-4B38-A5DF-CC0409410E6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CFC01E-71AC-4E19-AF1F-44416B0BEC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82DB45-DEB1-4B36-A09A-7187F78C591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C4D03D-81C0-4751-AD6D-A8481E1DB8F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9960EC-41FF-4B9C-90D6-60876385A02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7DF8CA-8A9E-4580-B342-883B600F680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CC5800-4039-496B-8DEB-6C92EE157F0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7D4E0-9500-4022-9A89-3204335809B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66113-4E34-4B33-8596-FD8FBDC910E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BB795-05EE-4915-9169-40205F505D0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DB19C-2CEE-41C8-B892-EDAB6E929CE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01D4E-A1C4-4AD3-BC69-1F8933BFAA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E6187-A1F5-4A5C-AC4B-95719286558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AF6EC-F7A8-4FE5-9679-C996560A76F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B7204-BD89-4506-9E6C-3695A13AC4B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08743-577C-42FE-91D3-3199E28CCDD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277DA-32BA-43BE-8D1F-9E788384AA3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4189D-15B3-41E3-8053-7D26E5CC731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8599B-A6F2-46F2-A20F-8C85500C92D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FAD609-EF11-41E1-BAB1-963F4D8A00B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A8F1E8-FA21-4A89-9488-CEB64ED4657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96F0AB-6096-46DD-9401-FB75D082BE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3E19DF-1E21-4767-A728-A506AA98EB2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61811E-5DD2-46EE-A290-22C1283BC5D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735978-9C2F-4C11-9803-A8452B71990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B6924C-6A83-4D78-A8EB-1BDD28B6472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B30895-5E84-4695-8390-512AF0E79F6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5B3784-9C5C-401C-99A9-4C3E88CE1F8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2A9007-FA97-4FC2-9F52-B3A97E30AE5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4DD613-CA11-432C-9A76-5BB138B3D16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B11A4C-D117-4BED-94E9-EFC549CB847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036644-E495-4371-A742-90750307B3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B0C5FC-D2A0-4ED0-8B73-3CF825AF78D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B59988-4617-4DB9-A1BD-7EB05DCD06E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66B53E-E4B9-48DC-9246-99F21695D17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7476D1-D91E-4304-BBF9-AE0F30788D0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800A0B-422B-4FA0-8677-A0DA0F79FDA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BACA6A-2660-43CB-927B-75D3954DC7E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0F3047-F236-4EE3-9C0A-73C5D3C33CC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1830C-AAA0-41D4-B681-25CB9451B3C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355BEB-4020-46D2-986E-D93776DAD82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629F3C-32EC-4481-A74B-5C594DAE3C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3AEA51-D96D-4283-AED4-DCA1A5B1B7D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ABE52-8C36-44D8-A93C-90102820009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0DE79-8F0E-4CB3-A333-5509E1A1E1F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E1C76-5B7B-42B1-84D8-58D580DD517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58023-A87E-4B8F-9E73-820E14E8066C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35D71-9818-4D45-AF06-B8E2A83E83C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3BABD-8FD0-42E6-A41A-BF062563D8A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1B585-BC4A-4774-9D37-C4BC8D2E05A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3D7CEA-CDE9-4F2B-A48A-AE908FC1CCA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A155E-982F-416D-9987-C6F8B1B4AA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0950B9-87B1-4547-AE7C-C5171C86B96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863E0-CA22-445E-B064-FE53D12A33B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76754-5AEE-4145-9605-9B327E5C16B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2153F4-0260-41F7-9608-073122BED77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3E5DD9-5C29-432E-BA12-C1A46B6A59C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990E39-E1D9-413D-9813-3ED4BF7F246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07EE7CF-5359-4138-BB43-A2D65C0A92D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1F3ECC-233B-4225-BA30-7B07E8AD9BC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84FFD44-5E82-440F-9137-7A274ABBF93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1D4DAB-5D71-4DA6-9025-4D3DCE4CF6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FB561-9C1D-4AD5-8F7C-96639D56A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BB56D7-AE9A-4FA3-B1EB-FFD6F310AD5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CB9B7A-4A88-490E-B3E7-1710044EBD1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0CAAC6-F4C8-455F-91B9-AE708B2BFCC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6A9A25-4618-4634-A9E6-48C4D38AF08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220E69-3899-43FA-917A-50AD060821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B0EE4-A6D5-4CD1-841E-DC6AB83607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86E34-F2A3-4516-AF29-6FFE460645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35EED-8477-4BB8-AA3D-F5A8E62711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8B8886-FDD8-476D-B7CC-A3B91BA9B9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5E6A1-C45F-43D2-AA10-DA8412A3E1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61746-ECDB-4E62-AF74-D2F144C20D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1A903-AFF2-4987-A460-3DC2402D1A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4637A-24B9-4BFF-B0F9-671A212292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ACC0C-747A-4A35-813E-8DB030A777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C82E2-0EAD-4794-A488-2B2B1CFF72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9F12A-D148-472B-9D27-4E8367F506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408CE-F74B-4E76-8C8D-E458CDAC6CF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2BB62-FA8A-47F0-9B1B-5900C1AAD5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7A8E-D3C0-45C0-8B82-2FC6F3AB73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7090-2625-4EF7-B1C1-5BBA1E9D76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4AC7-DE1D-41F7-BBE2-AF20A8A0B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8E675-5C99-42F4-B115-7A8077A2E69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DCB3-3D95-4432-9920-CB79BFF5E99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1F9A-5928-45FA-AE7A-8DFAB2EE03C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52E4-268E-4E2A-AB22-79CDF5A46BC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F04E-EB58-4FF4-AAFC-05AFD79A1A2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C059-7DBE-4EBC-B0C2-8DD2ECA1AB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0752-30B2-462F-B7D6-9E098FB7C6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F1A0-52C4-4E03-B8D6-DC07EA002F0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A6C0-2C1B-4716-AD17-FB05FB98D2B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13C1-FDC3-49B7-A63F-CFB2EC66928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C54DD-729D-4BAE-B836-A2E818F4E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36552-D3A6-4E18-88D5-A6CBDCF468C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4F461-863C-4DC6-BB82-1D13625D2C9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0784AB-63E0-4D12-9DDD-63F3D8359D6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0B1DE-71B5-4F60-B7AF-A60CF70F6A5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115C52-2B05-4FC9-A55C-FCC46F00011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5ED5D-C626-4DD4-AEB7-A7283B1741E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FF16B-13C1-4AE5-A8EE-B7121C31CDF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F2A897-1BC7-45CD-A635-B92B228C4C8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8855C-97C2-40E4-9101-55B394BA1FF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563C8-C6E7-4107-9204-22A70B9FFE7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80A4D-2587-4D30-8F46-A8FB3ECC29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7DCC6-4A5B-43B3-807C-6B93D24B474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FBEA4-36C8-4433-85E9-29D49E4135F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62CFDD-D31D-4F78-BD90-39C2DBB3CE3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FC491C-5472-489F-B4DB-C23066475CD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94D63F-292F-46A4-B969-35F1A4BF1F6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191DA7-A8C0-465D-A8F8-59CE5AD1B12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E6F1A8-830C-447A-BEA4-81E5551DF7C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45819C-A059-45EF-8D3D-250580115D7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F59B10-33EE-42F1-B884-ED838265415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FAFB35-6A35-4F21-A9B9-74E40E88CEC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A17361-B741-49D4-80C5-0776765695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EB4DF-8E3D-4D35-979B-B478DD64BBD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80F7A3-6CDF-4EF7-9979-7AE15B46E95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0623C6-6580-490B-B386-5F6C0811E27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D5D63B-CCFF-48DA-9CED-C18D38D97A6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2997E-9943-4E2E-A273-D9C3E181B52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B2074-7BC5-4BED-9DD7-9DCD72868E4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7E6DC-91A9-437D-9DBB-09A0970EF6B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3FC47-1ABE-4904-AFF1-13F0D5AB5E5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95DEF-6032-4E4D-91BA-BA2A30DBFB7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F34D7-652A-4B44-90B4-23EEA9DE3E0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5CD80-E812-4B5D-9E22-2C3BF195D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9A702-70ED-48BF-8E35-8F24E8A9EA0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2AACE-4779-4FB7-AF80-E17E2D14508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B28C4-A348-4F0A-82C5-59AFA27C262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405FC-EA57-4BF0-A215-3A1903EC4FF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7DC23-A529-4334-8482-C6EDB8E6D85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D4EFF-8F8C-401F-99F7-16747C8CA51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F62D50-79FF-46F4-BB49-B8D67D34564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680D05-FD00-4002-9FB8-0F65C227150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DB7DF6-5EFD-46AC-BDB4-B0604BDBF7E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FC433-831E-49CA-8FEE-A8595ACC53E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DFE8E6-FCD4-4035-AED1-207878D47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0647B-AC7A-4986-AA22-BF524B9F2A7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A527F6-FEE9-46B8-9989-620C36CBAD3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3A7B80-E0BF-425F-9FF8-7B0E4DE64E4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71BE7C-4902-4C1E-9FAF-28CB5D9C0BE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B4DF7C-3B90-45DC-8542-121CCEF9650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A574E1-BD10-472B-BBA2-A2F1A991ED6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5AC94-ED57-4ACB-8D58-44AE2B81404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9371D9-46E4-46B4-8FA8-CB7C29509C6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6306EA-ED3E-4270-A003-E16C8FA2A76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E83D0F-FEFD-4294-B743-A5CC8EB55F5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FA711F-C13E-4CAF-AFE8-7295D3CDB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AC25-72C1-4B2E-94FD-22936C6BCDC9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:\DATEN\Nimbus_allgemein\logo_NImbus\Bildschirm\100dpiRGB\Nimbus1-100dpiRGB.jpg"/>
          <p:cNvPicPr/>
          <p:nvPr/>
        </p:nvPicPr>
        <p:blipFill>
          <a:blip r:embed="rId4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87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1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F105-31B2-4D7B-90A7-A5C0BA7AD975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1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30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2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AD1A-0F9C-4321-8940-420CC12F7B90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73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F602-3334-4E1F-941D-4EB947291E29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16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Num" idx="2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1E35-7F90-4662-B6AC-655EEAA99BA1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59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2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0608-89CC-4577-9F70-015D6B7BC664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02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Num" idx="2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EAF0-29DC-4D68-AB50-D1FEE28A9A0D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2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45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Num" idx="3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0562-56FB-4570-81A9-1EF2AFCEB8A7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88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3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DA8C-D4B7-409D-A2AD-2F203B300530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4" name="תמונה 6" descr="open-slide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E:\DATEN\Nimbus_allgemein\logo_NImbus\Bildschirm\100dpiRGB\Nimbus1-100dpiRGB.jpg"/>
          <p:cNvPicPr/>
          <p:nvPr/>
        </p:nvPicPr>
        <p:blipFill>
          <a:blip r:embed="rId5"/>
          <a:stretch/>
        </p:blipFill>
        <p:spPr>
          <a:xfrm>
            <a:off x="7513560" y="6213600"/>
            <a:ext cx="1514520" cy="49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80D2-1078-4044-B2DE-BD0AE090D820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29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791D-B295-4712-9273-9FE6C39E0F2A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72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7B03-B842-4367-BFB2-953DA173BF29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15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1C00-87B1-4606-BEE9-8E2DD89709AC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58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D831-8777-4DBC-B39A-7B6367A7329A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01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C3EF-2C44-4E52-8BB8-C7C1902ADAFA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44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B89B-5B1E-4EC8-ACEC-6B1F537A0D72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da.etsi.org/pda/queryform.as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eur-lex.europa.eu/LexUriServ/LexUriServ.do?uri=COM:2012:0238:FIN:EN:PDF" TargetMode="External"/><Relationship Id="rId5" Type="http://schemas.openxmlformats.org/officeDocument/2006/relationships/hyperlink" Target="mailto:arno.fiedler@nimbus-berlin.com" TargetMode="External"/><Relationship Id="rId6" Type="http://schemas.openxmlformats.org/officeDocument/2006/relationships/hyperlink" Target="mailto:nick.pope@thales-esecurity.c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16040" y="5513400"/>
            <a:ext cx="8067600" cy="5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EUROPEAN UNION MANDATE/460</a:t>
            </a:r>
            <a:endParaRPr b="1" lang="en-US" sz="1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15680" y="5084280"/>
            <a:ext cx="80802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95959"/>
                </a:solidFill>
                <a:latin typeface="Calibri"/>
              </a:rPr>
              <a:t>Kloster Banz 11.09.2013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742680" y="6000480"/>
            <a:ext cx="808812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Presented by Arno Fiedler,  Member of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E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uropean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T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ommunication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S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tandard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I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nstitute</a:t>
            </a:r>
            <a:br>
              <a:rPr sz="1600"/>
            </a:b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tronic Signatures and Infrastructures, Specialist Task Force 458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5. Summary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9" name="Fußzeilenplatzhalt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oliennummernplatzhalt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F062-73C9-476A-AB51-B2686BCC1BE5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hteck 5"/>
          <p:cNvSpPr/>
          <p:nvPr/>
        </p:nvSpPr>
        <p:spPr>
          <a:xfrm>
            <a:off x="392040" y="2357280"/>
            <a:ext cx="86108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he new draft EU-Regulation will deliver a complete legal and trust framework for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oactive Supervision 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on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qualified level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br>
              <a:rPr sz="2400"/>
            </a:br>
            <a:r>
              <a:rPr b="0" lang="de-DE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TSI and CEN standards will be a fundamental part in future EU legislation (delegating acts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).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but: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elying parties (in Europe!) have to consume the Trust we provide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Thank you !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TSI Download 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da.etsi.org/pda/queryform.asp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nter keyword / title /  document numb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Draft EU Regulation:</a:t>
            </a:r>
            <a:br>
              <a:rPr sz="2400"/>
            </a:b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ur-lex.europa.eu/LexUriServ/LexUriServ.do?uri=COM:2012:0238:FIN:EN:PDF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ontact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Arno Fiedler: STF 458 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arno.fiedler@nimbus-berlin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Iñigo Barreira: STF 458 </a:t>
            </a:r>
            <a:r>
              <a:rPr b="0" lang="es-ES" sz="2000" spc="-1" strike="noStrike" u="sng">
                <a:solidFill>
                  <a:srgbClr val="254061"/>
                </a:solidFill>
                <a:uFillTx/>
                <a:latin typeface="Calibri"/>
              </a:rPr>
              <a:t>i-barreira@izenpe.net</a:t>
            </a:r>
            <a:br>
              <a:rPr sz="2000"/>
            </a:b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Nick Pope: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ead STF 458 (TSP &amp; e-Signature standards) </a:t>
            </a:r>
            <a:br>
              <a:rPr sz="20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nick.pope@thales-esecurity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4" name="Footer Placehold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4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4149-F7F2-4042-9D22-11FE0666ACCD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B346-C32F-4BE0-9BC8-6DD0ABD6D16B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Diagramm 3" descr=""/>
          <p:cNvPicPr/>
          <p:nvPr/>
        </p:nvPicPr>
        <p:blipFill>
          <a:blip r:embed="rId1"/>
          <a:stretch/>
        </p:blipFill>
        <p:spPr>
          <a:xfrm>
            <a:off x="476280" y="1359000"/>
            <a:ext cx="8028000" cy="4992480"/>
          </a:xfrm>
          <a:prstGeom prst="rect">
            <a:avLst/>
          </a:prstGeom>
          <a:ln w="0">
            <a:noFill/>
          </a:ln>
        </p:spPr>
      </p:pic>
      <p:sp>
        <p:nvSpPr>
          <p:cNvPr id="849" name="Rechteck 5"/>
          <p:cNvSpPr/>
          <p:nvPr/>
        </p:nvSpPr>
        <p:spPr>
          <a:xfrm>
            <a:off x="457200" y="212760"/>
            <a:ext cx="623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    Actual (Best) Practise for SS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F4AE-9A27-4A69-8E3A-C1E8BCC39C9D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Diagramm 3" descr=""/>
          <p:cNvPicPr/>
          <p:nvPr/>
        </p:nvPicPr>
        <p:blipFill>
          <a:blip r:embed="rId1"/>
          <a:stretch/>
        </p:blipFill>
        <p:spPr>
          <a:xfrm>
            <a:off x="549360" y="1359000"/>
            <a:ext cx="7924680" cy="4992480"/>
          </a:xfrm>
          <a:prstGeom prst="rect">
            <a:avLst/>
          </a:prstGeom>
          <a:ln w="0">
            <a:noFill/>
          </a:ln>
        </p:spPr>
      </p:pic>
      <p:sp>
        <p:nvSpPr>
          <p:cNvPr id="853" name="Rechteck 5"/>
          <p:cNvSpPr/>
          <p:nvPr/>
        </p:nvSpPr>
        <p:spPr>
          <a:xfrm>
            <a:off x="266760" y="185760"/>
            <a:ext cx="65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actual TSP Perspective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(german examp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63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1. ETSI activitie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C734-FFF8-4AE6-8886-F7921034DD53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Text Box 13"/>
          <p:cNvGrpSpPr/>
          <p:nvPr/>
        </p:nvGrpSpPr>
        <p:grpSpPr>
          <a:xfrm>
            <a:off x="463680" y="3067200"/>
            <a:ext cx="2749320" cy="876240"/>
            <a:chOff x="463680" y="3067200"/>
            <a:chExt cx="2749320" cy="876240"/>
          </a:xfrm>
        </p:grpSpPr>
        <p:pic>
          <p:nvPicPr>
            <p:cNvPr id="743" name="Text Box 13" descr=""/>
            <p:cNvPicPr/>
            <p:nvPr/>
          </p:nvPicPr>
          <p:blipFill>
            <a:blip r:embed="rId1"/>
            <a:stretch/>
          </p:blipFill>
          <p:spPr>
            <a:xfrm>
              <a:off x="463680" y="3067200"/>
              <a:ext cx="274932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538200" y="3129120"/>
              <a:ext cx="255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in support of EU reg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AutoShape 7"/>
          <p:cNvGrpSpPr/>
          <p:nvPr/>
        </p:nvGrpSpPr>
        <p:grpSpPr>
          <a:xfrm>
            <a:off x="2925720" y="2414520"/>
            <a:ext cx="1079640" cy="822240"/>
            <a:chOff x="2925720" y="2414520"/>
            <a:chExt cx="1079640" cy="822240"/>
          </a:xfrm>
        </p:grpSpPr>
        <p:pic>
          <p:nvPicPr>
            <p:cNvPr id="746" name="AutoShape 7" descr=""/>
            <p:cNvPicPr/>
            <p:nvPr/>
          </p:nvPicPr>
          <p:blipFill>
            <a:blip r:embed="rId2"/>
            <a:stretch/>
          </p:blipFill>
          <p:spPr>
            <a:xfrm>
              <a:off x="2925720" y="2414520"/>
              <a:ext cx="107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 rot="12693600">
              <a:off x="3025440" y="2805840"/>
              <a:ext cx="96516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8" name="Picture 5" descr="MPj03994060000[1]"/>
          <p:cNvPicPr/>
          <p:nvPr/>
        </p:nvPicPr>
        <p:blipFill>
          <a:blip r:embed="rId3"/>
          <a:stretch/>
        </p:blipFill>
        <p:spPr>
          <a:xfrm>
            <a:off x="914400" y="1725480"/>
            <a:ext cx="1762200" cy="13827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4" descr="Globe-for-Web.jpg Shipping Worldewide image by Darmon9"/>
          <p:cNvPicPr/>
          <p:nvPr/>
        </p:nvPicPr>
        <p:blipFill>
          <a:blip r:embed="rId4"/>
          <a:stretch/>
        </p:blipFill>
        <p:spPr>
          <a:xfrm>
            <a:off x="6499080" y="1704960"/>
            <a:ext cx="1622520" cy="1565280"/>
          </a:xfrm>
          <a:prstGeom prst="rect">
            <a:avLst/>
          </a:prstGeom>
          <a:ln w="0">
            <a:noFill/>
          </a:ln>
        </p:spPr>
      </p:pic>
      <p:grpSp>
        <p:nvGrpSpPr>
          <p:cNvPr id="750" name="Text Box 15"/>
          <p:cNvGrpSpPr/>
          <p:nvPr/>
        </p:nvGrpSpPr>
        <p:grpSpPr>
          <a:xfrm>
            <a:off x="3529080" y="5114880"/>
            <a:ext cx="2262240" cy="871560"/>
            <a:chOff x="3529080" y="5114880"/>
            <a:chExt cx="2262240" cy="871560"/>
          </a:xfrm>
        </p:grpSpPr>
        <p:pic>
          <p:nvPicPr>
            <p:cNvPr id="751" name="Text Box 15" descr=""/>
            <p:cNvPicPr/>
            <p:nvPr/>
          </p:nvPicPr>
          <p:blipFill>
            <a:blip r:embed="rId5"/>
            <a:stretch/>
          </p:blipFill>
          <p:spPr>
            <a:xfrm>
              <a:off x="3529080" y="5114880"/>
              <a:ext cx="2262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3584520" y="5173560"/>
              <a:ext cx="21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Interoperabilit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Text Box 12"/>
          <p:cNvGrpSpPr/>
          <p:nvPr/>
        </p:nvGrpSpPr>
        <p:grpSpPr>
          <a:xfrm>
            <a:off x="6076800" y="3139920"/>
            <a:ext cx="2451240" cy="871560"/>
            <a:chOff x="6076800" y="3139920"/>
            <a:chExt cx="2451240" cy="871560"/>
          </a:xfrm>
        </p:grpSpPr>
        <p:pic>
          <p:nvPicPr>
            <p:cNvPr id="754" name="Text Box 12" descr=""/>
            <p:cNvPicPr/>
            <p:nvPr/>
          </p:nvPicPr>
          <p:blipFill>
            <a:blip r:embed="rId6"/>
            <a:stretch/>
          </p:blipFill>
          <p:spPr>
            <a:xfrm>
              <a:off x="6076800" y="3139920"/>
              <a:ext cx="2451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6149880" y="3200400"/>
              <a:ext cx="230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for global ICT mark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AutoShape 7"/>
          <p:cNvGrpSpPr/>
          <p:nvPr/>
        </p:nvGrpSpPr>
        <p:grpSpPr>
          <a:xfrm>
            <a:off x="4492800" y="4065480"/>
            <a:ext cx="347400" cy="1067040"/>
            <a:chOff x="4492800" y="4065480"/>
            <a:chExt cx="347400" cy="1067040"/>
          </a:xfrm>
        </p:grpSpPr>
        <p:pic>
          <p:nvPicPr>
            <p:cNvPr id="757" name="AutoShape 7" descr=""/>
            <p:cNvPicPr/>
            <p:nvPr/>
          </p:nvPicPr>
          <p:blipFill>
            <a:blip r:embed="rId7"/>
            <a:stretch/>
          </p:blipFill>
          <p:spPr>
            <a:xfrm>
              <a:off x="4492800" y="4065480"/>
              <a:ext cx="347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 rot="5400000">
              <a:off x="4234320" y="4484160"/>
              <a:ext cx="8636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AutoShape 7"/>
          <p:cNvGrpSpPr/>
          <p:nvPr/>
        </p:nvGrpSpPr>
        <p:grpSpPr>
          <a:xfrm>
            <a:off x="5450040" y="2414520"/>
            <a:ext cx="1090440" cy="798480"/>
            <a:chOff x="5450040" y="2414520"/>
            <a:chExt cx="1090440" cy="798480"/>
          </a:xfrm>
        </p:grpSpPr>
        <p:pic>
          <p:nvPicPr>
            <p:cNvPr id="760" name="AutoShape 7" descr=""/>
            <p:cNvPicPr/>
            <p:nvPr/>
          </p:nvPicPr>
          <p:blipFill>
            <a:blip r:embed="rId8"/>
            <a:stretch/>
          </p:blipFill>
          <p:spPr>
            <a:xfrm>
              <a:off x="5450040" y="2414520"/>
              <a:ext cx="1090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 rot="19785600">
              <a:off x="5467320" y="2792520"/>
              <a:ext cx="96516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14" descr="PLUGTESTS.jpg"/>
          <p:cNvPicPr/>
          <p:nvPr/>
        </p:nvPicPr>
        <p:blipFill>
          <a:blip r:embed="rId9"/>
          <a:stretch/>
        </p:blipFill>
        <p:spPr>
          <a:xfrm>
            <a:off x="3629160" y="5854680"/>
            <a:ext cx="2033280" cy="5652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3" descr="ETSI Logo_S_Office1.jpg"/>
          <p:cNvPicPr/>
          <p:nvPr/>
        </p:nvPicPr>
        <p:blipFill>
          <a:blip r:embed="rId10"/>
          <a:stretch/>
        </p:blipFill>
        <p:spPr>
          <a:xfrm>
            <a:off x="3340080" y="3159000"/>
            <a:ext cx="2625840" cy="846360"/>
          </a:xfrm>
          <a:prstGeom prst="rect">
            <a:avLst/>
          </a:prstGeom>
          <a:ln w="0">
            <a:noFill/>
          </a:ln>
        </p:spPr>
      </p:pic>
      <p:sp>
        <p:nvSpPr>
          <p:cNvPr id="764" name="מציין מיקום של כותרת תחתונה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eb4e3"/>
                </a:solidFill>
                <a:latin typeface="Arial"/>
              </a:rPr>
              <a:t>© ETSI 2012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hteck 1"/>
          <p:cNvSpPr/>
          <p:nvPr/>
        </p:nvSpPr>
        <p:spPr>
          <a:xfrm>
            <a:off x="2838600" y="157320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, DECT, TETR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: UMTS, LT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:TSL, XAdES, PAdES, 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76120" y="0"/>
            <a:ext cx="8229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1. ETSI Electronic Signatures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and Infrastructures (ESI) TC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14480" y="1402920"/>
            <a:ext cx="885816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nce 2000 ETSI/ESI plays a key role in the development of electronic signature related standard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ignature formats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XAdES (TS 101 903) -&gt;ISO, CAdES (TS 101 733) -&gt;ISO, PAdES (TS 102 778) -&gt;ISO and ASiC (TS 102 918) and related profil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rust Service Provider (TSP) Status Information (TSL, TS 102 231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olicy requirements for CAs: TS 102 042, TS 101 456 (</a:t>
            </a: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Qual. Cert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.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SA policy requirements: TS 102 023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ertificate profiles: TS 101 862 (Qual. Cert.), TS 102 280 (Nat. Person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Registered Electronic Mail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(eDelivery): TS 102 640 (multipart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ata preservation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TS 101 533-1, TR 101 533-2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lgo paper: TS 102 17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llaborates with ETSI CTI, Centre for Testing and Interoperability for Plugtests even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OI with CA/B-Forum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Segnaposto numero diapositiva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62E9-0CE6-4736-92C2-02753A2B2B66}" type="slidenum">
              <a:rPr b="0" lang="it-IT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33"/>
          <p:cNvGrpSpPr/>
          <p:nvPr/>
        </p:nvGrpSpPr>
        <p:grpSpPr>
          <a:xfrm>
            <a:off x="552600" y="3929040"/>
            <a:ext cx="8108640" cy="2305080"/>
            <a:chOff x="552600" y="3929040"/>
            <a:chExt cx="8108640" cy="2305080"/>
          </a:xfrm>
        </p:grpSpPr>
        <p:sp>
          <p:nvSpPr>
            <p:cNvPr id="770" name="Rounded Rectangle 24"/>
            <p:cNvSpPr/>
            <p:nvPr/>
          </p:nvSpPr>
          <p:spPr>
            <a:xfrm>
              <a:off x="552600" y="3929040"/>
              <a:ext cx="8108640" cy="230508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Group 31"/>
            <p:cNvGrpSpPr/>
            <p:nvPr/>
          </p:nvGrpSpPr>
          <p:grpSpPr>
            <a:xfrm>
              <a:off x="2443320" y="4036680"/>
              <a:ext cx="4298040" cy="649800"/>
              <a:chOff x="2443320" y="4036680"/>
              <a:chExt cx="4298040" cy="649800"/>
            </a:xfrm>
          </p:grpSpPr>
          <p:sp>
            <p:nvSpPr>
              <p:cNvPr id="772" name="Rectangle 98"/>
              <p:cNvSpPr/>
              <p:nvPr/>
            </p:nvSpPr>
            <p:spPr>
              <a:xfrm>
                <a:off x="2579400" y="4036680"/>
                <a:ext cx="4119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d0d0d"/>
                    </a:solidFill>
                    <a:latin typeface="Arial"/>
                    <a:ea typeface="Arial"/>
                  </a:rPr>
                  <a:t>Consistency &amp; formal (efficient) mapp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Group 19"/>
              <p:cNvGrpSpPr/>
              <p:nvPr/>
            </p:nvGrpSpPr>
            <p:grpSpPr>
              <a:xfrm>
                <a:off x="2443320" y="4272840"/>
                <a:ext cx="4298040" cy="413640"/>
                <a:chOff x="2443320" y="4272840"/>
                <a:chExt cx="4298040" cy="413640"/>
              </a:xfrm>
            </p:grpSpPr>
            <p:sp>
              <p:nvSpPr>
                <p:cNvPr id="774" name="Left-Right Arrow 28"/>
                <p:cNvSpPr/>
                <p:nvPr/>
              </p:nvSpPr>
              <p:spPr>
                <a:xfrm rot="18837600">
                  <a:off x="2438640" y="4399200"/>
                  <a:ext cx="412920" cy="163440"/>
                </a:xfrm>
                <a:prstGeom prst="leftRightArrow">
                  <a:avLst>
                    <a:gd name="adj1" fmla="val 50000"/>
                    <a:gd name="adj2" fmla="val 35089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Left-Right Arrow 29"/>
                <p:cNvSpPr/>
                <p:nvPr/>
              </p:nvSpPr>
              <p:spPr>
                <a:xfrm flipH="1" rot="2762400">
                  <a:off x="6332400" y="4396320"/>
                  <a:ext cx="412920" cy="163800"/>
                </a:xfrm>
                <a:prstGeom prst="leftRightArrow">
                  <a:avLst>
                    <a:gd name="adj1" fmla="val 50000"/>
                    <a:gd name="adj2" fmla="val 35012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eft-Right Arrow 30"/>
                <p:cNvSpPr/>
                <p:nvPr/>
              </p:nvSpPr>
              <p:spPr>
                <a:xfrm rot="16200000">
                  <a:off x="4376160" y="4412520"/>
                  <a:ext cx="299880" cy="163440"/>
                </a:xfrm>
                <a:prstGeom prst="leftRightArrow">
                  <a:avLst>
                    <a:gd name="adj1" fmla="val 50000"/>
                    <a:gd name="adj2" fmla="val 35048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77" name="Rectangle 3"/>
          <p:cNvSpPr/>
          <p:nvPr/>
        </p:nvSpPr>
        <p:spPr>
          <a:xfrm>
            <a:off x="0" y="1246320"/>
            <a:ext cx="89647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alizations, consistency and mapping of efficient Legal, Technical, Trust and Promotional frameworks are key success factors to convince market &amp; business stakeholders of the possible ROI of eSignatures securing their e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20"/>
          <p:cNvGrpSpPr/>
          <p:nvPr/>
        </p:nvGrpSpPr>
        <p:grpSpPr>
          <a:xfrm>
            <a:off x="2786040" y="4722840"/>
            <a:ext cx="3600360" cy="1511280"/>
            <a:chOff x="2786040" y="4722840"/>
            <a:chExt cx="3600360" cy="1511280"/>
          </a:xfrm>
        </p:grpSpPr>
        <p:sp>
          <p:nvSpPr>
            <p:cNvPr id="779" name="Rounded Rectangle 6"/>
            <p:cNvSpPr/>
            <p:nvPr/>
          </p:nvSpPr>
          <p:spPr>
            <a:xfrm>
              <a:off x="2786040" y="4722840"/>
              <a:ext cx="360036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98"/>
            <p:cNvSpPr/>
            <p:nvPr/>
          </p:nvSpPr>
          <p:spPr>
            <a:xfrm>
              <a:off x="2912760" y="4794120"/>
              <a:ext cx="3373560" cy="13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tandardization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Covering whole range of ES prod / serv., ES types and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Business practice driv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ropriate guid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98"/>
          <p:cNvSpPr/>
          <p:nvPr/>
        </p:nvSpPr>
        <p:spPr>
          <a:xfrm>
            <a:off x="2739960" y="2333520"/>
            <a:ext cx="371484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50"/>
                </a:solidFill>
                <a:latin typeface="Arial"/>
              </a:rPr>
              <a:t>Sound CSPs &amp;Trust Services Provisioning market for interoperable and cross-border use eSign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22"/>
          <p:cNvGrpSpPr/>
          <p:nvPr/>
        </p:nvGrpSpPr>
        <p:grpSpPr>
          <a:xfrm>
            <a:off x="6500880" y="4722840"/>
            <a:ext cx="2359080" cy="1511280"/>
            <a:chOff x="6500880" y="4722840"/>
            <a:chExt cx="2359080" cy="1511280"/>
          </a:xfrm>
        </p:grpSpPr>
        <p:sp>
          <p:nvSpPr>
            <p:cNvPr id="783" name="Rounded Rectangle 10"/>
            <p:cNvSpPr/>
            <p:nvPr/>
          </p:nvSpPr>
          <p:spPr>
            <a:xfrm>
              <a:off x="6500880" y="4722840"/>
              <a:ext cx="235908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98"/>
            <p:cNvSpPr/>
            <p:nvPr/>
          </p:nvSpPr>
          <p:spPr>
            <a:xfrm>
              <a:off x="6659640" y="4786200"/>
              <a:ext cx="2001960" cy="13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Supervision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Voluntary accredit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 Status Li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lication labe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2"/>
          <p:cNvSpPr/>
          <p:nvPr/>
        </p:nvSpPr>
        <p:spPr>
          <a:xfrm>
            <a:off x="357120" y="81000"/>
            <a:ext cx="77724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2. Crobies Study in 2010: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Key success factors for eSign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32"/>
          <p:cNvGrpSpPr/>
          <p:nvPr/>
        </p:nvGrpSpPr>
        <p:grpSpPr>
          <a:xfrm>
            <a:off x="3535200" y="3137040"/>
            <a:ext cx="1965600" cy="755640"/>
            <a:chOff x="3535200" y="3137040"/>
            <a:chExt cx="1965600" cy="755640"/>
          </a:xfrm>
        </p:grpSpPr>
        <p:sp>
          <p:nvSpPr>
            <p:cNvPr id="787" name="Down Arrow 25"/>
            <p:cNvSpPr/>
            <p:nvPr/>
          </p:nvSpPr>
          <p:spPr>
            <a:xfrm flipV="1">
              <a:off x="4392720" y="3137040"/>
              <a:ext cx="179280" cy="720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92d05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98"/>
            <p:cNvSpPr/>
            <p:nvPr/>
          </p:nvSpPr>
          <p:spPr>
            <a:xfrm>
              <a:off x="3535200" y="3344760"/>
              <a:ext cx="196560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Promo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19"/>
          <p:cNvGrpSpPr/>
          <p:nvPr/>
        </p:nvGrpSpPr>
        <p:grpSpPr>
          <a:xfrm>
            <a:off x="285840" y="4721400"/>
            <a:ext cx="2340000" cy="1511280"/>
            <a:chOff x="285840" y="4721400"/>
            <a:chExt cx="2340000" cy="1511280"/>
          </a:xfrm>
        </p:grpSpPr>
        <p:sp>
          <p:nvSpPr>
            <p:cNvPr id="790" name="Rounded Rectangle 22"/>
            <p:cNvSpPr/>
            <p:nvPr/>
          </p:nvSpPr>
          <p:spPr>
            <a:xfrm>
              <a:off x="285840" y="4721400"/>
              <a:ext cx="234000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98"/>
            <p:cNvSpPr/>
            <p:nvPr/>
          </p:nvSpPr>
          <p:spPr>
            <a:xfrm>
              <a:off x="357120" y="4765680"/>
              <a:ext cx="2203560" cy="14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Legal 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level of 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Range of ES prod/serv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3.1 New approach for legal framework: </a:t>
            </a:r>
            <a:br>
              <a:rPr sz="2800"/>
            </a:b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Draft EU EIDAS- Regulation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3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8333-C660-4A1D-83BB-24001A0A9B51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272960"/>
            <a:ext cx="85359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June 2012 – EU Commission publish </a:t>
            </a:r>
            <a:r>
              <a:rPr b="0" lang="en-GB" sz="2400" spc="-1" strike="noStrike" u="sng">
                <a:solidFill>
                  <a:srgbClr val="404040"/>
                </a:solidFill>
                <a:uFillTx/>
                <a:latin typeface="Calibri"/>
              </a:rPr>
              <a:t>first draft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regulation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Added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utual recognition of electronic identification [E-ID]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xtended Supervision of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ertification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o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rust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, includes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proactive supervision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Qualified Electronic trust service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ignature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eal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ime stamping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elivery service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ocuments admissibility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Website authentication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6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3.2 Standards Framework I:</a:t>
            </a:r>
            <a:br>
              <a:rPr sz="2800"/>
            </a:b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M460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uropean</a:t>
            </a: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 Commission mandat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61800" y="164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C founded eSignatures standardization activiti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4 years: 2011-2015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1st phase (executed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efinition of a rationalized standardization framework, in collaboration with CE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ral specifications upgrades primarily aimed at providing quick technical fixes to existing electronic signatures standards, and definition of test specif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2nd phase (now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mplement the rationalized standardization framework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upport the new EU Regulation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 (exp. approval in 201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liennummernplatzhalt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21B2-5500-43D1-9335-DE9134838D81}" type="slidenum">
              <a:rPr b="0" lang="en-GB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3.2 Standards Framework II</a:t>
            </a:r>
            <a:br>
              <a:rPr sz="2800"/>
            </a:b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Mandate/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800" name="Group 41"/>
          <p:cNvGrpSpPr/>
          <p:nvPr/>
        </p:nvGrpSpPr>
        <p:grpSpPr>
          <a:xfrm>
            <a:off x="2354400" y="3814920"/>
            <a:ext cx="4363920" cy="1357200"/>
            <a:chOff x="2354400" y="3814920"/>
            <a:chExt cx="4363920" cy="1357200"/>
          </a:xfrm>
        </p:grpSpPr>
        <p:sp>
          <p:nvSpPr>
            <p:cNvPr id="801" name="Rectangle 5"/>
            <p:cNvSpPr/>
            <p:nvPr/>
          </p:nvSpPr>
          <p:spPr>
            <a:xfrm>
              <a:off x="2354400" y="3814920"/>
              <a:ext cx="4363920" cy="13572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Box 7"/>
            <p:cNvSpPr/>
            <p:nvPr/>
          </p:nvSpPr>
          <p:spPr>
            <a:xfrm>
              <a:off x="2782800" y="4243320"/>
              <a:ext cx="357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Cre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&amp; Valid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34"/>
            <p:cNvSpPr/>
            <p:nvPr/>
          </p:nvSpPr>
          <p:spPr>
            <a:xfrm>
              <a:off x="4367160" y="390528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42"/>
          <p:cNvGrpSpPr/>
          <p:nvPr/>
        </p:nvGrpSpPr>
        <p:grpSpPr>
          <a:xfrm>
            <a:off x="2155680" y="5386320"/>
            <a:ext cx="2198880" cy="642960"/>
            <a:chOff x="2155680" y="5386320"/>
            <a:chExt cx="2198880" cy="642960"/>
          </a:xfrm>
        </p:grpSpPr>
        <p:sp>
          <p:nvSpPr>
            <p:cNvPr id="805" name="Rectangle 9"/>
            <p:cNvSpPr/>
            <p:nvPr/>
          </p:nvSpPr>
          <p:spPr>
            <a:xfrm>
              <a:off x="2350800" y="5386320"/>
              <a:ext cx="200376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11"/>
            <p:cNvSpPr/>
            <p:nvPr/>
          </p:nvSpPr>
          <p:spPr>
            <a:xfrm>
              <a:off x="2155680" y="5386320"/>
              <a:ext cx="216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eation De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35"/>
            <p:cNvSpPr/>
            <p:nvPr/>
          </p:nvSpPr>
          <p:spPr>
            <a:xfrm>
              <a:off x="4003920" y="544176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43"/>
          <p:cNvGrpSpPr/>
          <p:nvPr/>
        </p:nvGrpSpPr>
        <p:grpSpPr>
          <a:xfrm>
            <a:off x="4716360" y="5415120"/>
            <a:ext cx="2156040" cy="642960"/>
            <a:chOff x="4716360" y="5415120"/>
            <a:chExt cx="2156040" cy="642960"/>
          </a:xfrm>
        </p:grpSpPr>
        <p:sp>
          <p:nvSpPr>
            <p:cNvPr id="809" name="Rectangle 13"/>
            <p:cNvSpPr/>
            <p:nvPr/>
          </p:nvSpPr>
          <p:spPr>
            <a:xfrm>
              <a:off x="4716360" y="5415120"/>
              <a:ext cx="200232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Box 12"/>
            <p:cNvSpPr/>
            <p:nvPr/>
          </p:nvSpPr>
          <p:spPr>
            <a:xfrm>
              <a:off x="4881960" y="5415120"/>
              <a:ext cx="199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yptographic Sui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6"/>
            <p:cNvSpPr/>
            <p:nvPr/>
          </p:nvSpPr>
          <p:spPr>
            <a:xfrm>
              <a:off x="4790880" y="54705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46"/>
          <p:cNvGrpSpPr/>
          <p:nvPr/>
        </p:nvGrpSpPr>
        <p:grpSpPr>
          <a:xfrm>
            <a:off x="4697280" y="2970360"/>
            <a:ext cx="2211480" cy="699840"/>
            <a:chOff x="4697280" y="2970360"/>
            <a:chExt cx="2211480" cy="699840"/>
          </a:xfrm>
        </p:grpSpPr>
        <p:sp>
          <p:nvSpPr>
            <p:cNvPr id="813" name="Rectangle 17"/>
            <p:cNvSpPr/>
            <p:nvPr/>
          </p:nvSpPr>
          <p:spPr>
            <a:xfrm>
              <a:off x="4697280" y="2986200"/>
              <a:ext cx="2036880" cy="684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Box 9"/>
            <p:cNvSpPr/>
            <p:nvPr/>
          </p:nvSpPr>
          <p:spPr>
            <a:xfrm>
              <a:off x="4781520" y="2970360"/>
              <a:ext cx="212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ervice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37"/>
            <p:cNvSpPr/>
            <p:nvPr/>
          </p:nvSpPr>
          <p:spPr>
            <a:xfrm>
              <a:off x="4755960" y="333360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45"/>
          <p:cNvGrpSpPr/>
          <p:nvPr/>
        </p:nvGrpSpPr>
        <p:grpSpPr>
          <a:xfrm>
            <a:off x="2351160" y="2941560"/>
            <a:ext cx="2003400" cy="700200"/>
            <a:chOff x="2351160" y="2941560"/>
            <a:chExt cx="2003400" cy="700200"/>
          </a:xfrm>
        </p:grpSpPr>
        <p:sp>
          <p:nvSpPr>
            <p:cNvPr id="817" name="Rectangle 21"/>
            <p:cNvSpPr/>
            <p:nvPr/>
          </p:nvSpPr>
          <p:spPr>
            <a:xfrm>
              <a:off x="2352600" y="2957400"/>
              <a:ext cx="2001960" cy="684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Box 8"/>
            <p:cNvSpPr/>
            <p:nvPr/>
          </p:nvSpPr>
          <p:spPr>
            <a:xfrm>
              <a:off x="2351160" y="2941560"/>
              <a:ext cx="194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SPs supporting eSigna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38"/>
            <p:cNvSpPr/>
            <p:nvPr/>
          </p:nvSpPr>
          <p:spPr>
            <a:xfrm>
              <a:off x="4003920" y="33051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4"/>
          <p:cNvGrpSpPr/>
          <p:nvPr/>
        </p:nvGrpSpPr>
        <p:grpSpPr>
          <a:xfrm>
            <a:off x="2139840" y="1890720"/>
            <a:ext cx="4746600" cy="885960"/>
            <a:chOff x="2139840" y="1890720"/>
            <a:chExt cx="4746600" cy="885960"/>
          </a:xfrm>
        </p:grpSpPr>
        <p:sp>
          <p:nvSpPr>
            <p:cNvPr id="821" name="Rectangle 25"/>
            <p:cNvSpPr/>
            <p:nvPr/>
          </p:nvSpPr>
          <p:spPr>
            <a:xfrm>
              <a:off x="2352240" y="2057400"/>
              <a:ext cx="4381560" cy="719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Box 10"/>
            <p:cNvSpPr/>
            <p:nvPr/>
          </p:nvSpPr>
          <p:spPr>
            <a:xfrm>
              <a:off x="2139840" y="2255760"/>
              <a:ext cx="474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Service Status Lists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39"/>
            <p:cNvSpPr/>
            <p:nvPr/>
          </p:nvSpPr>
          <p:spPr>
            <a:xfrm>
              <a:off x="4289400" y="1890720"/>
              <a:ext cx="287280" cy="2890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TextBox 47"/>
          <p:cNvSpPr/>
          <p:nvPr/>
        </p:nvSpPr>
        <p:spPr>
          <a:xfrm>
            <a:off x="332640" y="3868560"/>
            <a:ext cx="1739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ules &amp;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Form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Creation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/ 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rotection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7"/>
          <p:cNvSpPr/>
          <p:nvPr/>
        </p:nvSpPr>
        <p:spPr>
          <a:xfrm>
            <a:off x="6898680" y="3749760"/>
            <a:ext cx="1996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XAdES (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CAdES (C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AdES (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dES in Mobile envm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SiC (contain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47"/>
          <p:cNvSpPr/>
          <p:nvPr/>
        </p:nvSpPr>
        <p:spPr>
          <a:xfrm>
            <a:off x="332280" y="5365800"/>
            <a:ext cx="171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Made by CE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SCDs (e.g. 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SMs &amp; other S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47"/>
          <p:cNvSpPr/>
          <p:nvPr/>
        </p:nvSpPr>
        <p:spPr>
          <a:xfrm>
            <a:off x="6849360" y="5176800"/>
            <a:ext cx="189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as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47"/>
          <p:cNvSpPr/>
          <p:nvPr/>
        </p:nvSpPr>
        <p:spPr>
          <a:xfrm>
            <a:off x="6843600" y="2868480"/>
            <a:ext cx="207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egistered 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ong term pre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47"/>
          <p:cNvSpPr/>
          <p:nvPr/>
        </p:nvSpPr>
        <p:spPr>
          <a:xfrm>
            <a:off x="326160" y="2819520"/>
            <a:ext cx="172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Issuing certific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Time-sta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ing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Validat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47"/>
          <p:cNvSpPr/>
          <p:nvPr/>
        </p:nvSpPr>
        <p:spPr>
          <a:xfrm>
            <a:off x="6900480" y="1625760"/>
            <a:ext cx="1950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ist of TSP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pproved (supervi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by National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(e.g. Trusted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009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AFTER Mandate 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Object 2" descr=""/>
          <p:cNvPicPr/>
          <p:nvPr/>
        </p:nvPicPr>
        <p:blipFill>
          <a:blip r:embed="rId1"/>
          <a:stretch/>
        </p:blipFill>
        <p:spPr>
          <a:xfrm>
            <a:off x="671400" y="1268280"/>
            <a:ext cx="7783560" cy="5589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4. Next Steps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5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FC7A-2163-4E00-990D-ED43B6494D82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377720"/>
            <a:ext cx="8528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n Spring 2013 EU Commission published new 2nd draft regulation “on electronic identification and trust services for electronic transactions in the internal market”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Under EU Mandate 460 (2013 to 2015) ETSI commissioned to produc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 for TSP Conformity Assess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s for Best Practices (Policy Requireme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Personal Sign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organisational 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eals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Time-stamping Servi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Website Certificates  (should be EN 319 411-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…………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52:04Z</dcterms:created>
  <dc:creator>Arno Fiedler</dc:creator>
  <dc:description/>
  <dc:language>en-US</dc:language>
  <cp:lastModifiedBy>Arno Fiedler</cp:lastModifiedBy>
  <cp:lastPrinted>2012-04-17T12:11:33Z</cp:lastPrinted>
  <dcterms:modified xsi:type="dcterms:W3CDTF">2013-09-09T15:18:08Z</dcterms:modified>
  <cp:revision>784</cp:revision>
  <dc:subject/>
  <dc:title>Slide 1</dc:title>
</cp:coreProperties>
</file>