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4.jpeg" ContentType="image/jpeg"/>
  <Override PartName="/ppt/media/image20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9.jpeg" ContentType="image/jpeg"/>
  <Override PartName="/ppt/media/image24.png" ContentType="image/png"/>
  <Override PartName="/ppt/media/image11.jpeg" ContentType="image/jpeg"/>
  <Override PartName="/ppt/media/image31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23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dt" idx="34"/>
          </p:nvPr>
        </p:nvSpPr>
        <p:spPr>
          <a:xfrm>
            <a:off x="402120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 type="sldImg"/>
          </p:nvPr>
        </p:nvSpPr>
        <p:spPr>
          <a:xfrm>
            <a:off x="990360" y="766440"/>
            <a:ext cx="5118120" cy="38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 type="ftr" idx="35"/>
          </p:nvPr>
        </p:nvSpPr>
        <p:spPr>
          <a:xfrm>
            <a:off x="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 type="sldNum" idx="36"/>
          </p:nvPr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B9138AA9-D846-4BB4-A3A7-DD6BD0F0B16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ADC57E0-2C48-44ED-BF5E-9EB93A7A251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of the published ETSI documents mentioned in this presentation are available for download via the ETSI download page.  Just enter the TS number of key words from the tit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questions feel free to contact myself (standards) , or Olivier Delos (regul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a more formal statement on questions regarding the regulation contact Gerard Galler of the EU commi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E471234-E244-4B5F-B651-DF962ACBF1A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0C255A9B-D27C-47B3-8031-7406F987515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Foliennummernplatzhalt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6C99D00D-166B-4B6B-A7CF-A841A92CBB8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3 main dimensions to its activit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is a recognized European Standards Organization and as such can produce standards supporting European regul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SI has also become highly-respected as a producer of technical standards for worldwide use. Many ETSI standards answer global ICT marke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Finally ETSI has defined testing methodologies and a testing language (TTCN). ETSI also runs interoperability test events. Those events 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 opportunity for companies to test their prototypes against a standard with their partners and competito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nhancing the quality of specifica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eeding up the standardization proce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educing time to marke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9560" indent="-23652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upporting the deployment of a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30E8ECD-392F-48E4-910D-E72A55B681F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ognizing that the EU Directive 1999/93 on E-Signatures was getting out of date and had not achieved full EU harmonization the EU Commission has issued a new Draft regul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cope of this document is wider that the Directive covering a range of “Trust Services” required for electronic online services across Europe.  It is aimed at achieving a greater degree of harmony between EU N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draft regulation is under discussion in the council of ministers.  There is agreement with the general principles of the new regulation but significant discussion on the details is requi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d that a new draft may be produced under the Irish presidency by June / Ju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D95B54EE-3483-4477-86F7-04CAC0345CB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9B65BD50-4E4E-4DD3-AC36-8524DE03D8C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fld id="{8650D53D-00A7-4B07-84FD-C6472705D8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9072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47520" y="4860720"/>
            <a:ext cx="5203800" cy="46069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Slide Number Placeholder 3"/>
          <p:cNvSpPr/>
          <p:nvPr/>
        </p:nvSpPr>
        <p:spPr>
          <a:xfrm>
            <a:off x="4021200" y="9721800"/>
            <a:ext cx="307800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120" rIns="9612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AE934D0F-F489-450F-855A-0580B47D316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B972B-F1D0-4D83-859D-F91A0E55F0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5EBC9-C84C-4813-B480-7FF1C47F2037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B1FA9B-0A83-47ED-B209-CAEC8CEBB2FD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0D0125-09E9-46F7-B29C-E4D4F3846006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59ED94-1B4D-4CF6-998F-E4364B58863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F31786-9468-4449-9D97-0BCF81E8D52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81A401-93CF-4F03-BD5E-31B7BFE5A98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0CEF36-5066-4670-A612-EC385802C7F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5F23CD-D325-465C-B7C7-71A72B92734E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51F341-0BAD-4BAB-B316-F4B714DF1759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760EBF-2C4A-475D-8E0E-1C152EDA954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F3DD0-9714-43F8-8E28-FF3AC00511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A0F25-FE80-44D1-8462-8A263B619F7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46F1E-90E4-4DD8-84C7-5E0193C503E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EAD27-E375-4CB5-80C3-CBA333858C5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72A47-E2F8-45DF-AC9F-728C95EAF75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414A5C-350D-48FE-9B70-D0C86581036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6BCB84-08D3-4804-B7B0-E8858E88A7DD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EFBC5-8046-464C-8743-14A3BE046A57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4B4CD7-7028-49C6-8A61-7EAA6BA0E05D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A9ECC-28F5-4FD0-ACEF-17E7BF43312F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508E8-EDAE-4BDA-AC1B-DF78F0A2ACB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77C28-4BE5-4958-839B-2446B97DB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3A07E-9D51-48F2-BC0E-1332C056956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A90A37-DE7D-45CA-8CF9-B5650999F5EE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4421A1-C408-4E0C-B739-6365FDD7280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2C0293-E0A6-42A2-8228-0D0A7E21B58B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4F3D53-6983-4C7A-86B9-D385E5936712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FBB7D0-6AF9-4C69-B7A2-4CEC1D7F297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14568E-0DCA-45EB-99F4-22659DA14B8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8A394B-C3D8-400C-B358-3F066A37732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7931D8-1C04-4D18-988B-273C465D443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072B4F-7558-431D-B514-86ADB848E73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F1ADD2-81BF-4966-B0F1-A4D7588C6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9E5FD6-B226-4C6D-A0AA-8668926C20E0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7BC0C9-C208-48AF-B267-6FA6DAFE99C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566A37-BE52-41E8-8DF9-C906B48DE6B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BDD5A17-F072-4B8A-B1CB-33CDD5A74C7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5BF801-D848-42FC-9D76-E933CC0F4BD8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1A282D3-A4E8-4863-B5A5-257EA102AA8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EE1C98-7BF9-4C7C-B619-34D30A52D1A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246B8E3-CC5D-4E97-80A3-36C11405F96B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3685C3-51BF-4A49-B687-D1B987A04E6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E4518F-A089-44EF-B612-DFDCB9CD4E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1A393B5-7468-49CA-962C-6695F4512542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EF8201C-B9DB-419C-BCF0-10F8A98750D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214BCF-1F41-4998-8BB8-BF23A423002A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936976B-5556-477B-B5F2-4C71EAAA99B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7A0766-A496-4660-9D67-AD75A05FE86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A1045-575B-40C5-BD61-9974739B3B13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F4980-C480-40E8-81A3-0F7BAA03059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6A19E-24F7-40AD-9ABE-EDFC3DD7628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B3825-94FF-471A-BB17-86BB1A772740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5535D-1EEA-4E1A-B191-E80B051DF5F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663748-16D3-447F-9CC9-C3D18C7D960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C19E8-0AF3-4F97-AAD8-1FB3B685E8B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7C2D42-D97E-4759-8D1F-BC27DCB1D24D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0CE06-7CF9-4D69-8C88-A7C504384DD1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54A415-6CE5-48C3-983F-A40B7CDF69B6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D4638-34BA-402A-809D-654055E54787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477FDE-A956-4414-827A-B2641C721AC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8A4C109-F002-4A90-A32F-2DA3A62E1688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8E61CD-38B0-402D-8ACC-86B1AE84171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E5259BE-5351-4BEF-BE89-EE177AD4AF5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B6E296-406B-4202-BBD6-20AEE05708E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97E8FD9-81F2-451C-8035-0786A90A5F5D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6148941-9648-4C5B-92C2-F907918D2D3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AC9B9D1-2D05-4AF9-9705-83CF62AFB1C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D9B23F-3986-4D90-9732-19304A7CC19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4EAB10-B586-419B-9F1E-CC1E00FC9DE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FA4531-E8EE-4A32-A196-7B28C098F986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E1E03FC-31D2-4E43-A057-7EF5CE875973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245324-1E00-4FE0-97B1-A13A551B0B8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AAC8C6-A63E-4F62-A665-BF808574B3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B1EC9E-4A5B-4ED4-8631-897FDF23E9D5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740EAC-8DB6-498A-B934-0B12867BA1B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414301-1397-4B13-83C7-26F51ADCAA8F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2A54FD-875B-4C4E-8820-C0CAB5EA269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AE5A29F-7B72-42C3-927F-6A8104857AC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A8BA136-4E76-4526-86D7-CFA27F352199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99744C-D2E6-4A67-B1C0-FA6EA8F3090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CCF8DD6-C517-4AC5-8EEC-58CB7B4727FB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A439D79-5C5A-4EDB-A901-DD18D632B846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591291-398A-4107-BEBD-ADD029C5EBC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9E2555-218D-400E-A5A2-280E4AA28D97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8111E-17CB-4D32-B5B2-A8EAEFD9D8E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35851-37AE-4461-867A-3C9C417ACCB0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40F5AC-0696-450D-8F7B-05A7F787F3A7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B32E03-74DB-4DC5-89A0-15970965E53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E5DA6-D4D6-4E05-92A1-D732D88CBF31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36EE57-91B8-4AF0-8A87-3D0FD34C476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E4220D-E393-40A4-B7FA-478B4F6ED2AD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CB70C6-B272-469B-972F-6C6D6932642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577B7C-563A-40FD-AD4B-CC73DFAD9A7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04BA62-E573-4285-BE70-59B682FE8AA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7916F-DC50-4FBE-B16A-DC4393B19CA6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5149FD-690D-484E-A510-F4BE51EE6AF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6F22545-7644-4707-B309-8659B36B9BB5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95E726E-4C69-47F1-B35F-08AC080391DF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6EDA08-6B31-41DD-8B88-21183D42BDFA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A59CB4D-9CAB-4918-B2A2-9D1B8B0DB00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109D60-F321-48F8-B228-68EF46609344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ACDA07-1218-4892-BC26-9FD379F6DF95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6B172ED-7D10-4563-99F4-04642FEB86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3E311-19FD-4F0D-B2DD-479A8C2E5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763AD50-0E63-4DDF-9553-808ED3B6884D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464153A-EDB2-46CF-A31C-E5D6F6D6B0CE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9653E5-46F7-4394-A231-3A8B0EACDDE9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B4DDCB5-9618-4860-B356-80B60DA0C4A5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D272FFF-CF17-4D5B-B9E4-041755B6580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F4D07F-0268-4A2F-9289-D0BD937AF6F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3579A4-F980-49C8-9AA3-7A751D7199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70BD1-AC76-433E-9357-DA64755C233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FD0449-FD98-45CF-9AF5-74FE97F276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74798-810E-487C-B210-34B910A603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6DDA5-AB0E-4B97-BE04-F6056854CA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D7EF03-D494-48E4-B14B-894C4621DD1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1A1449-F102-449A-8EFA-48D94B9D09C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5B3125-9499-4B1B-B928-F5DCA991723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7DEC96-E3A2-4662-920C-7B551E5469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B62CF-F2D7-49AF-AD37-CDC79EF61FB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BBCAF0-E9FF-4FDD-B3C6-CE3E336D878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52B30-C06A-418C-AB27-4346FB606330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5C16-3AE3-4F75-835E-296B0879C21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2E3E-E34C-4998-AD6E-7421F74A88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A663-C6E4-40C8-A258-5209C8FE26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A03C4-ACD3-4589-B8A1-6F537EBE196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0E27-E879-4B98-A719-373FE767F25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82C35-5BFF-48F7-965F-F1384DADB028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D78E-CA85-4C03-B558-94433015D39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A4E0-CD30-4EE0-9BE5-B2382C72137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832F-2770-4D37-96C0-2561970612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C1585-5EFB-41BA-B12B-CC2101B4424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33A68-1550-48A9-BE82-957FCF4FCC9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E9C4F-E8A3-4FD6-8553-5AEB5A679A4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C3CD-5B55-4130-B4FE-7541CCFCDB3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8E6F61-E50A-4CB0-AA74-86DAB24DE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901E0-86C9-4045-9171-F013A7E8113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59A331-3ECC-480A-9BA9-8740462EF29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3885EE-261B-472F-8C62-32AAE345A17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380503-E4D0-4A6B-8997-F87B9778097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5C7372-1C8C-4D44-B064-E5DFA783454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9AEF4F-9D29-47BA-A78F-F5D6E37953F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E113BF-24EA-48A5-8883-09CA6211C28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A84CB3-15D8-452F-BA6C-B6FEE710559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ED8317-6254-4162-9777-528B6DFFA19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72C650-5160-46A4-8339-DB21A4EF659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3C10F-9946-4A20-80DB-C4746CEB00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E41940-3644-4922-89BC-E98E742AF42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78E1D6-1193-4692-9A61-DC54C206D22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828795-93E4-422F-82C6-AD2E80F910E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D396FE-DD89-42E3-9E4D-24C6AE1A447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7DDE51-6A32-4D1F-95BE-4AFE1016CEC2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64D540-829C-476C-B701-97E1EFC2877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B13197E-15BC-4EDA-BD59-B5AB8EDF2C7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4B2A45-0EE6-4E3D-8D3E-5642C73C2C0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3C90D7-F945-42D9-9187-38A0F996A9E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C9608BE-B264-4177-9B2F-99D9E4A86E2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EAD602-F28E-4699-9C7F-046A52CCC5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ABD9F-839A-4F48-AA79-504E176AA89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A0C92B-415F-46CC-9FC4-4A273B802D9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79E031-1E36-49F1-A7CD-03059518FE1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6FFF54-E09E-4F61-AD99-A1CD241FE35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DAA89-3EED-46D9-85C9-8F595C927C36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49EEF-6D7C-43BA-BF5A-C89621A7C3D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A92463-0DB0-459C-B501-29B75FB8F8A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EA1564-630B-457C-A1DA-501670A76BF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89DD8-0879-4ECD-B456-515813BADE0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7798C-81B0-46D9-9F6C-F1DD8AAD0170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A0C01-1698-48A0-ADCB-FA9A240D0D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A91BF0-1CF8-4438-AC02-60570862DB6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8C5F7-E782-4E6F-9F19-F0B1A88DFDBB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43108-1112-456D-AADA-34E95C2E66C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78D0AE-BFE3-4608-BC86-5C9B71CF15AB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B5347-3E74-4350-932B-96CF1417D6D4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76125-0AE6-488F-956C-99FBD54BC72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113C25-87DD-4AD6-8553-DC7E410D380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5502D1F-2B5E-4517-88DD-5EF990EC93AB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9A8AC-54A5-42C5-9D8A-CF198E56199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179D3C-1865-4784-838E-F203219D864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EB4182-7148-43D4-8B77-B4730635A4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A9BCB-A647-4BA7-9A2E-753D5A57EDD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33012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A37D22-99F1-4FC8-9DEA-FAE06A8E121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00B8D64-3B87-441C-AC42-603204CC9E4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146BBC-0514-4817-8607-1950825F5834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7EB6C6-3552-4B53-AB9D-0551229C89A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CB9B8D-3083-40CF-AC75-2BE61491329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0F9F8-7A18-4F83-A09E-2B8812ED158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D5D2D7-811A-4AC3-8716-D871C141AF12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81CD0F-1DEC-4574-A43A-C35D0DAA15B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0C9244-576E-4F9C-83DD-925C0245288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1275E8-4F6E-4368-9AC8-20F1803997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2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3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4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45.xml"/><Relationship Id="rId7" Type="http://schemas.openxmlformats.org/officeDocument/2006/relationships/slideLayout" Target="../slideLayouts/slideLayout146.xml"/><Relationship Id="rId8" Type="http://schemas.openxmlformats.org/officeDocument/2006/relationships/slideLayout" Target="../slideLayouts/slideLayout147.xml"/><Relationship Id="rId9" Type="http://schemas.openxmlformats.org/officeDocument/2006/relationships/slideLayout" Target="../slideLayouts/slideLayout148.xml"/><Relationship Id="rId10" Type="http://schemas.openxmlformats.org/officeDocument/2006/relationships/slideLayout" Target="../slideLayouts/slideLayout149.xml"/><Relationship Id="rId11" Type="http://schemas.openxmlformats.org/officeDocument/2006/relationships/slideLayout" Target="../slideLayouts/slideLayout150.xml"/><Relationship Id="rId12" Type="http://schemas.openxmlformats.org/officeDocument/2006/relationships/slideLayout" Target="../slideLayouts/slideLayout151.xml"/><Relationship Id="rId13" Type="http://schemas.openxmlformats.org/officeDocument/2006/relationships/slideLayout" Target="../slideLayouts/slideLayout152.xml"/><Relationship Id="rId14" Type="http://schemas.openxmlformats.org/officeDocument/2006/relationships/slideLayout" Target="../slideLayouts/slideLayout153.xml"/><Relationship Id="rId15" Type="http://schemas.openxmlformats.org/officeDocument/2006/relationships/slideLayout" Target="../slideLayouts/slideLayout154.xml"/><Relationship Id="rId16" Type="http://schemas.openxmlformats.org/officeDocument/2006/relationships/slideLayout" Target="../slideLayouts/slideLayout155.xml"/><Relationship Id="rId17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93.xml"/><Relationship Id="rId7" Type="http://schemas.openxmlformats.org/officeDocument/2006/relationships/slideLayout" Target="../slideLayouts/slideLayout194.xml"/><Relationship Id="rId8" Type="http://schemas.openxmlformats.org/officeDocument/2006/relationships/slideLayout" Target="../slideLayouts/slideLayout195.xml"/><Relationship Id="rId9" Type="http://schemas.openxmlformats.org/officeDocument/2006/relationships/slideLayout" Target="../slideLayouts/slideLayout196.xml"/><Relationship Id="rId10" Type="http://schemas.openxmlformats.org/officeDocument/2006/relationships/slideLayout" Target="../slideLayouts/slideLayout197.xml"/><Relationship Id="rId11" Type="http://schemas.openxmlformats.org/officeDocument/2006/relationships/slideLayout" Target="../slideLayouts/slideLayout198.xml"/><Relationship Id="rId12" Type="http://schemas.openxmlformats.org/officeDocument/2006/relationships/slideLayout" Target="../slideLayouts/slideLayout199.xml"/><Relationship Id="rId13" Type="http://schemas.openxmlformats.org/officeDocument/2006/relationships/slideLayout" Target="../slideLayouts/slideLayout200.xml"/><Relationship Id="rId14" Type="http://schemas.openxmlformats.org/officeDocument/2006/relationships/slideLayout" Target="../slideLayouts/slideLayout201.xml"/><Relationship Id="rId15" Type="http://schemas.openxmlformats.org/officeDocument/2006/relationships/slideLayout" Target="../slideLayouts/slideLayout202.xml"/><Relationship Id="rId16" Type="http://schemas.openxmlformats.org/officeDocument/2006/relationships/slideLayout" Target="../slideLayouts/slideLayout203.xml"/><Relationship Id="rId17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6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8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0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202E-ED60-4E25-8523-CF6B5D7BF47A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:\DATEN\Nimbus_allgemein\logo_NImbus\Bildschirm\100dpiRGB\Nimbus1-100dpiRGB.jpg"/>
          <p:cNvPicPr/>
          <p:nvPr/>
        </p:nvPicPr>
        <p:blipFill>
          <a:blip r:embed="rId4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87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sldNum" idx="1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3993E-A497-4632-A6F8-F4187C33DFE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1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30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2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0600-3B44-4968-A9D2-CD1659D437DF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2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73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sldNum" idx="2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3CCF-4F47-462A-9063-F4CA3574602F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2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16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sldNum" idx="2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65BF-E1E6-4C12-A821-F5907AE3D2A1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6"/>
    <p:sldLayoutId id="2147483806" r:id="rId7"/>
    <p:sldLayoutId id="2147483807" r:id="rId8"/>
    <p:sldLayoutId id="2147483808" r:id="rId9"/>
    <p:sldLayoutId id="2147483809" r:id="rId10"/>
    <p:sldLayoutId id="2147483810" r:id="rId11"/>
    <p:sldLayoutId id="2147483811" r:id="rId12"/>
    <p:sldLayoutId id="2147483812" r:id="rId13"/>
    <p:sldLayoutId id="2147483813" r:id="rId14"/>
    <p:sldLayoutId id="2147483814" r:id="rId15"/>
    <p:sldLayoutId id="2147483815" r:id="rId16"/>
    <p:sldLayoutId id="2147483816" r:id="rId17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559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 type="sldNum" idx="2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5C76-BB97-4ED1-A22B-C088A3A613B8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 type="ftr" idx="2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02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Num" idx="2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435E-3841-4086-BB5F-4EF624CB5699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ftr" idx="2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45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sldNum" idx="3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7903-3B07-450E-B447-1D6646585D5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3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8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688" name="תמונה 6" descr="Divider1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sldNum" idx="3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78A3-26EB-4385-B5DA-3613B0B1D1B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6"/>
    <p:sldLayoutId id="2147483858" r:id="rId7"/>
    <p:sldLayoutId id="2147483859" r:id="rId8"/>
    <p:sldLayoutId id="2147483860" r:id="rId9"/>
    <p:sldLayoutId id="2147483861" r:id="rId10"/>
    <p:sldLayoutId id="2147483862" r:id="rId11"/>
    <p:sldLayoutId id="2147483863" r:id="rId12"/>
    <p:sldLayoutId id="2147483864" r:id="rId13"/>
    <p:sldLayoutId id="2147483865" r:id="rId14"/>
    <p:sldLayoutId id="2147483866" r:id="rId15"/>
    <p:sldLayoutId id="2147483867" r:id="rId16"/>
    <p:sldLayoutId id="2147483868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44" name="תמונה 6" descr="open-slide.jpg"/>
          <p:cNvPicPr/>
          <p:nvPr/>
        </p:nvPicPr>
        <p:blipFill>
          <a:blip r:embed="rId4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E:\DATEN\Nimbus_allgemein\logo_NImbus\Bildschirm\100dpiRGB\Nimbus1-100dpiRGB.jpg"/>
          <p:cNvPicPr/>
          <p:nvPr/>
        </p:nvPicPr>
        <p:blipFill>
          <a:blip r:embed="rId5"/>
          <a:stretch/>
        </p:blipFill>
        <p:spPr>
          <a:xfrm>
            <a:off x="7513560" y="6213600"/>
            <a:ext cx="1514520" cy="495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4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5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7456-E336-49EA-8513-BCDF3151603C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29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44F3E-6653-4C3D-A4BB-90C984969677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172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sldNum" idx="8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AE2D5-BB41-431E-A12B-967070905BB8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9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15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Num" idx="10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F1CD-FB8C-49BA-B148-4746EEBDB852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1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258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2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4B255-AE08-496F-9025-494260FD0E9A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3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01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sldNum" idx="14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7970-D643-410A-9A07-836434CB383E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5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תמונה 6" descr="content-slide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E:\DATEN\Nimbus_allgemein\logo_NImbus\Bildschirm\100dpiRGB\Nimbus1-100dpiRGB.jpg"/>
          <p:cNvPicPr/>
          <p:nvPr/>
        </p:nvPicPr>
        <p:blipFill>
          <a:blip r:embed="rId3"/>
          <a:stretch/>
        </p:blipFill>
        <p:spPr>
          <a:xfrm>
            <a:off x="7464600" y="6238800"/>
            <a:ext cx="1566720" cy="514440"/>
          </a:xfrm>
          <a:prstGeom prst="rect">
            <a:avLst/>
          </a:prstGeom>
          <a:ln w="0">
            <a:noFill/>
          </a:ln>
        </p:spPr>
      </p:pic>
      <p:pic>
        <p:nvPicPr>
          <p:cNvPr id="344" name="תמונה 7" descr="Image1.jpg"/>
          <p:cNvPicPr/>
          <p:nvPr/>
        </p:nvPicPr>
        <p:blipFill>
          <a:blip r:embed="rId4"/>
          <a:stretch/>
        </p:blipFill>
        <p:spPr>
          <a:xfrm>
            <a:off x="6524640" y="1371600"/>
            <a:ext cx="2619360" cy="5486400"/>
          </a:xfrm>
          <a:prstGeom prst="rect">
            <a:avLst/>
          </a:prstGeom>
          <a:ln w="0">
            <a:noFill/>
          </a:ln>
        </p:spPr>
      </p:pic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Num" idx="16"/>
          </p:nvPr>
        </p:nvSpPr>
        <p:spPr>
          <a:xfrm>
            <a:off x="-95760" y="6587640"/>
            <a:ext cx="3812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8eb4e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9A2E8-B89D-48B4-87E1-ABE2E775BC7B}" type="slidenum">
              <a:rPr b="0" lang="en-GB" sz="900" spc="-1" strike="noStrike">
                <a:solidFill>
                  <a:srgbClr val="8eb4e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17"/>
          </p:nvPr>
        </p:nvSpPr>
        <p:spPr>
          <a:xfrm>
            <a:off x="431280" y="6587640"/>
            <a:ext cx="5210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da.etsi.org/pda/queryform.asp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eur-lex.europa.eu/LexUriServ/LexUriServ.do?uri=COM:2012:0238:FIN:EN:PDF" TargetMode="External"/><Relationship Id="rId5" Type="http://schemas.openxmlformats.org/officeDocument/2006/relationships/hyperlink" Target="mailto:arno.fiedler@nimbus-berlin.com" TargetMode="External"/><Relationship Id="rId6" Type="http://schemas.openxmlformats.org/officeDocument/2006/relationships/hyperlink" Target="mailto:nick.pope@thales-esecurity.c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28.jpeg"/><Relationship Id="rId10" Type="http://schemas.openxmlformats.org/officeDocument/2006/relationships/image" Target="../media/image29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25.xml"/><Relationship Id="rId11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Footer Placeholder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16040" y="5513400"/>
            <a:ext cx="8067600" cy="58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Calibri"/>
              </a:rPr>
              <a:t>EUROPEAN UNION MANDATE/460</a:t>
            </a:r>
            <a:endParaRPr b="1" lang="en-US" sz="1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15680" y="5084280"/>
            <a:ext cx="80802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95959"/>
                </a:solidFill>
                <a:latin typeface="Calibri"/>
              </a:rPr>
              <a:t>Kloster Banz 11.09.2013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742680" y="6000480"/>
            <a:ext cx="808812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7000"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Presented by Arno Fiedler,  Member of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E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uropean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T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ommunication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S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tandards </a:t>
            </a:r>
            <a:r>
              <a:rPr b="1" lang="en-GB" sz="1600" spc="-1" strike="noStrike">
                <a:solidFill>
                  <a:srgbClr val="595959"/>
                </a:solidFill>
                <a:latin typeface="Calibri"/>
              </a:rPr>
              <a:t>I</a:t>
            </a: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nstitute</a:t>
            </a:r>
            <a:br>
              <a:rPr sz="1600"/>
            </a:br>
            <a:r>
              <a:rPr b="0" lang="en-GB" sz="1600" spc="-1" strike="noStrike">
                <a:solidFill>
                  <a:srgbClr val="595959"/>
                </a:solidFill>
                <a:latin typeface="Calibri"/>
              </a:rPr>
              <a:t>Electronic Signatures and Infrastructures, Specialist Task Force 458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5. Summary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9" name="Fußzeilenplatzhalt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3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oliennummernplatzhalt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97E9D-9B41-443B-9D78-691DF9999337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hteck 5"/>
          <p:cNvSpPr/>
          <p:nvPr/>
        </p:nvSpPr>
        <p:spPr>
          <a:xfrm>
            <a:off x="392040" y="2357280"/>
            <a:ext cx="861084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he new draft EU-Regulation will deliver a complete legal and trust framework for 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Proactive Supervision 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on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qualified level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br>
              <a:rPr sz="2400"/>
            </a:br>
            <a:r>
              <a:rPr b="0" lang="de-DE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TSI and CEN standards will be a fundamental part in future EU legislation (delegating acts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).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but: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relying parties (in Europe!) have to consume the Trust we provide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1f497d"/>
                </a:solidFill>
                <a:latin typeface="Calibri"/>
              </a:rPr>
              <a:t>Thank you !</a:t>
            </a:r>
            <a:endParaRPr b="1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TSI Download 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pda.etsi.org/pda/queryform.asp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nter keyword / title /  document numb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Draft EU Regulation:</a:t>
            </a:r>
            <a:br>
              <a:rPr sz="2400"/>
            </a:br>
            <a:r>
              <a:rPr b="0" lang="en-GB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eur-lex.europa.eu/LexUriServ/LexUriServ.do?uri=COM:2012:0238:FIN:EN:PDF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ontact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Arno Fiedler: STF 458  </a:t>
            </a: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arno.fiedler@nimbus-berlin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404040"/>
                </a:solidFill>
                <a:latin typeface="Calibri"/>
              </a:rPr>
              <a:t>Iñigo Barreira: STF 458 </a:t>
            </a:r>
            <a:r>
              <a:rPr b="0" lang="es-ES" sz="2000" spc="-1" strike="noStrike" u="sng">
                <a:solidFill>
                  <a:srgbClr val="254061"/>
                </a:solidFill>
                <a:uFillTx/>
                <a:latin typeface="Calibri"/>
              </a:rPr>
              <a:t>i-barreira@izenpe.net</a:t>
            </a:r>
            <a:br>
              <a:rPr sz="2000"/>
            </a:b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Nick Pope: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ead STF 458 (TSP &amp; e-Signature standards) </a:t>
            </a:r>
            <a:br>
              <a:rPr sz="20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nick.pope@thales-esecurity.com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4" name="Footer Placehold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Slide Number Placeholder 4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24A3-C903-4BBE-A369-9C667B35C02C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53D63-94D9-4F96-BB59-5F7196708A9E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8" name="Diagramm 3" descr=""/>
          <p:cNvPicPr/>
          <p:nvPr/>
        </p:nvPicPr>
        <p:blipFill>
          <a:blip r:embed="rId1"/>
          <a:stretch/>
        </p:blipFill>
        <p:spPr>
          <a:xfrm>
            <a:off x="476280" y="1359000"/>
            <a:ext cx="8028000" cy="4992480"/>
          </a:xfrm>
          <a:prstGeom prst="rect">
            <a:avLst/>
          </a:prstGeom>
          <a:ln w="0">
            <a:noFill/>
          </a:ln>
        </p:spPr>
      </p:pic>
      <p:sp>
        <p:nvSpPr>
          <p:cNvPr id="849" name="Rechteck 5"/>
          <p:cNvSpPr/>
          <p:nvPr/>
        </p:nvSpPr>
        <p:spPr>
          <a:xfrm>
            <a:off x="457200" y="212760"/>
            <a:ext cx="623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    Actual (Best) Practise for SS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Fußzeilenplatzhalter 1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1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Foliennummernplatzhalter 2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09267-5C16-429F-9401-BC6D4B730BCC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Diagramm 3" descr=""/>
          <p:cNvPicPr/>
          <p:nvPr/>
        </p:nvPicPr>
        <p:blipFill>
          <a:blip r:embed="rId1"/>
          <a:stretch/>
        </p:blipFill>
        <p:spPr>
          <a:xfrm>
            <a:off x="549360" y="1359000"/>
            <a:ext cx="7924680" cy="4992480"/>
          </a:xfrm>
          <a:prstGeom prst="rect">
            <a:avLst/>
          </a:prstGeom>
          <a:ln w="0">
            <a:noFill/>
          </a:ln>
        </p:spPr>
      </p:pic>
      <p:sp>
        <p:nvSpPr>
          <p:cNvPr id="853" name="Rechteck 5"/>
          <p:cNvSpPr/>
          <p:nvPr/>
        </p:nvSpPr>
        <p:spPr>
          <a:xfrm>
            <a:off x="266760" y="185760"/>
            <a:ext cx="65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2. Assessment &amp; Certification – </a:t>
            </a:r>
            <a:br>
              <a:rPr sz="2400"/>
            </a:b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actual TSP Perspective </a:t>
            </a: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(german examp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634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1. ETSI activities</a:t>
            </a:r>
            <a:endParaRPr b="1" lang="en-US" sz="36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1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74A5C-DA24-4E49-BDB3-73959EDBA17B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2" name="Text Box 13"/>
          <p:cNvGrpSpPr/>
          <p:nvPr/>
        </p:nvGrpSpPr>
        <p:grpSpPr>
          <a:xfrm>
            <a:off x="463680" y="3067200"/>
            <a:ext cx="2749320" cy="876240"/>
            <a:chOff x="463680" y="3067200"/>
            <a:chExt cx="2749320" cy="876240"/>
          </a:xfrm>
        </p:grpSpPr>
        <p:pic>
          <p:nvPicPr>
            <p:cNvPr id="743" name="Text Box 13" descr=""/>
            <p:cNvPicPr/>
            <p:nvPr/>
          </p:nvPicPr>
          <p:blipFill>
            <a:blip r:embed="rId1"/>
            <a:stretch/>
          </p:blipFill>
          <p:spPr>
            <a:xfrm>
              <a:off x="463680" y="3067200"/>
              <a:ext cx="274932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"/>
            <p:cNvSpPr/>
            <p:nvPr/>
          </p:nvSpPr>
          <p:spPr>
            <a:xfrm>
              <a:off x="538200" y="3129120"/>
              <a:ext cx="2552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in support of EU regul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5" name="AutoShape 7"/>
          <p:cNvGrpSpPr/>
          <p:nvPr/>
        </p:nvGrpSpPr>
        <p:grpSpPr>
          <a:xfrm>
            <a:off x="2925720" y="2414520"/>
            <a:ext cx="1079640" cy="822240"/>
            <a:chOff x="2925720" y="2414520"/>
            <a:chExt cx="1079640" cy="822240"/>
          </a:xfrm>
        </p:grpSpPr>
        <p:pic>
          <p:nvPicPr>
            <p:cNvPr id="746" name="AutoShape 7" descr=""/>
            <p:cNvPicPr/>
            <p:nvPr/>
          </p:nvPicPr>
          <p:blipFill>
            <a:blip r:embed="rId2"/>
            <a:stretch/>
          </p:blipFill>
          <p:spPr>
            <a:xfrm>
              <a:off x="2925720" y="2414520"/>
              <a:ext cx="107964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7" name=""/>
            <p:cNvSpPr/>
            <p:nvPr/>
          </p:nvSpPr>
          <p:spPr>
            <a:xfrm rot="12693600">
              <a:off x="3025440" y="2805840"/>
              <a:ext cx="965160" cy="9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8" name="Picture 5" descr="MPj03994060000[1]"/>
          <p:cNvPicPr/>
          <p:nvPr/>
        </p:nvPicPr>
        <p:blipFill>
          <a:blip r:embed="rId3"/>
          <a:stretch/>
        </p:blipFill>
        <p:spPr>
          <a:xfrm>
            <a:off x="914400" y="1725480"/>
            <a:ext cx="1762200" cy="138276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4" descr="Globe-for-Web.jpg Shipping Worldewide image by Darmon9"/>
          <p:cNvPicPr/>
          <p:nvPr/>
        </p:nvPicPr>
        <p:blipFill>
          <a:blip r:embed="rId4"/>
          <a:stretch/>
        </p:blipFill>
        <p:spPr>
          <a:xfrm>
            <a:off x="6499080" y="1704960"/>
            <a:ext cx="1622520" cy="1565280"/>
          </a:xfrm>
          <a:prstGeom prst="rect">
            <a:avLst/>
          </a:prstGeom>
          <a:ln w="0">
            <a:noFill/>
          </a:ln>
        </p:spPr>
      </p:pic>
      <p:grpSp>
        <p:nvGrpSpPr>
          <p:cNvPr id="750" name="Text Box 15"/>
          <p:cNvGrpSpPr/>
          <p:nvPr/>
        </p:nvGrpSpPr>
        <p:grpSpPr>
          <a:xfrm>
            <a:off x="3529080" y="5114880"/>
            <a:ext cx="2262240" cy="871560"/>
            <a:chOff x="3529080" y="5114880"/>
            <a:chExt cx="2262240" cy="871560"/>
          </a:xfrm>
        </p:grpSpPr>
        <p:pic>
          <p:nvPicPr>
            <p:cNvPr id="751" name="Text Box 15" descr=""/>
            <p:cNvPicPr/>
            <p:nvPr/>
          </p:nvPicPr>
          <p:blipFill>
            <a:blip r:embed="rId5"/>
            <a:stretch/>
          </p:blipFill>
          <p:spPr>
            <a:xfrm>
              <a:off x="3529080" y="5114880"/>
              <a:ext cx="2262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"/>
            <p:cNvSpPr/>
            <p:nvPr/>
          </p:nvSpPr>
          <p:spPr>
            <a:xfrm>
              <a:off x="3584520" y="5173560"/>
              <a:ext cx="215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Interoperabilit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3" name="Text Box 12"/>
          <p:cNvGrpSpPr/>
          <p:nvPr/>
        </p:nvGrpSpPr>
        <p:grpSpPr>
          <a:xfrm>
            <a:off x="6076800" y="3139920"/>
            <a:ext cx="2451240" cy="871560"/>
            <a:chOff x="6076800" y="3139920"/>
            <a:chExt cx="2451240" cy="871560"/>
          </a:xfrm>
        </p:grpSpPr>
        <p:pic>
          <p:nvPicPr>
            <p:cNvPr id="754" name="Text Box 12" descr=""/>
            <p:cNvPicPr/>
            <p:nvPr/>
          </p:nvPicPr>
          <p:blipFill>
            <a:blip r:embed="rId6"/>
            <a:stretch/>
          </p:blipFill>
          <p:spPr>
            <a:xfrm>
              <a:off x="6076800" y="3139920"/>
              <a:ext cx="24512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5" name=""/>
            <p:cNvSpPr/>
            <p:nvPr/>
          </p:nvSpPr>
          <p:spPr>
            <a:xfrm>
              <a:off x="6149880" y="3200400"/>
              <a:ext cx="2308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Standards for global ICT marke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AutoShape 7"/>
          <p:cNvGrpSpPr/>
          <p:nvPr/>
        </p:nvGrpSpPr>
        <p:grpSpPr>
          <a:xfrm>
            <a:off x="4492800" y="4065480"/>
            <a:ext cx="347400" cy="1067040"/>
            <a:chOff x="4492800" y="4065480"/>
            <a:chExt cx="347400" cy="1067040"/>
          </a:xfrm>
        </p:grpSpPr>
        <p:pic>
          <p:nvPicPr>
            <p:cNvPr id="757" name="AutoShape 7" descr=""/>
            <p:cNvPicPr/>
            <p:nvPr/>
          </p:nvPicPr>
          <p:blipFill>
            <a:blip r:embed="rId7"/>
            <a:stretch/>
          </p:blipFill>
          <p:spPr>
            <a:xfrm>
              <a:off x="4492800" y="4065480"/>
              <a:ext cx="3474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8" name=""/>
            <p:cNvSpPr/>
            <p:nvPr/>
          </p:nvSpPr>
          <p:spPr>
            <a:xfrm rot="5400000">
              <a:off x="4234320" y="4484160"/>
              <a:ext cx="863640" cy="8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AutoShape 7"/>
          <p:cNvGrpSpPr/>
          <p:nvPr/>
        </p:nvGrpSpPr>
        <p:grpSpPr>
          <a:xfrm>
            <a:off x="5450040" y="2414520"/>
            <a:ext cx="1090440" cy="798480"/>
            <a:chOff x="5450040" y="2414520"/>
            <a:chExt cx="1090440" cy="798480"/>
          </a:xfrm>
        </p:grpSpPr>
        <p:pic>
          <p:nvPicPr>
            <p:cNvPr id="760" name="AutoShape 7" descr=""/>
            <p:cNvPicPr/>
            <p:nvPr/>
          </p:nvPicPr>
          <p:blipFill>
            <a:blip r:embed="rId8"/>
            <a:stretch/>
          </p:blipFill>
          <p:spPr>
            <a:xfrm>
              <a:off x="5450040" y="2414520"/>
              <a:ext cx="109044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 rot="19785600">
              <a:off x="5467320" y="2792520"/>
              <a:ext cx="965160" cy="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62" name="Picture 14" descr="PLUGTESTS.jpg"/>
          <p:cNvPicPr/>
          <p:nvPr/>
        </p:nvPicPr>
        <p:blipFill>
          <a:blip r:embed="rId9"/>
          <a:stretch/>
        </p:blipFill>
        <p:spPr>
          <a:xfrm>
            <a:off x="3629160" y="5854680"/>
            <a:ext cx="2033280" cy="56520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13" descr="ETSI Logo_S_Office1.jpg"/>
          <p:cNvPicPr/>
          <p:nvPr/>
        </p:nvPicPr>
        <p:blipFill>
          <a:blip r:embed="rId10"/>
          <a:stretch/>
        </p:blipFill>
        <p:spPr>
          <a:xfrm>
            <a:off x="3340080" y="3159000"/>
            <a:ext cx="2625840" cy="846360"/>
          </a:xfrm>
          <a:prstGeom prst="rect">
            <a:avLst/>
          </a:prstGeom>
          <a:ln w="0">
            <a:noFill/>
          </a:ln>
        </p:spPr>
      </p:pic>
      <p:sp>
        <p:nvSpPr>
          <p:cNvPr id="764" name="מציין מיקום של כותרת תחתונה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eb4e3"/>
                </a:solidFill>
                <a:latin typeface="Arial"/>
              </a:rPr>
              <a:t>© ETSI 2012. All rights reser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hteck 1"/>
          <p:cNvSpPr/>
          <p:nvPr/>
        </p:nvSpPr>
        <p:spPr>
          <a:xfrm>
            <a:off x="2838600" y="1573200"/>
            <a:ext cx="38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SM, DECT, TETRA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GPP: UMTS, LTE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I:TSL, XAdES, PAdES, 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276120" y="0"/>
            <a:ext cx="8229600" cy="10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1. ETSI Electronic Signatures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and Infrastructures (ESI) TC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67" name=""/>
          <p:cNvSpPr txBox="1"/>
          <p:nvPr/>
        </p:nvSpPr>
        <p:spPr>
          <a:xfrm>
            <a:off x="114480" y="1402920"/>
            <a:ext cx="885816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ince 2000 ETSI/ESI plays a key role in the development of electronic signature related standard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Signature formats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XAdES (TS 101 903) -&gt;ISO, CAdES (TS 101 733) -&gt;ISO, PAdES (TS 102 778) -&gt;ISO and ASiC (TS 102 918) and related profile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rust Service Provider (TSP) Status Information (TSL, TS 102 231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Policy requirements for CAs: TS 102 042, TS 101 456 (</a:t>
            </a: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Qual. Cert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.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SA policy requirements: TS 102 023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ertificate profiles: TS 101 862 (Qual. Cert.), TS 102 280 (Nat. Persons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Registered Electronic Mail 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(eDelivery): TS 102 640 (multipart)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40"/>
                </a:solidFill>
                <a:latin typeface="Calibri"/>
              </a:rPr>
              <a:t>Data preservation</a:t>
            </a: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: TS 101 533-1, TR 101 533-2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5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lgo paper: TS 102 176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llaborates with ETSI CTI, Centre for Testing and Interoperability for Plugtests even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OI with CA/B-Forum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601560" indent="-231480">
              <a:spcBef>
                <a:spcPts val="499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277560" indent="-2775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68" name="Segnaposto numero diapositiva 4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B052-F8C0-4D75-B248-5F96D7F2C655}" type="slidenum">
              <a:rPr b="0" lang="it-IT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9" name="Group 33"/>
          <p:cNvGrpSpPr/>
          <p:nvPr/>
        </p:nvGrpSpPr>
        <p:grpSpPr>
          <a:xfrm>
            <a:off x="552600" y="3929040"/>
            <a:ext cx="8108640" cy="2305080"/>
            <a:chOff x="552600" y="3929040"/>
            <a:chExt cx="8108640" cy="2305080"/>
          </a:xfrm>
        </p:grpSpPr>
        <p:sp>
          <p:nvSpPr>
            <p:cNvPr id="770" name="Rounded Rectangle 24"/>
            <p:cNvSpPr/>
            <p:nvPr/>
          </p:nvSpPr>
          <p:spPr>
            <a:xfrm>
              <a:off x="552600" y="3929040"/>
              <a:ext cx="8108640" cy="2305080"/>
            </a:xfrm>
            <a:prstGeom prst="roundRect">
              <a:avLst>
                <a:gd name="adj" fmla="val 16667"/>
              </a:avLst>
            </a:prstGeom>
            <a:solidFill>
              <a:srgbClr val="f2f2f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Group 31"/>
            <p:cNvGrpSpPr/>
            <p:nvPr/>
          </p:nvGrpSpPr>
          <p:grpSpPr>
            <a:xfrm>
              <a:off x="2443320" y="4036680"/>
              <a:ext cx="4298040" cy="649800"/>
              <a:chOff x="2443320" y="4036680"/>
              <a:chExt cx="4298040" cy="649800"/>
            </a:xfrm>
          </p:grpSpPr>
          <p:sp>
            <p:nvSpPr>
              <p:cNvPr id="772" name="Rectangle 98"/>
              <p:cNvSpPr/>
              <p:nvPr/>
            </p:nvSpPr>
            <p:spPr>
              <a:xfrm>
                <a:off x="2579400" y="4036680"/>
                <a:ext cx="41198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d0d0d"/>
                    </a:solidFill>
                    <a:latin typeface="Arial"/>
                    <a:ea typeface="Arial"/>
                  </a:rPr>
                  <a:t>Consistency &amp; formal (efficient) mapping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9"/>
              <p:cNvGrpSpPr/>
              <p:nvPr/>
            </p:nvGrpSpPr>
            <p:grpSpPr>
              <a:xfrm>
                <a:off x="2443320" y="4272840"/>
                <a:ext cx="4298040" cy="413640"/>
                <a:chOff x="2443320" y="4272840"/>
                <a:chExt cx="4298040" cy="413640"/>
              </a:xfrm>
            </p:grpSpPr>
            <p:sp>
              <p:nvSpPr>
                <p:cNvPr id="774" name="Left-Right Arrow 28"/>
                <p:cNvSpPr/>
                <p:nvPr/>
              </p:nvSpPr>
              <p:spPr>
                <a:xfrm rot="18837600">
                  <a:off x="2438640" y="4399200"/>
                  <a:ext cx="412920" cy="163440"/>
                </a:xfrm>
                <a:prstGeom prst="leftRightArrow">
                  <a:avLst>
                    <a:gd name="adj1" fmla="val 50000"/>
                    <a:gd name="adj2" fmla="val 35089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Left-Right Arrow 29"/>
                <p:cNvSpPr/>
                <p:nvPr/>
              </p:nvSpPr>
              <p:spPr>
                <a:xfrm flipH="1" rot="2762400">
                  <a:off x="6332400" y="4396320"/>
                  <a:ext cx="412920" cy="163800"/>
                </a:xfrm>
                <a:prstGeom prst="leftRightArrow">
                  <a:avLst>
                    <a:gd name="adj1" fmla="val 50000"/>
                    <a:gd name="adj2" fmla="val 35012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Left-Right Arrow 30"/>
                <p:cNvSpPr/>
                <p:nvPr/>
              </p:nvSpPr>
              <p:spPr>
                <a:xfrm rot="16200000">
                  <a:off x="4376160" y="4412520"/>
                  <a:ext cx="299880" cy="163440"/>
                </a:xfrm>
                <a:prstGeom prst="leftRightArrow">
                  <a:avLst>
                    <a:gd name="adj1" fmla="val 50000"/>
                    <a:gd name="adj2" fmla="val 35048"/>
                  </a:avLst>
                </a:prstGeom>
                <a:solidFill>
                  <a:srgbClr val="92d050"/>
                </a:solidFill>
                <a:ln w="284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77" name="Rectangle 3"/>
          <p:cNvSpPr/>
          <p:nvPr/>
        </p:nvSpPr>
        <p:spPr>
          <a:xfrm>
            <a:off x="0" y="1246320"/>
            <a:ext cx="8964720" cy="10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alizations, consistency and mapping of efficient Legal, Technical, Trust and Promotional frameworks are key success factors to convince market &amp; business stakeholders of the possible ROI of eSignatures securing their eProces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8" name="Group 20"/>
          <p:cNvGrpSpPr/>
          <p:nvPr/>
        </p:nvGrpSpPr>
        <p:grpSpPr>
          <a:xfrm>
            <a:off x="2786040" y="4722840"/>
            <a:ext cx="3600360" cy="1511280"/>
            <a:chOff x="2786040" y="4722840"/>
            <a:chExt cx="3600360" cy="1511280"/>
          </a:xfrm>
        </p:grpSpPr>
        <p:sp>
          <p:nvSpPr>
            <p:cNvPr id="779" name="Rounded Rectangle 6"/>
            <p:cNvSpPr/>
            <p:nvPr/>
          </p:nvSpPr>
          <p:spPr>
            <a:xfrm>
              <a:off x="2786040" y="4722840"/>
              <a:ext cx="360036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98"/>
            <p:cNvSpPr/>
            <p:nvPr/>
          </p:nvSpPr>
          <p:spPr>
            <a:xfrm>
              <a:off x="2912760" y="4794120"/>
              <a:ext cx="3373560" cy="13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tandardization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Covering whole range of ES prod / serv., ES types and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Business practice drive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ropriate guid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1" name="Rectangle 98"/>
          <p:cNvSpPr/>
          <p:nvPr/>
        </p:nvSpPr>
        <p:spPr>
          <a:xfrm>
            <a:off x="2739960" y="2333520"/>
            <a:ext cx="3714840" cy="73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50"/>
                </a:solidFill>
                <a:latin typeface="Arial"/>
              </a:rPr>
              <a:t>Sound CSPs &amp;Trust Services Provisioning market for interoperable and cross-border use eSign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2" name="Group 22"/>
          <p:cNvGrpSpPr/>
          <p:nvPr/>
        </p:nvGrpSpPr>
        <p:grpSpPr>
          <a:xfrm>
            <a:off x="6500880" y="4722840"/>
            <a:ext cx="2359080" cy="1511280"/>
            <a:chOff x="6500880" y="4722840"/>
            <a:chExt cx="2359080" cy="1511280"/>
          </a:xfrm>
        </p:grpSpPr>
        <p:sp>
          <p:nvSpPr>
            <p:cNvPr id="783" name="Rounded Rectangle 10"/>
            <p:cNvSpPr/>
            <p:nvPr/>
          </p:nvSpPr>
          <p:spPr>
            <a:xfrm>
              <a:off x="6500880" y="4722840"/>
              <a:ext cx="235908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98"/>
            <p:cNvSpPr/>
            <p:nvPr/>
          </p:nvSpPr>
          <p:spPr>
            <a:xfrm>
              <a:off x="6659640" y="4786200"/>
              <a:ext cx="2001960" cy="138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Supervision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Voluntary accreditation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Trust Status Li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Application labe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Rectangle 2"/>
          <p:cNvSpPr/>
          <p:nvPr/>
        </p:nvSpPr>
        <p:spPr>
          <a:xfrm>
            <a:off x="357120" y="81000"/>
            <a:ext cx="777240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2. Crobies Study in 2010: </a:t>
            </a:r>
            <a:br>
              <a:rPr sz="2800"/>
            </a:b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Key success factors for eSignatu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6" name="Group 32"/>
          <p:cNvGrpSpPr/>
          <p:nvPr/>
        </p:nvGrpSpPr>
        <p:grpSpPr>
          <a:xfrm>
            <a:off x="3535200" y="3137040"/>
            <a:ext cx="1965600" cy="755640"/>
            <a:chOff x="3535200" y="3137040"/>
            <a:chExt cx="1965600" cy="755640"/>
          </a:xfrm>
        </p:grpSpPr>
        <p:sp>
          <p:nvSpPr>
            <p:cNvPr id="787" name="Down Arrow 25"/>
            <p:cNvSpPr/>
            <p:nvPr/>
          </p:nvSpPr>
          <p:spPr>
            <a:xfrm flipV="1">
              <a:off x="4392720" y="3137040"/>
              <a:ext cx="179280" cy="720720"/>
            </a:xfrm>
            <a:prstGeom prst="downArrow">
              <a:avLst>
                <a:gd name="adj1" fmla="val 50000"/>
                <a:gd name="adj2" fmla="val 50028"/>
              </a:avLst>
            </a:prstGeom>
            <a:solidFill>
              <a:srgbClr val="92d05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98"/>
            <p:cNvSpPr/>
            <p:nvPr/>
          </p:nvSpPr>
          <p:spPr>
            <a:xfrm>
              <a:off x="3535200" y="3344760"/>
              <a:ext cx="1965600" cy="547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Promo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Group 19"/>
          <p:cNvGrpSpPr/>
          <p:nvPr/>
        </p:nvGrpSpPr>
        <p:grpSpPr>
          <a:xfrm>
            <a:off x="285840" y="4721400"/>
            <a:ext cx="2340000" cy="1511280"/>
            <a:chOff x="285840" y="4721400"/>
            <a:chExt cx="2340000" cy="1511280"/>
          </a:xfrm>
        </p:grpSpPr>
        <p:sp>
          <p:nvSpPr>
            <p:cNvPr id="790" name="Rounded Rectangle 22"/>
            <p:cNvSpPr/>
            <p:nvPr/>
          </p:nvSpPr>
          <p:spPr>
            <a:xfrm>
              <a:off x="285840" y="4721400"/>
              <a:ext cx="2340000" cy="1511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98"/>
            <p:cNvSpPr/>
            <p:nvPr/>
          </p:nvSpPr>
          <p:spPr>
            <a:xfrm>
              <a:off x="357120" y="4765680"/>
              <a:ext cx="2203560" cy="14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Sound </a:t>
              </a:r>
              <a:r>
                <a:rPr b="1" i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Legal </a:t>
              </a:r>
              <a:r>
                <a:rPr b="1" lang="en-GB" sz="1600" spc="-1" strike="noStrike">
                  <a:solidFill>
                    <a:srgbClr val="0d0d0d"/>
                  </a:solidFill>
                  <a:latin typeface="Arial"/>
                  <a:ea typeface="Arial"/>
                </a:rPr>
                <a:t>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level of 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Range of ES prod/serv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Different types of CSP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d0d0d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 </a:t>
              </a:r>
              <a:r>
                <a:rPr b="0" lang="en-GB" sz="1400" spc="-1" strike="noStrike">
                  <a:solidFill>
                    <a:srgbClr val="0d0d0d"/>
                  </a:solidFill>
                  <a:latin typeface="Arial"/>
                  <a:ea typeface="Arial"/>
                </a:rPr>
                <a:t>International dimens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3.1 New approach for legal framework: </a:t>
            </a:r>
            <a:br>
              <a:rPr sz="2800"/>
            </a:b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Draft EU EIDAS- Regulation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3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E574-779B-4546-99FD-9FC2918FC77A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6840" y="1272960"/>
            <a:ext cx="853596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June 2012 – EU Commission publish </a:t>
            </a:r>
            <a:r>
              <a:rPr b="0" lang="en-GB" sz="2400" spc="-1" strike="noStrike" u="sng">
                <a:solidFill>
                  <a:srgbClr val="404040"/>
                </a:solidFill>
                <a:uFillTx/>
                <a:latin typeface="Calibri"/>
              </a:rPr>
              <a:t>first draft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regulation </a:t>
            </a:r>
            <a:br>
              <a:rPr sz="2400"/>
            </a:b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</a:t>
            </a:r>
            <a:r>
              <a:rPr b="1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1" lang="en-GB" sz="24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Added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utual recognition of electronic identification [E-ID]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xtended Supervision of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Certification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 </a:t>
            </a:r>
            <a:br>
              <a:rPr sz="2400"/>
            </a:b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o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Trust Service Providers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, includes 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proactive supervision</a:t>
            </a:r>
            <a:r>
              <a:rPr b="0" lang="ja-JP" sz="24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Qualified Electronic trust services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ignature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seals interoperability and usability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ime stamping,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elivery service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lectronic documents admissibility,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982800" indent="-196560">
              <a:spcBef>
                <a:spcPts val="601"/>
              </a:spcBef>
              <a:buClr>
                <a:srgbClr val="1f497d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Website authentication.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76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3.2 Standards Framework I:</a:t>
            </a:r>
            <a:br>
              <a:rPr sz="2800"/>
            </a:b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M460 </a:t>
            </a:r>
            <a:r>
              <a:rPr b="1" lang="en-US" sz="2800" spc="-1" strike="noStrike">
                <a:solidFill>
                  <a:srgbClr val="1f497d"/>
                </a:solidFill>
                <a:latin typeface="Calibri"/>
              </a:rPr>
              <a:t>European</a:t>
            </a: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 Commission mandate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361800" y="164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EC founded eSignatures standardization activit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4 years: 2011-2015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1st phase (executed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efinition of a rationalized standardization framework, in collaboration with CE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ral specifications upgrades primarily aimed at providing quick technical fixes to existing electronic signatures standards, and definition of test specific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22200" indent="-322200">
              <a:spcBef>
                <a:spcPts val="601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2nd phase (now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mplement the rationalized standardization framewor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698400" indent="-322200">
              <a:spcBef>
                <a:spcPts val="499"/>
              </a:spcBef>
              <a:buClr>
                <a:srgbClr val="40404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upport the new EU Regulation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n electronic identification and trust services for electronic transactions in the internal market (exp. approval in 201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8" name="Foliennummernplatzhalter 3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5EE4A-B9AF-4108-A352-5E202CF57BBE}" type="slidenum">
              <a:rPr b="0" lang="en-GB" sz="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3.2 Standards Framework II</a:t>
            </a:r>
            <a:br>
              <a:rPr sz="2800"/>
            </a:br>
            <a:r>
              <a:rPr b="1" lang="de-AT" sz="2800" spc="-1" strike="noStrike">
                <a:solidFill>
                  <a:srgbClr val="1f497d"/>
                </a:solidFill>
                <a:latin typeface="Calibri"/>
              </a:rPr>
              <a:t>Mandate/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grpSp>
        <p:nvGrpSpPr>
          <p:cNvPr id="800" name="Group 41"/>
          <p:cNvGrpSpPr/>
          <p:nvPr/>
        </p:nvGrpSpPr>
        <p:grpSpPr>
          <a:xfrm>
            <a:off x="2354400" y="3814920"/>
            <a:ext cx="4363920" cy="1357200"/>
            <a:chOff x="2354400" y="3814920"/>
            <a:chExt cx="4363920" cy="1357200"/>
          </a:xfrm>
        </p:grpSpPr>
        <p:sp>
          <p:nvSpPr>
            <p:cNvPr id="801" name="Rectangle 5"/>
            <p:cNvSpPr/>
            <p:nvPr/>
          </p:nvSpPr>
          <p:spPr>
            <a:xfrm>
              <a:off x="2354400" y="3814920"/>
              <a:ext cx="4363920" cy="13572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TextBox 7"/>
            <p:cNvSpPr/>
            <p:nvPr/>
          </p:nvSpPr>
          <p:spPr>
            <a:xfrm>
              <a:off x="2782800" y="4243320"/>
              <a:ext cx="3570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Cre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&amp; Valid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34"/>
            <p:cNvSpPr/>
            <p:nvPr/>
          </p:nvSpPr>
          <p:spPr>
            <a:xfrm>
              <a:off x="4367160" y="390528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4" name="Group 42"/>
          <p:cNvGrpSpPr/>
          <p:nvPr/>
        </p:nvGrpSpPr>
        <p:grpSpPr>
          <a:xfrm>
            <a:off x="2155680" y="5386320"/>
            <a:ext cx="2198880" cy="642960"/>
            <a:chOff x="2155680" y="5386320"/>
            <a:chExt cx="2198880" cy="642960"/>
          </a:xfrm>
        </p:grpSpPr>
        <p:sp>
          <p:nvSpPr>
            <p:cNvPr id="805" name="Rectangle 9"/>
            <p:cNvSpPr/>
            <p:nvPr/>
          </p:nvSpPr>
          <p:spPr>
            <a:xfrm>
              <a:off x="2350800" y="5386320"/>
              <a:ext cx="200376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TextBox 11"/>
            <p:cNvSpPr/>
            <p:nvPr/>
          </p:nvSpPr>
          <p:spPr>
            <a:xfrm>
              <a:off x="2155680" y="5386320"/>
              <a:ext cx="2160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ignatur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eation Devi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35"/>
            <p:cNvSpPr/>
            <p:nvPr/>
          </p:nvSpPr>
          <p:spPr>
            <a:xfrm>
              <a:off x="4003920" y="544176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" name="Group 43"/>
          <p:cNvGrpSpPr/>
          <p:nvPr/>
        </p:nvGrpSpPr>
        <p:grpSpPr>
          <a:xfrm>
            <a:off x="4716360" y="5415120"/>
            <a:ext cx="2156040" cy="642960"/>
            <a:chOff x="4716360" y="5415120"/>
            <a:chExt cx="2156040" cy="642960"/>
          </a:xfrm>
        </p:grpSpPr>
        <p:sp>
          <p:nvSpPr>
            <p:cNvPr id="809" name="Rectangle 13"/>
            <p:cNvSpPr/>
            <p:nvPr/>
          </p:nvSpPr>
          <p:spPr>
            <a:xfrm>
              <a:off x="4716360" y="5415120"/>
              <a:ext cx="2002320" cy="6429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TextBox 12"/>
            <p:cNvSpPr/>
            <p:nvPr/>
          </p:nvSpPr>
          <p:spPr>
            <a:xfrm>
              <a:off x="4881960" y="5415120"/>
              <a:ext cx="1990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Cryptographic Suit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Oval 36"/>
            <p:cNvSpPr/>
            <p:nvPr/>
          </p:nvSpPr>
          <p:spPr>
            <a:xfrm>
              <a:off x="4790880" y="54705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2" name="Group 46"/>
          <p:cNvGrpSpPr/>
          <p:nvPr/>
        </p:nvGrpSpPr>
        <p:grpSpPr>
          <a:xfrm>
            <a:off x="4697280" y="2970360"/>
            <a:ext cx="2211480" cy="699840"/>
            <a:chOff x="4697280" y="2970360"/>
            <a:chExt cx="2211480" cy="699840"/>
          </a:xfrm>
        </p:grpSpPr>
        <p:sp>
          <p:nvSpPr>
            <p:cNvPr id="813" name="Rectangle 17"/>
            <p:cNvSpPr/>
            <p:nvPr/>
          </p:nvSpPr>
          <p:spPr>
            <a:xfrm>
              <a:off x="4697280" y="2986200"/>
              <a:ext cx="2036880" cy="68400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TextBox 9"/>
            <p:cNvSpPr/>
            <p:nvPr/>
          </p:nvSpPr>
          <p:spPr>
            <a:xfrm>
              <a:off x="4781520" y="2970360"/>
              <a:ext cx="21272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Appl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Service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Oval 37"/>
            <p:cNvSpPr/>
            <p:nvPr/>
          </p:nvSpPr>
          <p:spPr>
            <a:xfrm>
              <a:off x="4755960" y="3333600"/>
              <a:ext cx="28728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6" name="Group 45"/>
          <p:cNvGrpSpPr/>
          <p:nvPr/>
        </p:nvGrpSpPr>
        <p:grpSpPr>
          <a:xfrm>
            <a:off x="2351160" y="2941560"/>
            <a:ext cx="2003400" cy="700200"/>
            <a:chOff x="2351160" y="2941560"/>
            <a:chExt cx="2003400" cy="700200"/>
          </a:xfrm>
        </p:grpSpPr>
        <p:sp>
          <p:nvSpPr>
            <p:cNvPr id="817" name="Rectangle 21"/>
            <p:cNvSpPr/>
            <p:nvPr/>
          </p:nvSpPr>
          <p:spPr>
            <a:xfrm>
              <a:off x="2352600" y="2957400"/>
              <a:ext cx="2001960" cy="68436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TextBox 8"/>
            <p:cNvSpPr/>
            <p:nvPr/>
          </p:nvSpPr>
          <p:spPr>
            <a:xfrm>
              <a:off x="2351160" y="2941560"/>
              <a:ext cx="1945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SPs supporting eSigna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Oval 38"/>
            <p:cNvSpPr/>
            <p:nvPr/>
          </p:nvSpPr>
          <p:spPr>
            <a:xfrm>
              <a:off x="4003920" y="3305160"/>
              <a:ext cx="288720" cy="2872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Group 44"/>
          <p:cNvGrpSpPr/>
          <p:nvPr/>
        </p:nvGrpSpPr>
        <p:grpSpPr>
          <a:xfrm>
            <a:off x="2139840" y="1890720"/>
            <a:ext cx="4746600" cy="885960"/>
            <a:chOff x="2139840" y="1890720"/>
            <a:chExt cx="4746600" cy="885960"/>
          </a:xfrm>
        </p:grpSpPr>
        <p:sp>
          <p:nvSpPr>
            <p:cNvPr id="821" name="Rectangle 25"/>
            <p:cNvSpPr/>
            <p:nvPr/>
          </p:nvSpPr>
          <p:spPr>
            <a:xfrm>
              <a:off x="2352240" y="2057400"/>
              <a:ext cx="4381560" cy="719280"/>
            </a:xfrm>
            <a:prstGeom prst="rec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TextBox 10"/>
            <p:cNvSpPr/>
            <p:nvPr/>
          </p:nvSpPr>
          <p:spPr>
            <a:xfrm>
              <a:off x="2139840" y="2255760"/>
              <a:ext cx="474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</a:rPr>
                <a:t>Trust Service Status Lists Provid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Oval 39"/>
            <p:cNvSpPr/>
            <p:nvPr/>
          </p:nvSpPr>
          <p:spPr>
            <a:xfrm>
              <a:off x="4289400" y="1890720"/>
              <a:ext cx="287280" cy="289080"/>
            </a:xfrm>
            <a:prstGeom prst="ellipse">
              <a:avLst/>
            </a:prstGeom>
            <a:solidFill>
              <a:srgbClr val="f2f2f2"/>
            </a:solidFill>
            <a:ln w="9360">
              <a:solidFill>
                <a:srgbClr val="d9d9d9"/>
              </a:solidFill>
              <a:miter/>
            </a:ln>
            <a:effectLst>
              <a:outerShdw dist="15375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1800" spc="-1" strike="noStrike">
                  <a:solidFill>
                    <a:srgbClr val="c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Box 47"/>
          <p:cNvSpPr/>
          <p:nvPr/>
        </p:nvSpPr>
        <p:spPr>
          <a:xfrm>
            <a:off x="332640" y="3868560"/>
            <a:ext cx="1739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ules &amp;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Forma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Creation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/ Val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rotection Pro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47"/>
          <p:cNvSpPr/>
          <p:nvPr/>
        </p:nvSpPr>
        <p:spPr>
          <a:xfrm>
            <a:off x="6898680" y="3749760"/>
            <a:ext cx="19969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XAdES (XM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CAdES (C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PAdES (PDF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dES in Mobile envm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SiC (contain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47"/>
          <p:cNvSpPr/>
          <p:nvPr/>
        </p:nvSpPr>
        <p:spPr>
          <a:xfrm>
            <a:off x="332280" y="5365800"/>
            <a:ext cx="1716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Made by CE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SCDs (e.g. S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SMs &amp; other SC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47"/>
          <p:cNvSpPr/>
          <p:nvPr/>
        </p:nvSpPr>
        <p:spPr>
          <a:xfrm>
            <a:off x="6849360" y="5176800"/>
            <a:ext cx="1893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gen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Has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ature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Key lengt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47"/>
          <p:cNvSpPr/>
          <p:nvPr/>
        </p:nvSpPr>
        <p:spPr>
          <a:xfrm>
            <a:off x="6843600" y="2868480"/>
            <a:ext cx="207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Registered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ong term preser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47"/>
          <p:cNvSpPr/>
          <p:nvPr/>
        </p:nvSpPr>
        <p:spPr>
          <a:xfrm>
            <a:off x="326160" y="2819520"/>
            <a:ext cx="1724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Issuing certific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Time-stam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Signing Ser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Validation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47"/>
          <p:cNvSpPr/>
          <p:nvPr/>
        </p:nvSpPr>
        <p:spPr>
          <a:xfrm>
            <a:off x="6900480" y="1625760"/>
            <a:ext cx="1950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List of TSP servic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approved (supervis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by National 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GB" sz="1200" spc="-1" strike="noStrike">
                <a:solidFill>
                  <a:srgbClr val="000000"/>
                </a:solidFill>
                <a:latin typeface="Verdana"/>
              </a:rPr>
              <a:t>(e.g. Trusted Lis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wipe dir="r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1009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1f497d"/>
                </a:solidFill>
                <a:latin typeface="Calibri"/>
              </a:rPr>
              <a:t>AFTER Mandate 460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2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Object 2" descr=""/>
          <p:cNvPicPr/>
          <p:nvPr/>
        </p:nvPicPr>
        <p:blipFill>
          <a:blip r:embed="rId1"/>
          <a:stretch/>
        </p:blipFill>
        <p:spPr>
          <a:xfrm>
            <a:off x="671400" y="1268280"/>
            <a:ext cx="7783560" cy="5589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30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1f497d"/>
                </a:solidFill>
                <a:latin typeface="Calibri"/>
              </a:rPr>
              <a:t>4. Next Steps</a:t>
            </a:r>
            <a:endParaRPr b="1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35" name="Footer Placeholder 2"/>
          <p:cNvSpPr/>
          <p:nvPr/>
        </p:nvSpPr>
        <p:spPr>
          <a:xfrm>
            <a:off x="431640" y="6588000"/>
            <a:ext cx="521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898989"/>
                </a:solidFill>
                <a:latin typeface="Calibri"/>
              </a:rPr>
              <a:t>© ETSI 2012. All rights reser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-95400" y="6588000"/>
            <a:ext cx="38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1664-3FB7-4F3A-9C32-EF04BF4962CF}" type="slidenum">
              <a:rPr b="0" lang="en-GB" sz="900" spc="-1" strike="noStrike">
                <a:solidFill>
                  <a:srgbClr val="8eb4e3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6840" y="1377720"/>
            <a:ext cx="852804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In Spring 2013 EU Commission published new 2nd draft regulation “on electronic identification and trust services for electronic transactions in the internal market”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4040"/>
                </a:solidFill>
                <a:latin typeface="Calibri"/>
              </a:rPr>
              <a:t>Under EU Mandate 460 (2013 to 2015) ETSI commissioned to produc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 for TSP Conformity Assessme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743040" indent="-34308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European Norms for Best Practices (Policy Requirements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Personal Sign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Certificates for organisational 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seals</a:t>
            </a:r>
            <a:r>
              <a:rPr b="0" lang="ja-JP" sz="2000" spc="-1" strike="noStrike">
                <a:solidFill>
                  <a:srgbClr val="404040"/>
                </a:solidFill>
                <a:latin typeface="Calibri"/>
              </a:rPr>
              <a:t>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Time-stamping Servi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Qualified Website Certificates  (should be EN 319 411-4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800280" indent="-34308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…………</a:t>
            </a:r>
            <a:r>
              <a:rPr b="0" lang="en-GB" sz="2000" spc="-1" strike="noStrike">
                <a:solidFill>
                  <a:srgbClr val="40404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transition advTm="10000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13:52:04Z</dcterms:created>
  <dc:creator>Arno Fiedler</dc:creator>
  <dc:description/>
  <dc:language>en-US</dc:language>
  <cp:lastModifiedBy>Arno Fiedler</cp:lastModifiedBy>
  <cp:lastPrinted>2012-04-17T12:11:33Z</cp:lastPrinted>
  <dcterms:modified xsi:type="dcterms:W3CDTF">2013-09-09T15:18:08Z</dcterms:modified>
  <cp:revision>784</cp:revision>
  <dc:subject/>
  <dc:title>Slide 1</dc:title>
</cp:coreProperties>
</file>