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4.jpeg" ContentType="image/jpeg"/>
  <Override PartName="/ppt/media/image20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31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1.png" ContentType="image/png"/>
  <Override PartName="/ppt/media/image22.png" ContentType="image/png"/>
  <Override PartName="/ppt/media/image23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dt" idx="34"/>
          </p:nvPr>
        </p:nvSpPr>
        <p:spPr>
          <a:xfrm>
            <a:off x="4021200" y="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ftr" idx="35"/>
          </p:nvPr>
        </p:nvSpPr>
        <p:spPr>
          <a:xfrm>
            <a:off x="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 type="sldNum" idx="36"/>
          </p:nvPr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01094FD0-CD97-4B22-812E-3ADE1D9105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5054CEB7-C83B-4E3B-9861-91DA7BA7F4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of the published ETSI documents mentioned in this presentation are available for download via the ETSI download page.  Just enter the TS number of key words from the tit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questions feel free to contact myself (standards) , or Olivier Delos (regul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more formal statement on questions regarding the regulation contact Gerard Galler of the EU commi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4E2E4FAF-824F-46FA-9898-C8D0E6B19A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Foliennummernplatzhalt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3F6AD81A-DDBC-4B79-9F3C-7A6F3F1F5E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Foliennummernplatzhalt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FC088C5B-AC6D-434C-A8AA-69235321F7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SI has 3 main dimensions to its activit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SI is a recognized European Standards Organization and as such can produce standards supporting European reg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SI has also become highly-respected as a producer of technical standards for worldwide use. Many ETSI standards answer global ICT mark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nally ETSI has defined testing methodologies and a testing language (TTCN). ETSI also runs interoperability test events. Those event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opportunity for companies to test their prototypes against a standard with their partners and competito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hancing the quality of specific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eeding up the standardization proc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ducing time to mark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pporting the deployment of a technolo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21129D85-42C6-40D6-8004-A4F23B0F31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ing that the EU Directive 1999/93 on E-Signatures was getting out of date and had not achieved full EU harmonization the EU Commission has issued a new Draft reg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cope of this document is wider that the Directive covering a range of “Trust Services” required for electronic online services across Europe.  It is aimed at achieving a greater degree of harmony between EU N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draft regulation is under discussion in the council of ministers.  There is agreement with the general principles of the new regulation but significant discussion on the details is requi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hoped that a new draft may be produced under the Irish presidency by June / Ju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D7C37382-2E2A-4DD3-A5C1-A67A736E3C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3FCC1E96-73AF-44A4-9C81-6B22DA12F2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E2A0E706-B1DA-47BF-A947-F22C03D2CE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00A601AB-4A59-4B49-8C2B-227E97C53E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B8F0D-B3F4-43B7-BDB5-92FC96B9E6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D4FF2-207A-4852-8C67-2F5084FC2D1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A3AFA7-2326-4295-A95D-FA4191578DE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5778CF-8574-49B0-A4A4-A2551BA11D6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D28EE0-C155-4C40-BD02-20A427B938A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1D5063-A92B-4C7B-B47E-FB62A82E95D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80F64E-B486-4908-8071-B4F23E21644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D43FE0-DF1D-4991-B27C-AA34555083A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2F3854-C7DD-4C27-BD69-42D6D2D0A18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AE0B48-1A1B-49FD-8D14-893F40EC712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E4861D-AF6A-49BF-9EDB-C0D951FA331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CC605-4925-4390-AE2F-4BCE2D4492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1F60E-3835-4462-9721-2A6B95FC817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CFA1C-C113-485C-A443-F2E7B520B0B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20C8C-6956-49F5-997A-F1DDBEAB8C3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2BE0F-014B-42DE-9F3E-70485C48394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FA42A-2613-4B4B-97B4-F0E00258121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1CA15-80B5-46F6-8508-AE8237C1417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12514-228F-4226-B858-254DACF03E5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5C96D-E36E-4DAA-89D7-BE6F7431269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25B0C-4EFF-464B-BC12-228551792DB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BB7EE-4EF0-408D-AF23-676298A0CB1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BEB87-7EB3-4E63-8E2E-3303FC29CB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C989E-0C73-4B5D-ABA0-BD602F6126F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07E59-3B9E-4FCB-9F99-77465A41568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AE3429-EA19-46E3-A471-0B5C4C38E64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1B3BA4-07EA-40D8-B3F3-F30F1AE8C7E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ECE823-95A1-4CAA-B493-81C6B299046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156F06-E5D6-4017-8D7B-F40865A044E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F74264-5591-4408-BCF7-E7496A58A63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69AB0A-42A0-483D-82E6-605E839A287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72E7AB-F564-4250-8882-EC4F1CD787F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2E16F9-2974-4CD0-8763-30AFF7B6CF1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D955F4-E571-4225-821A-2F20DC6E1B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08E504-BE09-40B2-B76C-1F27AA0709C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00D622-CC91-4752-BA16-306B104B4AF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2FBFDE-D5AF-42BC-8C5D-D73291FD7DE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FB87F1-BAEB-45FE-93D6-49BFC4F0B6F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DEAC89-7DA9-428D-A531-D52C55AF5FB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26B63E-D0F0-4465-94A3-B54F59BDDA3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A158E4-95E8-49C9-95E1-08711295EB5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D1DE3D-EF83-44A4-900C-BC60DE6CDBD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66BA94-545D-444D-98E4-1A59846180C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1B8139-7F2C-493D-8A2C-B5B8BCA958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CE8914-B60B-4194-A8AD-66FE7188D92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3322BB-F065-4B76-BAA7-86F780F1274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6D4888-52A0-4A55-AA81-9C911A60C06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B07403-0D7F-4636-AC40-A226D635406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9D4BE9-0D64-476A-8526-F08189796C7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053C9-5748-4732-8721-9AE72DCDA79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EE088-61CB-414A-90E2-547407D58FE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00AC5-C3DF-4957-8647-A6ED5033F2E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4D78C-2C9B-4C6A-B3D3-CCC9B1717F5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51C54-9D73-4BDD-AF6F-A7E6400D6D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1578E-103C-4B39-A1C9-3B499E31909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A1103-0DE8-40DE-A00F-60F98FD2628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08862-3477-4D46-BECC-BCF8055FCB8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EE593-E6D9-48D6-B33C-CFDC1AAF467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441C5-F1B6-4E00-992C-1F112042CCE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D61AD-CCAB-46F2-B080-FA90D30A73B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BE9D5-0AE1-491C-8691-DE764ED8C67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EECFF3-24F9-4663-928C-DB045851DDE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C5CFFC-DD07-4FC8-B2A1-34C9C8F5282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97B795-B9F1-4580-9717-753C57ECBC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40A3D6-7C9D-44F5-B451-583FEE348C4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3E2F6E-7625-4EB1-AA51-2769C90EFC7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CBB747-3A14-472F-A562-4D9570A9894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BB82D0-A370-44D0-B001-B3C440739F8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8FC6E2-42B2-4662-A19D-2E12A23AA49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E73292-D7B3-42F1-B2DF-4EC726FECF1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5906D0-19AD-490F-A69C-6A06C6990A7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00D1FF-A101-4EE3-AFC5-F151AA1DBB1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932231-71AF-4CB0-AA79-3F31AD299B0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BD9D08-7513-4578-B0E1-E2147A5141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8A6EBA-4B0F-4F3F-AA83-9A75B593F1B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79D6D6-90CC-40B8-8197-BA99B274144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51800D-A39B-4108-B544-C071211EE85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57EF0D-6AE0-4BA6-BFA9-7C896D292543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E3CA6F-FD4A-4584-9425-07A3282FF3F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9D907C-B8AA-4A8E-8E34-625770D213FF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FCC6E0-052B-403E-8006-CB388FA47B1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D17D3B-8FFF-475E-8BD1-A9E5A3374ED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1F7633-3AFD-4CAF-90E5-1D836559D71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B59DBF-D033-46A8-B6AF-79D8D753CC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C5BB76-CBBC-4AF1-BAA4-EDB1781EA0EA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7A989B-6E0F-4203-8D7C-A665CB308F17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9E808D-1A1B-4DE3-8345-86664E3181EC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871B0C-7E48-481C-A840-6C137D60C50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FB7959-2CA5-4C0C-A56E-7C9F1C8B8531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E946CA-ACDC-4F6A-B2E2-0DBC5345958A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EBB2E6-ED0C-44C4-8438-210FEC98F7C4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73F40F-2B22-41E1-875E-DCDCF8F95334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8FED07-C285-48C2-A2E9-018D0F5BB1C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D4897E-1C2C-4126-9B51-AA4D8D2B41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8E4A2B-B3C1-4324-83DC-2E7DB9C3758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70A3CD-D8F0-490E-8D51-600AFFBA1A1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158329-974A-4F8F-9B06-129DCC5A6831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C984629-7F28-4D60-9AA5-7D745711FA58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945E1D-9EBD-4768-BADE-E90B3DF54248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34C167-CA30-402B-BE0F-096D62987BCA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62D92BD-77BB-47C9-9D43-805AC433504F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8288F7-F51B-4AC4-ABE6-06F160B6C0FE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5602C38-AEE8-4E8C-B447-E24D2E30DCC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CBD4F05-60F7-4429-90C9-49FBED08AA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98025-80EB-4367-B5AE-DD6C48B127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BAE90DA-C16D-4196-8161-A7FD42573421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769C60-DEC0-4F23-ADC0-7CD88850FC9E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9FB693F-8BFB-4692-A9C2-FEE7FD15FDBD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75D53B6-7FAF-4EDC-AEFF-E62F0AC6BA63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8941B9F-955C-487C-8E55-F12E2816FF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83F59-B25C-4E7F-B8F0-12AA5A05792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49FA0-C89A-4240-A927-2138526765B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57BDE-8A25-4D7B-A1B7-BD6BC81C4EA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19595-F4AE-4250-9A2E-7F417FA4E2F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9DBED-3AE3-4A43-B672-F2F536BFFF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0774C-0C15-4225-BE90-959E6E2255A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C803CE-AD3B-47E4-ADA1-213FA4E0FE0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5F5EB-A12C-4FD7-8F5A-018275C1450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D55B9-E048-41F4-AA74-2EB70B6500D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330BC-2875-4F9B-A59E-A7B29C5B7F1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C8434-F492-4D27-9F55-CB67FB04674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885DD-5028-4C54-A322-B3439A56EA2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0CE4F3-60A7-462F-AF1D-C126541FF41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F3A7-FD30-4E96-A994-DF87A975564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783C-453D-4E33-B84F-B2455613672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623C-9398-4C58-948D-0FF8A9C245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A9911-99E7-445F-BE1E-27CFD242A92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3738-AE46-40AD-BD09-8763BB01580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0E72-5F5A-47DD-A9D9-8293AF60DDE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DFB2-1BD1-4468-B880-15994CEEC81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ABC0-7985-4D51-9E86-F7795B655F4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250C-38C9-40B9-8435-A731ADE794C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C4C5-1589-42D0-93DB-82A25DA8848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625D-08A0-42C4-AD0E-0F501A9F6B8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833D-463B-4B51-ADEF-A618253F514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6E2E-9C17-47A0-9868-261571B3DE6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33A756-13F4-41F4-83EF-22E53792D7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3DD53-DB55-4961-82BA-C940FB5E00B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719284-6EFA-462E-B503-882F75D34AF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7B886E-50E8-4437-8024-692A5FBB991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821607-DD72-47F0-99A5-686FA1817EE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17C7DD-7749-4789-BC5B-CE29F3DB878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B3FEA9-B683-4E9B-A82E-581B630ABE8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590EA1-9CF1-4851-8EC7-E7CEA10D650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5F21D6-C224-4889-B3C2-D250BAB8185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3B685F-05D0-458C-883C-53DFC926630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758BDE-079D-463F-9EB0-470B125DAC4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573955-5E45-4D69-99EE-A2CAB9FB0B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89374-1392-4726-AB0C-7C9EF5574A5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A1BDBB-477B-4F57-B7A6-AA046D9E5B2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72248C-539C-4B6D-B878-A1A1C1A3080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D3181A-540C-43E9-AA4C-A8A8B240B4F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CD8DE1-3F7A-44DF-AE26-2C0D78C8873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D3D8EA-D785-443E-AAD7-CD43D655F72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C988C3-1D8B-4BDF-9B7B-929B8B8599C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C3BAD8-9422-423D-8BAF-00F4C40AA57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443A67-11B9-47AA-84B8-038130FC1C7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5282DA-2ABE-4527-8BC8-CFA8569898F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D77AE0-C949-40EB-9BAF-5BA9893538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6D628-30CB-489D-AE8C-E8256BEC79B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6504ED-F946-4983-968E-334969644E2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43ADCF-6C40-4655-9641-601789D2BC6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420569-8D6B-48CE-BCAD-F76F2DFD27E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67003-9D88-4D94-B8D4-8C8883D4949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EA05B-0CF2-4123-9455-87302FEB1BD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A9891-89B3-4328-B563-4307D737524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0B37E-3CEB-443C-8D55-9AB64652384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855EB-D516-44A2-AF48-0B415D4349B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3766B-B099-44E3-9715-105D48B7CE2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6ED4F-6C03-4924-A964-B46BBCC9E9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7FE00-7FA7-411C-B027-BC90C31635C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500CF-3DE4-49E4-A618-305BB2C3189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2E2AB-2031-43A7-8FB2-7A438101F9D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98FEC-0173-4119-846E-9B9CF4FFC48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791CB-6A09-41F1-B6A1-D9C209FD414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AC4A1-9064-4136-B3A2-B4267559122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B98936-9530-4BB2-B2E8-73D995F512A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8710B5-5149-48F2-A9DB-9E0E487DA1A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FDB35F-35F3-418B-BC9C-57C407DB37C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F44869-A29E-45B2-A809-116AF60E498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5498E6-C150-4626-B2B3-805898DB4F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1901C-5E68-4E62-BB25-564D1C8A860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3EFB86-2DA9-4241-B970-15763F36C13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D67C23-87DB-48E1-8D74-870D603F236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EE0F34-AB95-440C-8DD0-6850B536D45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06636B-E244-48D1-9453-E3CAE7872B9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2F624E-FBC9-4A3E-AA36-F742DA09993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ECCB75-EA0A-4605-989D-F02772DED6B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B02062-A497-4E98-987D-84EFE5CD2C5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D21D85-B4EE-4379-94FB-A17954118F4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63647F-1763-4C3E-8A41-B9864449763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7967C7-5BA4-4384-9BD8-E6CB69E53E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2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3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5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6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7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8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9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9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0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BD92-EE51-4E1C-91DF-8CCCA575FAD0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:\DATEN\Nimbus_allgemein\logo_NImbus\Bildschirm\100dpiRGB\Nimbus1-100dpiRGB.jpg"/>
          <p:cNvPicPr/>
          <p:nvPr/>
        </p:nvPicPr>
        <p:blipFill>
          <a:blip r:embed="rId4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387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Num" idx="18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0C27-ABA0-4D9A-B1A7-FC4A583A5A9A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19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430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20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0358-FCCA-48FA-8E5D-B2AFC830AF6C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473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Num" idx="2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E883-E08A-4C38-B9D5-79B04C07B0AB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2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516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Num" idx="24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8977-1F7B-4E15-A545-5855EE03B52C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25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559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Num" idx="26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E46F-B47F-4F78-BB6B-5474BD747489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27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602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sldNum" idx="28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B547-6FE1-435C-AEBB-AD4E8E0D858D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29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645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sldNum" idx="30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8D82-1EA5-4D4F-B74C-9C0942AED384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3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688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sldNum" idx="3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2F8E-17B7-4939-A8D9-98C826BBB717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3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44" name="תמונה 6" descr="open-slide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E:\DATEN\Nimbus_allgemein\logo_NImbus\Bildschirm\100dpiRGB\Nimbus1-100dpiRGB.jpg"/>
          <p:cNvPicPr/>
          <p:nvPr/>
        </p:nvPicPr>
        <p:blipFill>
          <a:blip r:embed="rId5"/>
          <a:stretch/>
        </p:blipFill>
        <p:spPr>
          <a:xfrm>
            <a:off x="7513560" y="6213600"/>
            <a:ext cx="1514520" cy="495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4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3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5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A196-CD89-49E6-8B7D-ACDC3BF0A729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129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6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4A4F-6585-4279-B5C5-C6B8C39E6E52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7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172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8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2C39-9F31-4E6C-9346-95FA3A2A295C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9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215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10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EBF6-8430-43FA-8171-1E372588F304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258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1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F048-F22E-4807-84B8-2D638667E9FF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301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Num" idx="14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CBBF-828A-40CC-8AA3-2411B5094286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5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344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Num" idx="16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9B15-4135-4A3A-A1DF-F9762F4F7D63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17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da.etsi.org/pda/queryform.asp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eur-lex.europa.eu/LexUriServ/LexUriServ.do?uri=COM:2012:0238:FIN:EN:PDF" TargetMode="External"/><Relationship Id="rId5" Type="http://schemas.openxmlformats.org/officeDocument/2006/relationships/hyperlink" Target="mailto:arno.fiedler@nimbus-berlin.com" TargetMode="External"/><Relationship Id="rId6" Type="http://schemas.openxmlformats.org/officeDocument/2006/relationships/hyperlink" Target="mailto:nick.pope@thales-esecurity.com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jpeg"/><Relationship Id="rId10" Type="http://schemas.openxmlformats.org/officeDocument/2006/relationships/image" Target="../media/image2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Footer Placeholder 4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 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16040" y="5513400"/>
            <a:ext cx="8067600" cy="58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</a:rPr>
              <a:t>EUROPEAN UNION MANDATE/460</a:t>
            </a:r>
            <a:endParaRPr b="1" lang="en-US" sz="1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715680" y="5084280"/>
            <a:ext cx="80802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95959"/>
                </a:solidFill>
                <a:latin typeface="Calibri"/>
              </a:rPr>
              <a:t>Kloster Banz 11.09.2013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742680" y="6000480"/>
            <a:ext cx="808812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Presented by Arno Fiedler,  Member of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E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uropean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T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elecommunications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S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tandards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I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nstitute</a:t>
            </a:r>
            <a:br>
              <a:rPr sz="1600"/>
            </a:b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Electronic Signatures and Infrastructures, Specialist Task Force 458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advTm="10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5. Summary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9" name="Fußzeilenplatzhalter 2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3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oliennummernplatzhalt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72B9-9A03-4C1B-9B90-6E36D015FF0E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hteck 5"/>
          <p:cNvSpPr/>
          <p:nvPr/>
        </p:nvSpPr>
        <p:spPr>
          <a:xfrm>
            <a:off x="392040" y="2357280"/>
            <a:ext cx="861084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The new draft EU-Regulation will deliver a complete legal and trust framework for 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Proactive Supervision 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on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qualified level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br>
              <a:rPr sz="2400"/>
            </a:br>
            <a:r>
              <a:rPr b="0" lang="de-DE" sz="24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TSI and CEN standards will be a fundamental part in future EU legislation (delegating acts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).</a:t>
            </a:r>
            <a:br>
              <a:rPr sz="2400"/>
            </a:b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but: </a:t>
            </a:r>
            <a:br>
              <a:rPr sz="2400"/>
            </a:b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relying parties (in Europe!) have to consume the Trust we provide</a:t>
            </a: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f497d"/>
                </a:solidFill>
                <a:latin typeface="Calibri"/>
              </a:rPr>
              <a:t>Thank you !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ETSI Download 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da.etsi.org/pda/queryform.asp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Enter keyword / title /  document number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Draft EU Regulation:</a:t>
            </a:r>
            <a:br>
              <a:rPr sz="2400"/>
            </a:br>
            <a:r>
              <a:rPr b="0" lang="en-GB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eur-lex.europa.eu/LexUriServ/LexUriServ.do?uri=COM:2012:0238:FIN:EN:PDF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Contact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Arno Fiedler: STF 458  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arno.fiedler@nimbus-berlin.com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Iñigo Barreira: STF 458 </a:t>
            </a:r>
            <a:r>
              <a:rPr b="0" lang="es-ES" sz="2000" spc="-1" strike="noStrike" u="sng">
                <a:solidFill>
                  <a:srgbClr val="254061"/>
                </a:solidFill>
                <a:uFillTx/>
                <a:latin typeface="Calibri"/>
              </a:rPr>
              <a:t>i-barreira@izenpe.net</a:t>
            </a:r>
            <a:br>
              <a:rPr sz="2000"/>
            </a:b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Nick Pope: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ead STF 458 (TSP &amp; e-Signature standards) </a:t>
            </a:r>
            <a:br>
              <a:rPr sz="2000"/>
            </a:b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nick.pope@thales-esecurity.com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4" name="Footer Placeholder 3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Slide Number Placeholder 4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FC060-7090-4F9D-A4B1-E5457944B0DF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Fußzeilenplatzhalter 1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oliennummernplatzhalter 2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F3E0-C6CC-4ACB-81A5-9272CBE7B5A9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Diagramm 3" descr=""/>
          <p:cNvPicPr/>
          <p:nvPr/>
        </p:nvPicPr>
        <p:blipFill>
          <a:blip r:embed="rId1"/>
          <a:stretch/>
        </p:blipFill>
        <p:spPr>
          <a:xfrm>
            <a:off x="476280" y="1359000"/>
            <a:ext cx="8028000" cy="4992480"/>
          </a:xfrm>
          <a:prstGeom prst="rect">
            <a:avLst/>
          </a:prstGeom>
          <a:ln w="0">
            <a:noFill/>
          </a:ln>
        </p:spPr>
      </p:pic>
      <p:sp>
        <p:nvSpPr>
          <p:cNvPr id="849" name="Rechteck 5"/>
          <p:cNvSpPr/>
          <p:nvPr/>
        </p:nvSpPr>
        <p:spPr>
          <a:xfrm>
            <a:off x="457200" y="212760"/>
            <a:ext cx="623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2. Assessment &amp; Certification – </a:t>
            </a:r>
            <a:br>
              <a:rPr sz="2400"/>
            </a:b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    Actual (Best) Practise for SS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Fußzeilenplatzhalter 1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oliennummernplatzhalter 2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4A87-2DB1-4279-8AB6-B4D34DA92C45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Diagramm 3" descr=""/>
          <p:cNvPicPr/>
          <p:nvPr/>
        </p:nvPicPr>
        <p:blipFill>
          <a:blip r:embed="rId1"/>
          <a:stretch/>
        </p:blipFill>
        <p:spPr>
          <a:xfrm>
            <a:off x="549360" y="1359000"/>
            <a:ext cx="7924680" cy="4992480"/>
          </a:xfrm>
          <a:prstGeom prst="rect">
            <a:avLst/>
          </a:prstGeom>
          <a:ln w="0">
            <a:noFill/>
          </a:ln>
        </p:spPr>
      </p:pic>
      <p:sp>
        <p:nvSpPr>
          <p:cNvPr id="853" name="Rechteck 5"/>
          <p:cNvSpPr/>
          <p:nvPr/>
        </p:nvSpPr>
        <p:spPr>
          <a:xfrm>
            <a:off x="266760" y="185760"/>
            <a:ext cx="65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2. Assessment &amp; Certification – </a:t>
            </a:r>
            <a:br>
              <a:rPr sz="2400"/>
            </a:b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actual TSP Perspective </a:t>
            </a: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(german examp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634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1f497d"/>
                </a:solidFill>
                <a:latin typeface="Calibri"/>
              </a:rPr>
              <a:t>1. ETSI activitie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1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F3C9-6B3E-4CDB-9781-154A6D51E85B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Text Box 13"/>
          <p:cNvGrpSpPr/>
          <p:nvPr/>
        </p:nvGrpSpPr>
        <p:grpSpPr>
          <a:xfrm>
            <a:off x="463680" y="3067200"/>
            <a:ext cx="2749320" cy="876240"/>
            <a:chOff x="463680" y="3067200"/>
            <a:chExt cx="2749320" cy="876240"/>
          </a:xfrm>
        </p:grpSpPr>
        <p:pic>
          <p:nvPicPr>
            <p:cNvPr id="743" name="Text Box 13" descr=""/>
            <p:cNvPicPr/>
            <p:nvPr/>
          </p:nvPicPr>
          <p:blipFill>
            <a:blip r:embed="rId1"/>
            <a:stretch/>
          </p:blipFill>
          <p:spPr>
            <a:xfrm>
              <a:off x="463680" y="3067200"/>
              <a:ext cx="2749320" cy="8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"/>
            <p:cNvSpPr/>
            <p:nvPr/>
          </p:nvSpPr>
          <p:spPr>
            <a:xfrm>
              <a:off x="538200" y="3129120"/>
              <a:ext cx="255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Standards in support of EU regu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AutoShape 7"/>
          <p:cNvGrpSpPr/>
          <p:nvPr/>
        </p:nvGrpSpPr>
        <p:grpSpPr>
          <a:xfrm>
            <a:off x="2925720" y="2414520"/>
            <a:ext cx="1079640" cy="822240"/>
            <a:chOff x="2925720" y="2414520"/>
            <a:chExt cx="1079640" cy="822240"/>
          </a:xfrm>
        </p:grpSpPr>
        <p:pic>
          <p:nvPicPr>
            <p:cNvPr id="746" name="AutoShape 7" descr=""/>
            <p:cNvPicPr/>
            <p:nvPr/>
          </p:nvPicPr>
          <p:blipFill>
            <a:blip r:embed="rId2"/>
            <a:stretch/>
          </p:blipFill>
          <p:spPr>
            <a:xfrm>
              <a:off x="2925720" y="2414520"/>
              <a:ext cx="10796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 rot="12693600">
              <a:off x="3025440" y="2805840"/>
              <a:ext cx="965160" cy="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8" name="Picture 5" descr="MPj03994060000[1]"/>
          <p:cNvPicPr/>
          <p:nvPr/>
        </p:nvPicPr>
        <p:blipFill>
          <a:blip r:embed="rId3"/>
          <a:stretch/>
        </p:blipFill>
        <p:spPr>
          <a:xfrm>
            <a:off x="914400" y="1725480"/>
            <a:ext cx="1762200" cy="138276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4" descr="Globe-for-Web.jpg Shipping Worldewide image by Darmon9"/>
          <p:cNvPicPr/>
          <p:nvPr/>
        </p:nvPicPr>
        <p:blipFill>
          <a:blip r:embed="rId4"/>
          <a:stretch/>
        </p:blipFill>
        <p:spPr>
          <a:xfrm>
            <a:off x="6499080" y="1704960"/>
            <a:ext cx="1622520" cy="1565280"/>
          </a:xfrm>
          <a:prstGeom prst="rect">
            <a:avLst/>
          </a:prstGeom>
          <a:ln w="0">
            <a:noFill/>
          </a:ln>
        </p:spPr>
      </p:pic>
      <p:grpSp>
        <p:nvGrpSpPr>
          <p:cNvPr id="750" name="Text Box 15"/>
          <p:cNvGrpSpPr/>
          <p:nvPr/>
        </p:nvGrpSpPr>
        <p:grpSpPr>
          <a:xfrm>
            <a:off x="3529080" y="5114880"/>
            <a:ext cx="2262240" cy="871560"/>
            <a:chOff x="3529080" y="5114880"/>
            <a:chExt cx="2262240" cy="871560"/>
          </a:xfrm>
        </p:grpSpPr>
        <p:pic>
          <p:nvPicPr>
            <p:cNvPr id="751" name="Text Box 15" descr=""/>
            <p:cNvPicPr/>
            <p:nvPr/>
          </p:nvPicPr>
          <p:blipFill>
            <a:blip r:embed="rId5"/>
            <a:stretch/>
          </p:blipFill>
          <p:spPr>
            <a:xfrm>
              <a:off x="3529080" y="5114880"/>
              <a:ext cx="22622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"/>
            <p:cNvSpPr/>
            <p:nvPr/>
          </p:nvSpPr>
          <p:spPr>
            <a:xfrm>
              <a:off x="3584520" y="5173560"/>
              <a:ext cx="21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Interoperabilit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Text Box 12"/>
          <p:cNvGrpSpPr/>
          <p:nvPr/>
        </p:nvGrpSpPr>
        <p:grpSpPr>
          <a:xfrm>
            <a:off x="6076800" y="3139920"/>
            <a:ext cx="2451240" cy="871560"/>
            <a:chOff x="6076800" y="3139920"/>
            <a:chExt cx="2451240" cy="871560"/>
          </a:xfrm>
        </p:grpSpPr>
        <p:pic>
          <p:nvPicPr>
            <p:cNvPr id="754" name="Text Box 12" descr=""/>
            <p:cNvPicPr/>
            <p:nvPr/>
          </p:nvPicPr>
          <p:blipFill>
            <a:blip r:embed="rId6"/>
            <a:stretch/>
          </p:blipFill>
          <p:spPr>
            <a:xfrm>
              <a:off x="6076800" y="3139920"/>
              <a:ext cx="24512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"/>
            <p:cNvSpPr/>
            <p:nvPr/>
          </p:nvSpPr>
          <p:spPr>
            <a:xfrm>
              <a:off x="6149880" y="3200400"/>
              <a:ext cx="230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Standards for global ICT marke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AutoShape 7"/>
          <p:cNvGrpSpPr/>
          <p:nvPr/>
        </p:nvGrpSpPr>
        <p:grpSpPr>
          <a:xfrm>
            <a:off x="4492800" y="4065480"/>
            <a:ext cx="347400" cy="1067040"/>
            <a:chOff x="4492800" y="4065480"/>
            <a:chExt cx="347400" cy="1067040"/>
          </a:xfrm>
        </p:grpSpPr>
        <p:pic>
          <p:nvPicPr>
            <p:cNvPr id="757" name="AutoShape 7" descr=""/>
            <p:cNvPicPr/>
            <p:nvPr/>
          </p:nvPicPr>
          <p:blipFill>
            <a:blip r:embed="rId7"/>
            <a:stretch/>
          </p:blipFill>
          <p:spPr>
            <a:xfrm>
              <a:off x="4492800" y="4065480"/>
              <a:ext cx="3474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8" name=""/>
            <p:cNvSpPr/>
            <p:nvPr/>
          </p:nvSpPr>
          <p:spPr>
            <a:xfrm rot="5400000">
              <a:off x="4234320" y="4484160"/>
              <a:ext cx="86364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AutoShape 7"/>
          <p:cNvGrpSpPr/>
          <p:nvPr/>
        </p:nvGrpSpPr>
        <p:grpSpPr>
          <a:xfrm>
            <a:off x="5450040" y="2414520"/>
            <a:ext cx="1090440" cy="798480"/>
            <a:chOff x="5450040" y="2414520"/>
            <a:chExt cx="1090440" cy="798480"/>
          </a:xfrm>
        </p:grpSpPr>
        <p:pic>
          <p:nvPicPr>
            <p:cNvPr id="760" name="AutoShape 7" descr=""/>
            <p:cNvPicPr/>
            <p:nvPr/>
          </p:nvPicPr>
          <p:blipFill>
            <a:blip r:embed="rId8"/>
            <a:stretch/>
          </p:blipFill>
          <p:spPr>
            <a:xfrm>
              <a:off x="5450040" y="2414520"/>
              <a:ext cx="10904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"/>
            <p:cNvSpPr/>
            <p:nvPr/>
          </p:nvSpPr>
          <p:spPr>
            <a:xfrm rot="19785600">
              <a:off x="5467320" y="2792520"/>
              <a:ext cx="96516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2" name="Picture 14" descr="PLUGTESTS.jpg"/>
          <p:cNvPicPr/>
          <p:nvPr/>
        </p:nvPicPr>
        <p:blipFill>
          <a:blip r:embed="rId9"/>
          <a:stretch/>
        </p:blipFill>
        <p:spPr>
          <a:xfrm>
            <a:off x="3629160" y="5854680"/>
            <a:ext cx="2033280" cy="56520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13" descr="ETSI Logo_S_Office1.jpg"/>
          <p:cNvPicPr/>
          <p:nvPr/>
        </p:nvPicPr>
        <p:blipFill>
          <a:blip r:embed="rId10"/>
          <a:stretch/>
        </p:blipFill>
        <p:spPr>
          <a:xfrm>
            <a:off x="3340080" y="3159000"/>
            <a:ext cx="2625840" cy="846360"/>
          </a:xfrm>
          <a:prstGeom prst="rect">
            <a:avLst/>
          </a:prstGeom>
          <a:ln w="0">
            <a:noFill/>
          </a:ln>
        </p:spPr>
      </p:pic>
      <p:sp>
        <p:nvSpPr>
          <p:cNvPr id="764" name="מציין מיקום של כותרת תחתונה 4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eb4e3"/>
                </a:solidFill>
                <a:latin typeface="Arial"/>
              </a:rPr>
              <a:t>© ETSI 2012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hteck 1"/>
          <p:cNvSpPr/>
          <p:nvPr/>
        </p:nvSpPr>
        <p:spPr>
          <a:xfrm>
            <a:off x="2838600" y="1573200"/>
            <a:ext cx="38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SM, DECT, TETRA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: UMTS, LTE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:TSL, XAdES, PAdES, 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76120" y="0"/>
            <a:ext cx="8229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1. ETSI Electronic Signatures </a:t>
            </a:r>
            <a:br>
              <a:rPr sz="2800"/>
            </a:b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and Infrastructures (ESI) TC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114480" y="1402920"/>
            <a:ext cx="885816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nce 2000 ETSI/ESI plays a key role in the development of electronic signature related standards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Signature formats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: XAdES (TS 101 903) -&gt;ISO, CAdES (TS 101 733) -&gt;ISO, PAdES (TS 102 778) -&gt;ISO and ASiC (TS 102 918) and related profil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rust Service Provider (TSP) Status Information (TSL, TS 102 231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Policy requirements for CAs: TS 102 042, TS 101 456 (</a:t>
            </a: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Qual. Cert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.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SA policy requirements: TS 102 023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ertificate profiles: TS 101 862 (Qual. Cert.), TS 102 280 (Nat. Persons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Registered Electronic Mail 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(eDelivery): TS 102 640 (multipart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ata preservation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: TS 101 533-1, TR 101 533-2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lgo paper: TS 102 176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ollaborates with ETSI CTI, Centre for Testing and Interoperability for Plugtests event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LOI with CA/B-Forum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99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8" name="Segnaposto numero diapositiva 4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7BFF-BDAD-4B80-9EED-1022C053CF6B}" type="slidenum">
              <a:rPr b="0" lang="it-IT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9" name="Group 33"/>
          <p:cNvGrpSpPr/>
          <p:nvPr/>
        </p:nvGrpSpPr>
        <p:grpSpPr>
          <a:xfrm>
            <a:off x="552600" y="3929040"/>
            <a:ext cx="8108640" cy="2305080"/>
            <a:chOff x="552600" y="3929040"/>
            <a:chExt cx="8108640" cy="2305080"/>
          </a:xfrm>
        </p:grpSpPr>
        <p:sp>
          <p:nvSpPr>
            <p:cNvPr id="770" name="Rounded Rectangle 24"/>
            <p:cNvSpPr/>
            <p:nvPr/>
          </p:nvSpPr>
          <p:spPr>
            <a:xfrm>
              <a:off x="552600" y="3929040"/>
              <a:ext cx="8108640" cy="2305080"/>
            </a:xfrm>
            <a:prstGeom prst="roundRect">
              <a:avLst>
                <a:gd name="adj" fmla="val 16667"/>
              </a:avLst>
            </a:prstGeom>
            <a:solidFill>
              <a:srgbClr val="f2f2f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1" name="Group 31"/>
            <p:cNvGrpSpPr/>
            <p:nvPr/>
          </p:nvGrpSpPr>
          <p:grpSpPr>
            <a:xfrm>
              <a:off x="2443320" y="4036680"/>
              <a:ext cx="4298040" cy="649800"/>
              <a:chOff x="2443320" y="4036680"/>
              <a:chExt cx="4298040" cy="649800"/>
            </a:xfrm>
          </p:grpSpPr>
          <p:sp>
            <p:nvSpPr>
              <p:cNvPr id="772" name="Rectangle 98"/>
              <p:cNvSpPr/>
              <p:nvPr/>
            </p:nvSpPr>
            <p:spPr>
              <a:xfrm>
                <a:off x="2579400" y="4036680"/>
                <a:ext cx="4119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d0d0d"/>
                    </a:solidFill>
                    <a:latin typeface="Arial"/>
                    <a:ea typeface="Arial"/>
                  </a:rPr>
                  <a:t>Consistency &amp; formal (efficient) mapp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3" name="Group 19"/>
              <p:cNvGrpSpPr/>
              <p:nvPr/>
            </p:nvGrpSpPr>
            <p:grpSpPr>
              <a:xfrm>
                <a:off x="2443320" y="4272840"/>
                <a:ext cx="4298040" cy="413640"/>
                <a:chOff x="2443320" y="4272840"/>
                <a:chExt cx="4298040" cy="413640"/>
              </a:xfrm>
            </p:grpSpPr>
            <p:sp>
              <p:nvSpPr>
                <p:cNvPr id="774" name="Left-Right Arrow 28"/>
                <p:cNvSpPr/>
                <p:nvPr/>
              </p:nvSpPr>
              <p:spPr>
                <a:xfrm rot="18837600">
                  <a:off x="2438640" y="4399200"/>
                  <a:ext cx="412920" cy="163440"/>
                </a:xfrm>
                <a:prstGeom prst="leftRightArrow">
                  <a:avLst>
                    <a:gd name="adj1" fmla="val 50000"/>
                    <a:gd name="adj2" fmla="val 35089"/>
                  </a:avLst>
                </a:prstGeom>
                <a:solidFill>
                  <a:srgbClr val="92d050"/>
                </a:solidFill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Left-Right Arrow 29"/>
                <p:cNvSpPr/>
                <p:nvPr/>
              </p:nvSpPr>
              <p:spPr>
                <a:xfrm flipH="1" rot="2762400">
                  <a:off x="6332400" y="4396320"/>
                  <a:ext cx="412920" cy="163800"/>
                </a:xfrm>
                <a:prstGeom prst="leftRightArrow">
                  <a:avLst>
                    <a:gd name="adj1" fmla="val 50000"/>
                    <a:gd name="adj2" fmla="val 35012"/>
                  </a:avLst>
                </a:prstGeom>
                <a:solidFill>
                  <a:srgbClr val="92d050"/>
                </a:solidFill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Left-Right Arrow 30"/>
                <p:cNvSpPr/>
                <p:nvPr/>
              </p:nvSpPr>
              <p:spPr>
                <a:xfrm rot="16200000">
                  <a:off x="4376160" y="4412520"/>
                  <a:ext cx="299880" cy="163440"/>
                </a:xfrm>
                <a:prstGeom prst="leftRightArrow">
                  <a:avLst>
                    <a:gd name="adj1" fmla="val 50000"/>
                    <a:gd name="adj2" fmla="val 35048"/>
                  </a:avLst>
                </a:prstGeom>
                <a:solidFill>
                  <a:srgbClr val="92d050"/>
                </a:solidFill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77" name="Rectangle 3"/>
          <p:cNvSpPr/>
          <p:nvPr/>
        </p:nvSpPr>
        <p:spPr>
          <a:xfrm>
            <a:off x="0" y="1246320"/>
            <a:ext cx="896472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alizations, consistency and mapping of efficient Legal, Technical, Trust and Promotional frameworks are key success factors to convince market &amp; business stakeholders of the possible ROI of eSignatures securing their e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Group 20"/>
          <p:cNvGrpSpPr/>
          <p:nvPr/>
        </p:nvGrpSpPr>
        <p:grpSpPr>
          <a:xfrm>
            <a:off x="2786040" y="4722840"/>
            <a:ext cx="3600360" cy="1511280"/>
            <a:chOff x="2786040" y="4722840"/>
            <a:chExt cx="3600360" cy="1511280"/>
          </a:xfrm>
        </p:grpSpPr>
        <p:sp>
          <p:nvSpPr>
            <p:cNvPr id="779" name="Rounded Rectangle 6"/>
            <p:cNvSpPr/>
            <p:nvPr/>
          </p:nvSpPr>
          <p:spPr>
            <a:xfrm>
              <a:off x="2786040" y="4722840"/>
              <a:ext cx="3600360" cy="1511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98"/>
            <p:cNvSpPr/>
            <p:nvPr/>
          </p:nvSpPr>
          <p:spPr>
            <a:xfrm>
              <a:off x="2912760" y="4794120"/>
              <a:ext cx="3373560" cy="13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ound </a:t>
              </a:r>
              <a:r>
                <a:rPr b="1" i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tandardization</a:t>
              </a: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 Frame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Covering whole range of ES prod / serv., ES types and types of CS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Business practice driv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Appropriate guid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International dimen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Rectangle 98"/>
          <p:cNvSpPr/>
          <p:nvPr/>
        </p:nvSpPr>
        <p:spPr>
          <a:xfrm>
            <a:off x="2739960" y="2333520"/>
            <a:ext cx="3714840" cy="7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50"/>
                </a:solidFill>
                <a:latin typeface="Arial"/>
              </a:rPr>
              <a:t>Sound CSPs &amp;Trust Services Provisioning market for interoperable and cross-border use eSign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Group 22"/>
          <p:cNvGrpSpPr/>
          <p:nvPr/>
        </p:nvGrpSpPr>
        <p:grpSpPr>
          <a:xfrm>
            <a:off x="6500880" y="4722840"/>
            <a:ext cx="2359080" cy="1511280"/>
            <a:chOff x="6500880" y="4722840"/>
            <a:chExt cx="2359080" cy="1511280"/>
          </a:xfrm>
        </p:grpSpPr>
        <p:sp>
          <p:nvSpPr>
            <p:cNvPr id="783" name="Rounded Rectangle 10"/>
            <p:cNvSpPr/>
            <p:nvPr/>
          </p:nvSpPr>
          <p:spPr>
            <a:xfrm>
              <a:off x="6500880" y="4722840"/>
              <a:ext cx="2359080" cy="1511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98"/>
            <p:cNvSpPr/>
            <p:nvPr/>
          </p:nvSpPr>
          <p:spPr>
            <a:xfrm>
              <a:off x="6659640" y="4786200"/>
              <a:ext cx="2001960" cy="138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ound </a:t>
              </a:r>
              <a:r>
                <a:rPr b="1" i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Trust</a:t>
              </a: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 Frame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Supervision of CS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Voluntary accredita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Trust Status Lis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Application label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Rectangle 2"/>
          <p:cNvSpPr/>
          <p:nvPr/>
        </p:nvSpPr>
        <p:spPr>
          <a:xfrm>
            <a:off x="357120" y="81000"/>
            <a:ext cx="777240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2. Crobies Study in 2010: </a:t>
            </a:r>
            <a:br>
              <a:rPr sz="2800"/>
            </a:b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Key success factors for eSignat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Group 32"/>
          <p:cNvGrpSpPr/>
          <p:nvPr/>
        </p:nvGrpSpPr>
        <p:grpSpPr>
          <a:xfrm>
            <a:off x="3535200" y="3137040"/>
            <a:ext cx="1965600" cy="755640"/>
            <a:chOff x="3535200" y="3137040"/>
            <a:chExt cx="1965600" cy="755640"/>
          </a:xfrm>
        </p:grpSpPr>
        <p:sp>
          <p:nvSpPr>
            <p:cNvPr id="787" name="Down Arrow 25"/>
            <p:cNvSpPr/>
            <p:nvPr/>
          </p:nvSpPr>
          <p:spPr>
            <a:xfrm flipV="1">
              <a:off x="4392720" y="3137040"/>
              <a:ext cx="179280" cy="720720"/>
            </a:xfrm>
            <a:prstGeom prst="downArrow">
              <a:avLst>
                <a:gd name="adj1" fmla="val 50000"/>
                <a:gd name="adj2" fmla="val 50028"/>
              </a:avLst>
            </a:prstGeom>
            <a:solidFill>
              <a:srgbClr val="92d050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98"/>
            <p:cNvSpPr/>
            <p:nvPr/>
          </p:nvSpPr>
          <p:spPr>
            <a:xfrm>
              <a:off x="3535200" y="3344760"/>
              <a:ext cx="196560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Promo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Group 19"/>
          <p:cNvGrpSpPr/>
          <p:nvPr/>
        </p:nvGrpSpPr>
        <p:grpSpPr>
          <a:xfrm>
            <a:off x="285840" y="4721400"/>
            <a:ext cx="2340000" cy="1511280"/>
            <a:chOff x="285840" y="4721400"/>
            <a:chExt cx="2340000" cy="1511280"/>
          </a:xfrm>
        </p:grpSpPr>
        <p:sp>
          <p:nvSpPr>
            <p:cNvPr id="790" name="Rounded Rectangle 22"/>
            <p:cNvSpPr/>
            <p:nvPr/>
          </p:nvSpPr>
          <p:spPr>
            <a:xfrm>
              <a:off x="285840" y="4721400"/>
              <a:ext cx="2340000" cy="1511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98"/>
            <p:cNvSpPr/>
            <p:nvPr/>
          </p:nvSpPr>
          <p:spPr>
            <a:xfrm>
              <a:off x="357120" y="4765680"/>
              <a:ext cx="2203560" cy="14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ound </a:t>
              </a:r>
              <a:r>
                <a:rPr b="1" i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Legal </a:t>
              </a: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Frame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Different level of 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Range of ES prod/serv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Different types of CS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International dimen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0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3.1 New approach for legal framework: </a:t>
            </a:r>
            <a:br>
              <a:rPr sz="2800"/>
            </a:b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Draft EU EIDAS- Regulation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3" name="Footer Placeholder 2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9DDE-F7E9-4B25-89A0-5E61BE55511A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6840" y="1272960"/>
            <a:ext cx="853596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June 2012 – EU Commission publish </a:t>
            </a:r>
            <a:r>
              <a:rPr b="0" lang="en-GB" sz="2400" spc="-1" strike="noStrike" u="sng">
                <a:solidFill>
                  <a:srgbClr val="404040"/>
                </a:solidFill>
                <a:uFillTx/>
                <a:latin typeface="Calibri"/>
              </a:rPr>
              <a:t>first draft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 regulation </a:t>
            </a:r>
            <a:br>
              <a:rPr sz="2400"/>
            </a:b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on electronic identification and trust services for electronic transactions in the internal market</a:t>
            </a: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Added 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Mutual recognition of electronic identification [E-ID]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Extended Supervision of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Certification Service Providers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to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Trust Service Providers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, includes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proactive supervision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Qualified Electronic trust services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signatures interoperability and usability,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seals interoperability and usability,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ime stamping,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delivery service,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documents admissibility,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Website authentication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advTm="10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76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3.2 Standards Framework I:</a:t>
            </a:r>
            <a:br>
              <a:rPr sz="2800"/>
            </a:b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M460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European</a:t>
            </a: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 Commission mandate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361800" y="164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EC founded eSignatures standardization activitie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22200" indent="-3222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4 years: 2011-2015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22200" indent="-3222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1st phase (executed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definition of a rationalized standardization framework, in collaboration with CE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ral specifications upgrades primarily aimed at providing quick technical fixes to existing electronic signatures standards, and definition of test specifica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22200" indent="-3222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2nd phase (now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mplement the rationalized standardization framework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support the new EU Regulation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on electronic identification and trust services for electronic transactions in the internal market (exp. approval in 2014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8" name="Foliennummernplatzhalter 3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6A2C-D9C6-4614-BBC3-20973CFEE8CB}" type="slidenum">
              <a:rPr b="0" lang="en-GB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1f497d"/>
                </a:solidFill>
                <a:latin typeface="Calibri"/>
              </a:rPr>
              <a:t>3.2 Standards Framework II</a:t>
            </a:r>
            <a:br>
              <a:rPr sz="2800"/>
            </a:br>
            <a:r>
              <a:rPr b="1" lang="de-AT" sz="2800" spc="-1" strike="noStrike">
                <a:solidFill>
                  <a:srgbClr val="1f497d"/>
                </a:solidFill>
                <a:latin typeface="Calibri"/>
              </a:rPr>
              <a:t>Mandate/460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800" name="Group 41"/>
          <p:cNvGrpSpPr/>
          <p:nvPr/>
        </p:nvGrpSpPr>
        <p:grpSpPr>
          <a:xfrm>
            <a:off x="2354400" y="3814920"/>
            <a:ext cx="4363920" cy="1357200"/>
            <a:chOff x="2354400" y="3814920"/>
            <a:chExt cx="4363920" cy="1357200"/>
          </a:xfrm>
        </p:grpSpPr>
        <p:sp>
          <p:nvSpPr>
            <p:cNvPr id="801" name="Rectangle 5"/>
            <p:cNvSpPr/>
            <p:nvPr/>
          </p:nvSpPr>
          <p:spPr>
            <a:xfrm>
              <a:off x="2354400" y="3814920"/>
              <a:ext cx="4363920" cy="13572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TextBox 7"/>
            <p:cNvSpPr/>
            <p:nvPr/>
          </p:nvSpPr>
          <p:spPr>
            <a:xfrm>
              <a:off x="2782800" y="4243320"/>
              <a:ext cx="3570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Signature Cre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&amp; Valid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34"/>
            <p:cNvSpPr/>
            <p:nvPr/>
          </p:nvSpPr>
          <p:spPr>
            <a:xfrm>
              <a:off x="4367160" y="3905280"/>
              <a:ext cx="28728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Group 42"/>
          <p:cNvGrpSpPr/>
          <p:nvPr/>
        </p:nvGrpSpPr>
        <p:grpSpPr>
          <a:xfrm>
            <a:off x="2155680" y="5386320"/>
            <a:ext cx="2198880" cy="642960"/>
            <a:chOff x="2155680" y="5386320"/>
            <a:chExt cx="2198880" cy="642960"/>
          </a:xfrm>
        </p:grpSpPr>
        <p:sp>
          <p:nvSpPr>
            <p:cNvPr id="805" name="Rectangle 9"/>
            <p:cNvSpPr/>
            <p:nvPr/>
          </p:nvSpPr>
          <p:spPr>
            <a:xfrm>
              <a:off x="2350800" y="5386320"/>
              <a:ext cx="2003760" cy="6429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TextBox 11"/>
            <p:cNvSpPr/>
            <p:nvPr/>
          </p:nvSpPr>
          <p:spPr>
            <a:xfrm>
              <a:off x="2155680" y="5386320"/>
              <a:ext cx="216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Signatur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Creation Devi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35"/>
            <p:cNvSpPr/>
            <p:nvPr/>
          </p:nvSpPr>
          <p:spPr>
            <a:xfrm>
              <a:off x="4003920" y="5441760"/>
              <a:ext cx="28728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Group 43"/>
          <p:cNvGrpSpPr/>
          <p:nvPr/>
        </p:nvGrpSpPr>
        <p:grpSpPr>
          <a:xfrm>
            <a:off x="4716360" y="5415120"/>
            <a:ext cx="2156040" cy="642960"/>
            <a:chOff x="4716360" y="5415120"/>
            <a:chExt cx="2156040" cy="642960"/>
          </a:xfrm>
        </p:grpSpPr>
        <p:sp>
          <p:nvSpPr>
            <p:cNvPr id="809" name="Rectangle 13"/>
            <p:cNvSpPr/>
            <p:nvPr/>
          </p:nvSpPr>
          <p:spPr>
            <a:xfrm>
              <a:off x="4716360" y="5415120"/>
              <a:ext cx="2002320" cy="6429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TextBox 12"/>
            <p:cNvSpPr/>
            <p:nvPr/>
          </p:nvSpPr>
          <p:spPr>
            <a:xfrm>
              <a:off x="4881960" y="5415120"/>
              <a:ext cx="1990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Cryptographic Sui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36"/>
            <p:cNvSpPr/>
            <p:nvPr/>
          </p:nvSpPr>
          <p:spPr>
            <a:xfrm>
              <a:off x="4790880" y="5470560"/>
              <a:ext cx="28872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Group 46"/>
          <p:cNvGrpSpPr/>
          <p:nvPr/>
        </p:nvGrpSpPr>
        <p:grpSpPr>
          <a:xfrm>
            <a:off x="4697280" y="2970360"/>
            <a:ext cx="2211480" cy="699840"/>
            <a:chOff x="4697280" y="2970360"/>
            <a:chExt cx="2211480" cy="699840"/>
          </a:xfrm>
        </p:grpSpPr>
        <p:sp>
          <p:nvSpPr>
            <p:cNvPr id="813" name="Rectangle 17"/>
            <p:cNvSpPr/>
            <p:nvPr/>
          </p:nvSpPr>
          <p:spPr>
            <a:xfrm>
              <a:off x="4697280" y="2986200"/>
              <a:ext cx="2036880" cy="684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TextBox 9"/>
            <p:cNvSpPr/>
            <p:nvPr/>
          </p:nvSpPr>
          <p:spPr>
            <a:xfrm>
              <a:off x="4781520" y="2970360"/>
              <a:ext cx="2127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rust Appl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Service Provid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37"/>
            <p:cNvSpPr/>
            <p:nvPr/>
          </p:nvSpPr>
          <p:spPr>
            <a:xfrm>
              <a:off x="4755960" y="3333600"/>
              <a:ext cx="28728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Group 45"/>
          <p:cNvGrpSpPr/>
          <p:nvPr/>
        </p:nvGrpSpPr>
        <p:grpSpPr>
          <a:xfrm>
            <a:off x="2351160" y="2941560"/>
            <a:ext cx="2003400" cy="700200"/>
            <a:chOff x="2351160" y="2941560"/>
            <a:chExt cx="2003400" cy="700200"/>
          </a:xfrm>
        </p:grpSpPr>
        <p:sp>
          <p:nvSpPr>
            <p:cNvPr id="817" name="Rectangle 21"/>
            <p:cNvSpPr/>
            <p:nvPr/>
          </p:nvSpPr>
          <p:spPr>
            <a:xfrm>
              <a:off x="2352600" y="2957400"/>
              <a:ext cx="2001960" cy="684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TextBox 8"/>
            <p:cNvSpPr/>
            <p:nvPr/>
          </p:nvSpPr>
          <p:spPr>
            <a:xfrm>
              <a:off x="2351160" y="2941560"/>
              <a:ext cx="1945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SPs supporting eSignat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38"/>
            <p:cNvSpPr/>
            <p:nvPr/>
          </p:nvSpPr>
          <p:spPr>
            <a:xfrm>
              <a:off x="4003920" y="3305160"/>
              <a:ext cx="28872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Group 44"/>
          <p:cNvGrpSpPr/>
          <p:nvPr/>
        </p:nvGrpSpPr>
        <p:grpSpPr>
          <a:xfrm>
            <a:off x="2139840" y="1890720"/>
            <a:ext cx="4746600" cy="885960"/>
            <a:chOff x="2139840" y="1890720"/>
            <a:chExt cx="4746600" cy="885960"/>
          </a:xfrm>
        </p:grpSpPr>
        <p:sp>
          <p:nvSpPr>
            <p:cNvPr id="821" name="Rectangle 25"/>
            <p:cNvSpPr/>
            <p:nvPr/>
          </p:nvSpPr>
          <p:spPr>
            <a:xfrm>
              <a:off x="2352240" y="2057400"/>
              <a:ext cx="4381560" cy="7192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TextBox 10"/>
            <p:cNvSpPr/>
            <p:nvPr/>
          </p:nvSpPr>
          <p:spPr>
            <a:xfrm>
              <a:off x="2139840" y="2255760"/>
              <a:ext cx="474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rust Service Status Lists Provid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39"/>
            <p:cNvSpPr/>
            <p:nvPr/>
          </p:nvSpPr>
          <p:spPr>
            <a:xfrm>
              <a:off x="4289400" y="1890720"/>
              <a:ext cx="287280" cy="2890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TextBox 47"/>
          <p:cNvSpPr/>
          <p:nvPr/>
        </p:nvSpPr>
        <p:spPr>
          <a:xfrm>
            <a:off x="332640" y="3868560"/>
            <a:ext cx="1739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Rules &amp;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Forma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ignature Creation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 / Val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Protection Pro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47"/>
          <p:cNvSpPr/>
          <p:nvPr/>
        </p:nvSpPr>
        <p:spPr>
          <a:xfrm>
            <a:off x="6898680" y="3749760"/>
            <a:ext cx="19969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XAdES (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CAdES (C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PAdES (PD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AdES in Mobile envm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ASiC (contain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47"/>
          <p:cNvSpPr/>
          <p:nvPr/>
        </p:nvSpPr>
        <p:spPr>
          <a:xfrm>
            <a:off x="332280" y="5365800"/>
            <a:ext cx="1716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Made by CE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SCDs (e.g. 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HSMs &amp; other S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47"/>
          <p:cNvSpPr/>
          <p:nvPr/>
        </p:nvSpPr>
        <p:spPr>
          <a:xfrm>
            <a:off x="6849360" y="5176800"/>
            <a:ext cx="1893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Key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Hash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ignature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Key leng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47"/>
          <p:cNvSpPr/>
          <p:nvPr/>
        </p:nvSpPr>
        <p:spPr>
          <a:xfrm>
            <a:off x="6843600" y="2868480"/>
            <a:ext cx="2079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Registered 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Long term pre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47"/>
          <p:cNvSpPr/>
          <p:nvPr/>
        </p:nvSpPr>
        <p:spPr>
          <a:xfrm>
            <a:off x="326160" y="2819520"/>
            <a:ext cx="1724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Issuing certific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Time-stam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igning Ser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Validation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47"/>
          <p:cNvSpPr/>
          <p:nvPr/>
        </p:nvSpPr>
        <p:spPr>
          <a:xfrm>
            <a:off x="6900480" y="1625760"/>
            <a:ext cx="1950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List of TSP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approved (supervi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by National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(e.g. Trusted Li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009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AFTER Mandate 460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2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Object 2" descr=""/>
          <p:cNvPicPr/>
          <p:nvPr/>
        </p:nvPicPr>
        <p:blipFill>
          <a:blip r:embed="rId1"/>
          <a:stretch/>
        </p:blipFill>
        <p:spPr>
          <a:xfrm>
            <a:off x="671400" y="1268280"/>
            <a:ext cx="7783560" cy="558972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4. Next Steps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5" name="Footer Placeholder 2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86CC-E235-4483-9ECA-6A1A5686286A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6840" y="1377720"/>
            <a:ext cx="85280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In Spring 2013 EU Commission published new 2nd draft regulation “on electronic identification and trust services for electronic transactions in the internal market”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Under EU Mandate 460 (2013 to 2015) ETSI commissioned to produc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74304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European Norm for TSP Conformity Assessmen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74304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European Norms for Best Practices (Policy Requirements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Certificates for Personal Sign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Certificates for organisational </a:t>
            </a:r>
            <a:r>
              <a:rPr b="0" lang="ja-JP" sz="20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seals</a:t>
            </a:r>
            <a:r>
              <a:rPr b="0" lang="ja-JP" sz="2000" spc="-1" strike="noStrike">
                <a:solidFill>
                  <a:srgbClr val="404040"/>
                </a:solidFill>
                <a:latin typeface="Calibri"/>
              </a:rPr>
              <a:t>”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Time-stamping Servic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Website Certificates  (should be EN 319 411-4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…………</a:t>
            </a: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advTm="10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3:52:04Z</dcterms:created>
  <dc:creator>Arno Fiedler</dc:creator>
  <dc:description/>
  <dc:language>en-US</dc:language>
  <cp:lastModifiedBy>Arno Fiedler</cp:lastModifiedBy>
  <cp:lastPrinted>2012-04-17T12:11:33Z</cp:lastPrinted>
  <dcterms:modified xsi:type="dcterms:W3CDTF">2013-09-09T15:18:08Z</dcterms:modified>
  <cp:revision>784</cp:revision>
  <dc:subject/>
  <dc:title>Slide 1</dc:title>
</cp:coreProperties>
</file>