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4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2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dt" idx="34"/>
          </p:nvPr>
        </p:nvSpPr>
        <p:spPr>
          <a:xfrm>
            <a:off x="402120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ftr" idx="35"/>
          </p:nvPr>
        </p:nvSpPr>
        <p:spPr>
          <a:xfrm>
            <a:off x="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 type="sldNum" idx="36"/>
          </p:nvPr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1737321-86A1-401E-9722-4CDCA3AF83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91CF2D5-46C3-44C6-8718-698EB75A98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f the published ETSI documents mentioned in this presentation are available for download via the ETSI download page.  Just enter the TS number of key words from the ti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questions feel free to contact myself (standards) , or Olivier Delos (regul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more formal statement on questions regarding the regulation contact Gerard Galler of the EU commi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0801BCE-1E0E-4591-B12E-7586E6DC00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322665C-CEE5-458E-9D72-EAB7F54A35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C585E8A-0B1E-492C-9724-E66DDF7FE8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3 main dimensions to its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is a recognized European Standards Organization and as such can produce standards supporting European reg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also become highly-respected as a producer of technical standards for worldwide use. Many ETSI standards answer global ICT mark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nally ETSI has defined testing methodologies and a testing language (TTCN). ETSI also runs interoperability test events. Those even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pportunity for companies to test their prototypes against a standard with their partners and competi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ancing the quality of specif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eding up the standardiz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ucing time to mark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ing the deployment of a techn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BEF54C8-2807-44AE-9920-3E1F285260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ing that the EU Directive 1999/93 on E-Signatures was getting out of date and had not achieved full EU harmonization the EU Commission has issued a new Draft reg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ope of this document is wider that the Directive covering a range of “Trust Services” required for electronic online services across Europe.  It is aimed at achieving a greater degree of harmony between EU 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raft regulation is under discussion in the council of ministers.  There is agreement with the general principles of the new regulation but significant discussion on the details i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d that a new draft may be produced under the Irish presidency by June / Ju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180C024-D7D1-42F1-B6C0-4F6096F635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60306A4-0AA3-48F6-8C46-EB7583D6F3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F1C218B-8A98-4A22-9EB3-C4B21462F2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E2CAFF6-9461-44B7-9306-6565BFA7B5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E4215-438E-44F4-BEC9-DA750CC8C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A5BF5-7690-4A2F-BF34-9873BF036F4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1D9DD5-2320-43F1-8ACA-85C49AADB8A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A9DB1B-C8FE-4210-9D9C-3DE14420A03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3D22A5-91BB-4FFD-A5A0-E01A6E012B5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513E56-29F4-4594-BE54-7341B207D1E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F912C9-2E19-429B-8F8C-4A1B8F262CA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651992-C629-4A09-A597-908841FC78B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C4F083-0091-41F3-A57E-907AFBBE26E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FA661B-9B12-474E-BCA0-D592C8A0E48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E86729-5F7A-41D0-9731-50EB7656F5D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CBA16-0692-4A96-ACF5-046770186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00C93-09D4-4E71-BCB4-2514DB89FD9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747A2-B7AC-4A00-9B39-9056B9D3172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88D25-F15B-4CC0-8340-7E6DA993938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D2C19-929D-4A1B-8034-A1D3505EA37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9A0FF-FD28-4C8C-A71D-8B774520636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1070F-424B-4ACE-9B9E-7A3C2F86D04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8E7FF-1594-4708-AE53-CA477A44E0B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93541-2B73-476E-B07C-3CEE2105C92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FABC9-3216-444B-9C52-21C144D1EAF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09D0E-E2C7-4F01-B49E-E276ACA967F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991F0-D1E9-4FEE-9300-A5B71F6D4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E8138-4117-430E-8D7A-7DCFD9D449F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3B689-6EB8-4215-9E56-CDE0CC28F22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C14317-B883-40F7-89CA-0CAE9D843E3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45A821-7FE2-4F9B-8222-8E47ABBE698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8F4F06-89ED-44EF-99DB-BF131E70889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6EAEF8-988D-4414-A058-F760E7F6D8D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8E9D71-B75B-4F63-A209-6403E33FB6F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F7AE21-398B-484F-9B5B-D518B561E4D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70ED63-987A-4E05-B633-501DF5EE808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29C1E7-C618-4C63-B6DC-CA2A1A749A7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95463E-6DC3-4181-9491-5F10F872A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8AAE31-25B2-4A2F-86D8-D3BAC94BEB2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DB7817-4520-4806-984B-94D8615870C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F4E11B-CC97-4B1B-8DA9-EDA82A0B367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263A6E-FE54-456B-ABDC-DA8F439229F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9FF16A-ABA1-46EA-B940-F7957C11D81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BB6EC1-3EBA-4C16-BE26-8671BC9A4FB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C2F533-DFFA-4EA6-8C86-12EA4C55319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6F74F5-D121-49BD-8474-FAF3BC3A4E3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2E49F2-99A8-4E32-B58B-3D888991D3E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E20C50-43F2-4C07-8186-3B6492C98E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2BBB3C-3192-40D4-B628-4D9D9EA439B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79871E-4935-40D8-AEE4-C03679A0B2E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C2272B-C94F-4A38-8291-637ECE68BB6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C1D136-88D1-4FC0-91BC-B5F681096A0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3DF406-CF78-424B-BBCA-30BDE21BD1A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CC07A-84E2-43BB-965F-A988888EE8D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6884D-E39D-45FE-B182-1697F7FA9C5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936CA-36E6-4292-98FC-FD317351B8C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76A96-3200-463A-80D8-2839DA6C5EF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BFBBB-5B6A-47D7-94CC-3BEAEFBE7C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E9AEB-787B-4140-9860-BD3767A7ACB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D7F65-E72A-4B84-B1AB-02217DA503D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04ABB-3798-497E-8D11-0974024C000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A92B1-67CE-4E31-86B7-20325E2BF21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08535-A7E5-4BD5-9593-B643BCAB062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BE9F5-28E2-422B-9282-AB639B5AAE1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B3F7E-E4EF-4E69-8A45-FCFDD435ABA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A8A98B-EBA3-4ED3-886E-DB4A9DB51FC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3CB658-7799-4780-95B2-E82CB45DD04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FF6A3E-327B-4202-9678-0692076E45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812DDA-1C26-4060-A698-E097232D24C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03AD6E-30BA-4332-9149-64CA9967ED7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4B9F09-38B9-4B15-98CD-33DB5508A80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55AD2B-203B-4C36-AF08-C8935E4BDCD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64F166-77FE-4B61-811C-D678A462940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7A8E20-5B54-4A35-8AC1-700F9DEF012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4FBEFF-F073-4252-976E-1AAC8FEF4BC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7336F5-86E3-4B19-9144-E1301EFF15C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541BE2-447C-427C-8A11-2ACE310AC82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78D22D-028F-4ECC-98A8-F31F4AD812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A4F0A4-70DC-4965-B4EB-5C2F1AD0A2E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8D04C0-AA55-443E-8BD3-5E8BAF76148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AA3B0-6146-4724-AC2B-424E7B8CB7F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E855A5-3A64-4795-86A4-A4FE90392FA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69FCD3-33B7-43BD-ABB3-878AF2C1A62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68BB2F-3D8B-410C-9CD0-BDC3C7A2141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EA36E9-3751-4E7E-A54D-65A091E1C50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F953B-D2C3-4A0A-943C-5BF58A09ED0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31094B-6594-459F-B8F0-C0DA4956DFC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55D772-8CB8-4CA6-908B-4498C26152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48740-23A9-4BA6-82B9-16DCE9CB75F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0CB48-7321-4CB7-964C-925F07BAE13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432C1-3046-4C26-9D26-3B72D4578D5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34BA5-069B-4B3C-9EF4-FE1CE5B97BD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A11F8-CF8A-4431-AA83-0D685210E1F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8D279-C4D5-4BD3-BA0D-EB66B60E3E6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A1B85-7AB1-4DE3-BA4D-D9D8341E433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BDC5A-90E3-4CDE-A8E3-B71950D09EC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D027E-5872-441E-9E08-06FD34929FB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87F1B-D7A9-45B9-BFD7-FC6BA2D134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E5156-FAFD-460F-9CEE-84F0AA39A06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A3051-56AC-47DF-B9C0-4C09CC7FC16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42E8A-6E0E-43DB-83AD-29A3C12BB42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7A8728-45B6-43D3-82D1-01AF1744B31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CB6FE9-FD4E-48FC-BAEB-773E129543E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19B970-90D1-42F6-AE4F-A841494B8A6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F6A832-FDAC-4059-AB66-BE60E8BB116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B56AA6-18F0-4C74-A57F-160F471D307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196848-CB83-4F9F-A108-3E6960CFDE6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3B900D-54F9-4B36-A91C-4F8782BF49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93266-5032-4A77-AC2F-59710EBD9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782377-42E3-44DB-8A08-3BB2990BBDE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4B97EE-774D-46E8-8F63-CE27CEBD9E9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2C5289-3EBF-4E73-88C6-39922D1CAE2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F10491-3F89-449F-BC95-FC818E4536A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FAEF36-7B2C-4F6A-9979-A40B94E09D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4260B-D017-44E6-B975-E783E6A403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E2E74-5E79-4DA9-9E61-05AA9D861C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32736-D3AF-4D4B-AC1A-EFCDD3FB64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11986-4516-48A9-8741-B09546D194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7F51C-AAB7-4485-9983-313C412C0D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9B200-A384-407B-90B6-BD66A7A638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1D914-A843-4529-8B35-C3466598BB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34924-1088-4106-844D-D4488FA238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31E84-9D97-466C-BB7F-20D1EFF5D5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18A85-6C74-489A-B10C-A90764BEEF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47DA3-6048-4BA2-93B1-5FACB827AF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521A9-E472-4323-B3F1-B467C1D768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1CDF5-4EBE-4CC4-B516-70D8C94381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17D3-4579-40D1-8E8F-6E430014AB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1781-2DC6-4643-8EEE-F534E86633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B70D-1312-4DE0-9DCE-FA49DA5B6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1A47F-FC24-4666-98B8-1931A27A40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51C3-D41C-429A-9C44-9D72C9E296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611B-C91D-4803-877E-8968912FADC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57D5-D389-4C60-A5C2-8E3E09245D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1DCF-7DF1-4349-A2BB-F28FFDB3D0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5BC2-1532-4A56-98B9-D1B66E9F343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F6D3-5AB7-4B21-AF9A-B78E6FC552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BDA5-7938-4D0B-B139-8A5D4CDF3B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E99C-2BC1-43D5-917F-EC725770C8C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7522-1452-4A23-BA9B-496346DCDD2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8B2FE7-70E0-4463-B27C-2F4EE60F8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465F9-06B8-4AB1-8D0C-D70AAB9D8E9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2BC7F-EC96-4B86-9BCD-ECC16E7A4A6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49CC5-D408-424B-B315-C304F8B5AD7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E6FB58-76F1-42FB-AC3F-7648DCC7E27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2C2F3-4E52-4FE1-8C3A-FD0D503BBAF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2CBC8-A1FB-4009-93A6-1D031605676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9583F-6764-4B7B-B8C1-4445F737480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BEFB2-DDD4-4206-810E-A4385249D77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09E8CD-A05D-4D4F-9A43-83BE4095F33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ED277-169A-4347-99BB-72CB7FF9BA4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47464-D99D-437B-9F3D-04A400F9E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93D6D-1C4E-4F72-9E26-5995BCF4DEF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8F8EA-D399-4EB7-9135-1FDAAB2364D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D417B1-B44C-4C3B-9AAA-D88C00C33F9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D780A-F0F1-4425-BDC8-6497ED94F30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469512-D4F8-4548-8A5B-F30C114B978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302DFD-D496-487E-9CA3-D4EDD582811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C63ECF-E7B5-4929-B50B-90F54B91E24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6D4B37-0D96-4ECC-9D7D-A618F0A5232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E6056D-A76A-4472-94D3-ABE39E325D0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D30FB8-F65A-45DE-96B4-61B43FB92B8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13E64C-960D-4D8C-A58B-BB524E3C7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58986-6E28-4653-A5FF-0AB5BB9C12E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6FC1FE-22A3-4650-BE7C-FF2A2879BAE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5C408E-63A3-4FBF-8CFD-62AED910373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079214-5F50-470E-9132-46625A12FBC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8B1F1-A7DE-416B-BEF2-B776F79CFFE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EF2EF-4E5E-49DF-90A7-08384248559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C96EE-CBEC-46D9-AB56-6FBA6A1611C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23901-0749-4CD6-9340-3D6B3759F22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190B4-7F64-4DB5-A0C1-E3657B3B047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C72F0-CA9A-47C5-B122-0C330FC31A6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2AB89-B057-422E-8B33-E97D57D06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9D48-1718-4D93-9C4C-A377B97916E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BF965-F299-48FD-925F-80B56D8FC81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946FD-082B-472C-AA1F-3953FD4F628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BF449-0F6C-49A8-84F3-70045227AE6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5D8D2-133D-406D-AA0C-9D4A64CFF07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9F5C1-0450-44F7-87F8-96C1BB23598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199EC4-609F-4A54-BE06-60C7299AB18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57D95F-25EF-4489-9101-FC524176DAA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B2B22E-3F9C-4D49-AB93-52954F9D5E1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96781C-A78C-44A1-8CD3-5929754D9D3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B77290-E6F7-4470-BF8B-BBD388FD1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998A7-C56D-4E00-9887-862D07934C1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E1B27-6FC5-496C-A6CC-489069666BA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9B8FB1-A25C-48B1-B369-CD84ACC9DA5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54BAA-ECFD-42E5-963F-C17E97F880A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B468F1-8F56-4E4D-B36C-B05A31269DF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01FB8-2F8D-4275-A6FA-CF19AEDA597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A7CFC-B7BE-468F-A74C-F8A2A8B8BD9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782CE-B7DE-46C5-86E3-B6633E91FDD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97C5E3-D4EE-41F0-BE36-AAE99B7F9C7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8E8849-F6A0-436A-84E5-9080A162D30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8F63D0-846C-4EA6-AC31-8C6FA1B54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071E-B2CE-4AB1-93BA-2F4A83A29A06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:\DATEN\Nimbus_allgemein\logo_NImbus\Bildschirm\100dpiRGB\Nimbus1-100dpiRGB.jpg"/>
          <p:cNvPicPr/>
          <p:nvPr/>
        </p:nvPicPr>
        <p:blipFill>
          <a:blip r:embed="rId4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87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1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45DD-9303-481B-BA75-A205A58D0A5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1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30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2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4E18-BBEF-4873-B75F-9DFEFB5C43B5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73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E575-0233-41FE-BAEE-26105C0FC974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16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2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DEBD-B81E-4AF5-B6A3-D24C2A4961B3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59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2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D7BE-7ED1-4D0E-BFB3-987510049483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02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Num" idx="2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4CC2-D01D-4F38-96FF-E00A72751DBA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45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Num" idx="3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ADBE-DCCE-44D6-BE02-8BCB4891781A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88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3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774A-F0BD-433E-BB03-187ADB9717A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4" name="תמונה 6" descr="open-slide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E:\DATEN\Nimbus_allgemein\logo_NImbus\Bildschirm\100dpiRGB\Nimbus1-100dpiRGB.jpg"/>
          <p:cNvPicPr/>
          <p:nvPr/>
        </p:nvPicPr>
        <p:blipFill>
          <a:blip r:embed="rId5"/>
          <a:stretch/>
        </p:blipFill>
        <p:spPr>
          <a:xfrm>
            <a:off x="7513560" y="6213600"/>
            <a:ext cx="1514520" cy="49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7462-3CCA-4561-A524-112F8B14BB23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29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4F4C-F46C-4021-AB2A-C45435FF555B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72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05A9-4B50-4427-9805-DC2B5D657BE0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15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6617-98ED-42B7-9897-90A9C918927B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58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F2BE-8BC0-4CC5-8A4E-A75DE4FADC4F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01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EBBA-66F4-410C-B526-5BDB41E24FEE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44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7BB2-A675-491B-B265-BD2047B9594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da.etsi.org/pda/queryform.as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eur-lex.europa.eu/LexUriServ/LexUriServ.do?uri=COM:2012:0238:FIN:EN:PDF" TargetMode="External"/><Relationship Id="rId5" Type="http://schemas.openxmlformats.org/officeDocument/2006/relationships/hyperlink" Target="mailto:arno.fiedler@nimbus-berlin.com" TargetMode="External"/><Relationship Id="rId6" Type="http://schemas.openxmlformats.org/officeDocument/2006/relationships/hyperlink" Target="mailto:nick.pope@thales-esecurity.c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16040" y="5513400"/>
            <a:ext cx="8067600" cy="5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EUROPEAN UNION MANDATE/460</a:t>
            </a:r>
            <a:endParaRPr b="1" lang="en-US" sz="1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15680" y="5084280"/>
            <a:ext cx="80802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5959"/>
                </a:solidFill>
                <a:latin typeface="Calibri"/>
              </a:rPr>
              <a:t>Kloster Banz 11.09.2013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42680" y="6000480"/>
            <a:ext cx="808812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Presented by Arno Fiedler,  Member of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E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uropean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T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ommunication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S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tandard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I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nstitute</a:t>
            </a:r>
            <a:br>
              <a:rPr sz="1600"/>
            </a:b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tronic Signatures and Infrastructures, Specialist Task Force 458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5. Summary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9" name="Fußzeilenplatzhalt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oliennummernplatzhalt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3367-2834-47D3-A0C4-79111D3C6C64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hteck 5"/>
          <p:cNvSpPr/>
          <p:nvPr/>
        </p:nvSpPr>
        <p:spPr>
          <a:xfrm>
            <a:off x="392040" y="2357280"/>
            <a:ext cx="86108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he new draft EU-Regulation will deliver a complete legal and trust framework for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oactive Supervision 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on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qualified level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br>
              <a:rPr sz="2400"/>
            </a:br>
            <a:r>
              <a:rPr b="0" lang="de-DE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TSI and CEN standards will be a fundamental part in future EU legislation (delegating acts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).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but: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lying parties (in Europe!) have to consume the Trust we provide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Thank you !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TSI Download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da.etsi.org/pda/queryform.asp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nter keyword / title /  document numb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Draft EU Regulation:</a:t>
            </a:r>
            <a:br>
              <a:rPr sz="2400"/>
            </a:b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ur-lex.europa.eu/LexUriServ/LexUriServ.do?uri=COM:2012:0238:FIN:EN:PDF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ontact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Arno Fiedler: STF 458 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arno.fiedler@nimbus-berlin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Iñigo Barreira: STF 458 </a:t>
            </a:r>
            <a:r>
              <a:rPr b="0" lang="es-ES" sz="2000" spc="-1" strike="noStrike" u="sng">
                <a:solidFill>
                  <a:srgbClr val="254061"/>
                </a:solidFill>
                <a:uFillTx/>
                <a:latin typeface="Calibri"/>
              </a:rPr>
              <a:t>i-barreira@izenpe.net</a:t>
            </a:r>
            <a:br>
              <a:rPr sz="2000"/>
            </a:b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Nick Pope: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ead STF 458 (TSP &amp; e-Signature standards) </a:t>
            </a:r>
            <a:br>
              <a:rPr sz="20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nick.pope@thales-esecurity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Footer Placehold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4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722A-BA3A-4CD4-848A-579F72F17E5A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3AF6-66E2-4FDC-8ED1-41857ACE2BCF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Diagramm 3" descr=""/>
          <p:cNvPicPr/>
          <p:nvPr/>
        </p:nvPicPr>
        <p:blipFill>
          <a:blip r:embed="rId1"/>
          <a:stretch/>
        </p:blipFill>
        <p:spPr>
          <a:xfrm>
            <a:off x="476280" y="1359000"/>
            <a:ext cx="8028000" cy="4992480"/>
          </a:xfrm>
          <a:prstGeom prst="rect">
            <a:avLst/>
          </a:prstGeom>
          <a:ln w="0">
            <a:noFill/>
          </a:ln>
        </p:spPr>
      </p:pic>
      <p:sp>
        <p:nvSpPr>
          <p:cNvPr id="849" name="Rechteck 5"/>
          <p:cNvSpPr/>
          <p:nvPr/>
        </p:nvSpPr>
        <p:spPr>
          <a:xfrm>
            <a:off x="457200" y="212760"/>
            <a:ext cx="623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   Actual (Best) Practise for SS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06D7-BD01-4071-BE4D-97ACD4F7A50F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Diagramm 3" descr=""/>
          <p:cNvPicPr/>
          <p:nvPr/>
        </p:nvPicPr>
        <p:blipFill>
          <a:blip r:embed="rId1"/>
          <a:stretch/>
        </p:blipFill>
        <p:spPr>
          <a:xfrm>
            <a:off x="549360" y="1359000"/>
            <a:ext cx="7924680" cy="4992480"/>
          </a:xfrm>
          <a:prstGeom prst="rect">
            <a:avLst/>
          </a:prstGeom>
          <a:ln w="0">
            <a:noFill/>
          </a:ln>
        </p:spPr>
      </p:pic>
      <p:sp>
        <p:nvSpPr>
          <p:cNvPr id="853" name="Rechteck 5"/>
          <p:cNvSpPr/>
          <p:nvPr/>
        </p:nvSpPr>
        <p:spPr>
          <a:xfrm>
            <a:off x="266760" y="185760"/>
            <a:ext cx="65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actual TSP Perspective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(german exam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63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1. ETSI activiti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837C-66E3-4BB1-AF98-42E478078966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Text Box 13"/>
          <p:cNvGrpSpPr/>
          <p:nvPr/>
        </p:nvGrpSpPr>
        <p:grpSpPr>
          <a:xfrm>
            <a:off x="463680" y="3067200"/>
            <a:ext cx="2749320" cy="876240"/>
            <a:chOff x="463680" y="3067200"/>
            <a:chExt cx="2749320" cy="876240"/>
          </a:xfrm>
        </p:grpSpPr>
        <p:pic>
          <p:nvPicPr>
            <p:cNvPr id="743" name="Text Box 13" descr=""/>
            <p:cNvPicPr/>
            <p:nvPr/>
          </p:nvPicPr>
          <p:blipFill>
            <a:blip r:embed="rId1"/>
            <a:stretch/>
          </p:blipFill>
          <p:spPr>
            <a:xfrm>
              <a:off x="463680" y="3067200"/>
              <a:ext cx="274932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538200" y="3129120"/>
              <a:ext cx="255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in support of EU reg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AutoShape 7"/>
          <p:cNvGrpSpPr/>
          <p:nvPr/>
        </p:nvGrpSpPr>
        <p:grpSpPr>
          <a:xfrm>
            <a:off x="2925720" y="2414520"/>
            <a:ext cx="1079640" cy="822240"/>
            <a:chOff x="2925720" y="2414520"/>
            <a:chExt cx="1079640" cy="822240"/>
          </a:xfrm>
        </p:grpSpPr>
        <p:pic>
          <p:nvPicPr>
            <p:cNvPr id="746" name="AutoShape 7" descr=""/>
            <p:cNvPicPr/>
            <p:nvPr/>
          </p:nvPicPr>
          <p:blipFill>
            <a:blip r:embed="rId2"/>
            <a:stretch/>
          </p:blipFill>
          <p:spPr>
            <a:xfrm>
              <a:off x="2925720" y="2414520"/>
              <a:ext cx="107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 rot="12693600">
              <a:off x="3025440" y="2805840"/>
              <a:ext cx="96516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8" name="Picture 5" descr="MPj03994060000[1]"/>
          <p:cNvPicPr/>
          <p:nvPr/>
        </p:nvPicPr>
        <p:blipFill>
          <a:blip r:embed="rId3"/>
          <a:stretch/>
        </p:blipFill>
        <p:spPr>
          <a:xfrm>
            <a:off x="914400" y="1725480"/>
            <a:ext cx="1762200" cy="13827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4" descr="Globe-for-Web.jpg Shipping Worldewide image by Darmon9"/>
          <p:cNvPicPr/>
          <p:nvPr/>
        </p:nvPicPr>
        <p:blipFill>
          <a:blip r:embed="rId4"/>
          <a:stretch/>
        </p:blipFill>
        <p:spPr>
          <a:xfrm>
            <a:off x="6499080" y="1704960"/>
            <a:ext cx="1622520" cy="1565280"/>
          </a:xfrm>
          <a:prstGeom prst="rect">
            <a:avLst/>
          </a:prstGeom>
          <a:ln w="0">
            <a:noFill/>
          </a:ln>
        </p:spPr>
      </p:pic>
      <p:grpSp>
        <p:nvGrpSpPr>
          <p:cNvPr id="750" name="Text Box 15"/>
          <p:cNvGrpSpPr/>
          <p:nvPr/>
        </p:nvGrpSpPr>
        <p:grpSpPr>
          <a:xfrm>
            <a:off x="3529080" y="5114880"/>
            <a:ext cx="2262240" cy="871560"/>
            <a:chOff x="3529080" y="5114880"/>
            <a:chExt cx="2262240" cy="871560"/>
          </a:xfrm>
        </p:grpSpPr>
        <p:pic>
          <p:nvPicPr>
            <p:cNvPr id="751" name="Text Box 15" descr=""/>
            <p:cNvPicPr/>
            <p:nvPr/>
          </p:nvPicPr>
          <p:blipFill>
            <a:blip r:embed="rId5"/>
            <a:stretch/>
          </p:blipFill>
          <p:spPr>
            <a:xfrm>
              <a:off x="3529080" y="5114880"/>
              <a:ext cx="2262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3584520" y="5173560"/>
              <a:ext cx="21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Interoperabilit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Text Box 12"/>
          <p:cNvGrpSpPr/>
          <p:nvPr/>
        </p:nvGrpSpPr>
        <p:grpSpPr>
          <a:xfrm>
            <a:off x="6076800" y="3139920"/>
            <a:ext cx="2451240" cy="871560"/>
            <a:chOff x="6076800" y="3139920"/>
            <a:chExt cx="2451240" cy="871560"/>
          </a:xfrm>
        </p:grpSpPr>
        <p:pic>
          <p:nvPicPr>
            <p:cNvPr id="754" name="Text Box 12" descr=""/>
            <p:cNvPicPr/>
            <p:nvPr/>
          </p:nvPicPr>
          <p:blipFill>
            <a:blip r:embed="rId6"/>
            <a:stretch/>
          </p:blipFill>
          <p:spPr>
            <a:xfrm>
              <a:off x="6076800" y="3139920"/>
              <a:ext cx="2451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6149880" y="3200400"/>
              <a:ext cx="230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for global ICT mar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AutoShape 7"/>
          <p:cNvGrpSpPr/>
          <p:nvPr/>
        </p:nvGrpSpPr>
        <p:grpSpPr>
          <a:xfrm>
            <a:off x="4492800" y="4065480"/>
            <a:ext cx="347400" cy="1067040"/>
            <a:chOff x="4492800" y="4065480"/>
            <a:chExt cx="347400" cy="1067040"/>
          </a:xfrm>
        </p:grpSpPr>
        <p:pic>
          <p:nvPicPr>
            <p:cNvPr id="757" name="AutoShape 7" descr=""/>
            <p:cNvPicPr/>
            <p:nvPr/>
          </p:nvPicPr>
          <p:blipFill>
            <a:blip r:embed="rId7"/>
            <a:stretch/>
          </p:blipFill>
          <p:spPr>
            <a:xfrm>
              <a:off x="4492800" y="4065480"/>
              <a:ext cx="347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 rot="5400000">
              <a:off x="4234320" y="4484160"/>
              <a:ext cx="8636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AutoShape 7"/>
          <p:cNvGrpSpPr/>
          <p:nvPr/>
        </p:nvGrpSpPr>
        <p:grpSpPr>
          <a:xfrm>
            <a:off x="5450040" y="2414520"/>
            <a:ext cx="1090440" cy="798480"/>
            <a:chOff x="5450040" y="2414520"/>
            <a:chExt cx="1090440" cy="798480"/>
          </a:xfrm>
        </p:grpSpPr>
        <p:pic>
          <p:nvPicPr>
            <p:cNvPr id="760" name="AutoShape 7" descr=""/>
            <p:cNvPicPr/>
            <p:nvPr/>
          </p:nvPicPr>
          <p:blipFill>
            <a:blip r:embed="rId8"/>
            <a:stretch/>
          </p:blipFill>
          <p:spPr>
            <a:xfrm>
              <a:off x="5450040" y="2414520"/>
              <a:ext cx="1090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 rot="19785600">
              <a:off x="5467320" y="2792520"/>
              <a:ext cx="965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14" descr="PLUGTESTS.jpg"/>
          <p:cNvPicPr/>
          <p:nvPr/>
        </p:nvPicPr>
        <p:blipFill>
          <a:blip r:embed="rId9"/>
          <a:stretch/>
        </p:blipFill>
        <p:spPr>
          <a:xfrm>
            <a:off x="3629160" y="5854680"/>
            <a:ext cx="2033280" cy="5652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3" descr="ETSI Logo_S_Office1.jpg"/>
          <p:cNvPicPr/>
          <p:nvPr/>
        </p:nvPicPr>
        <p:blipFill>
          <a:blip r:embed="rId10"/>
          <a:stretch/>
        </p:blipFill>
        <p:spPr>
          <a:xfrm>
            <a:off x="3340080" y="3159000"/>
            <a:ext cx="2625840" cy="846360"/>
          </a:xfrm>
          <a:prstGeom prst="rect">
            <a:avLst/>
          </a:prstGeom>
          <a:ln w="0">
            <a:noFill/>
          </a:ln>
        </p:spPr>
      </p:pic>
      <p:sp>
        <p:nvSpPr>
          <p:cNvPr id="764" name="מציין מיקום של כותרת תחתונה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eb4e3"/>
                </a:solidFill>
                <a:latin typeface="Arial"/>
              </a:rPr>
              <a:t>© ETSI 2012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hteck 1"/>
          <p:cNvSpPr/>
          <p:nvPr/>
        </p:nvSpPr>
        <p:spPr>
          <a:xfrm>
            <a:off x="2838600" y="157320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, DECT, TETR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: UMTS, LT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:TSL, XAdES, PAdES, 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76120" y="0"/>
            <a:ext cx="8229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1. ETSI Electronic Signatures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and Infrastructures (ESI) TC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4480" y="1402920"/>
            <a:ext cx="885816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nce 2000 ETSI/ESI plays a key role in the development of electronic signature related standard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ignature formats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XAdES (TS 101 903) -&gt;ISO, CAdES (TS 101 733) -&gt;ISO, PAdES (TS 102 778) -&gt;ISO and ASiC (TS 102 918) and related profil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rust Service Provider (TSP) Status Information (TSL, TS 102 231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olicy requirements for CAs: TS 102 042, TS 101 456 (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Qual. Cer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.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SA policy requirements: TS 102 023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ertificate profiles: TS 101 862 (Qual. Cert.), TS 102 280 (Nat. Person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egistered Electronic Mail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(eDelivery): TS 102 640 (multipart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ata preservation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TS 101 533-1, TR 101 533-2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lgo paper: TS 102 17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llaborates with ETSI CTI, Centre for Testing and Interoperability for Plugtests even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OI with CA/B-Forum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Segnaposto numero diapositiva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380E-3DEE-4A19-95C7-4CF587EC3238}" type="slidenum">
              <a:rPr b="0" lang="it-IT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33"/>
          <p:cNvGrpSpPr/>
          <p:nvPr/>
        </p:nvGrpSpPr>
        <p:grpSpPr>
          <a:xfrm>
            <a:off x="552600" y="3929040"/>
            <a:ext cx="8108640" cy="2305080"/>
            <a:chOff x="552600" y="3929040"/>
            <a:chExt cx="8108640" cy="2305080"/>
          </a:xfrm>
        </p:grpSpPr>
        <p:sp>
          <p:nvSpPr>
            <p:cNvPr id="770" name="Rounded Rectangle 24"/>
            <p:cNvSpPr/>
            <p:nvPr/>
          </p:nvSpPr>
          <p:spPr>
            <a:xfrm>
              <a:off x="552600" y="3929040"/>
              <a:ext cx="8108640" cy="230508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Group 31"/>
            <p:cNvGrpSpPr/>
            <p:nvPr/>
          </p:nvGrpSpPr>
          <p:grpSpPr>
            <a:xfrm>
              <a:off x="2443320" y="4036680"/>
              <a:ext cx="4298040" cy="649800"/>
              <a:chOff x="2443320" y="4036680"/>
              <a:chExt cx="4298040" cy="649800"/>
            </a:xfrm>
          </p:grpSpPr>
          <p:sp>
            <p:nvSpPr>
              <p:cNvPr id="772" name="Rectangle 98"/>
              <p:cNvSpPr/>
              <p:nvPr/>
            </p:nvSpPr>
            <p:spPr>
              <a:xfrm>
                <a:off x="2579400" y="4036680"/>
                <a:ext cx="4119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d0d0d"/>
                    </a:solidFill>
                    <a:latin typeface="Arial"/>
                    <a:ea typeface="Arial"/>
                  </a:rPr>
                  <a:t>Consistency &amp; formal (efficient) mapp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9"/>
              <p:cNvGrpSpPr/>
              <p:nvPr/>
            </p:nvGrpSpPr>
            <p:grpSpPr>
              <a:xfrm>
                <a:off x="2443320" y="4272840"/>
                <a:ext cx="4298040" cy="413640"/>
                <a:chOff x="2443320" y="4272840"/>
                <a:chExt cx="4298040" cy="413640"/>
              </a:xfrm>
            </p:grpSpPr>
            <p:sp>
              <p:nvSpPr>
                <p:cNvPr id="774" name="Left-Right Arrow 28"/>
                <p:cNvSpPr/>
                <p:nvPr/>
              </p:nvSpPr>
              <p:spPr>
                <a:xfrm rot="18837600">
                  <a:off x="2438640" y="4399200"/>
                  <a:ext cx="412920" cy="163440"/>
                </a:xfrm>
                <a:prstGeom prst="leftRightArrow">
                  <a:avLst>
                    <a:gd name="adj1" fmla="val 50000"/>
                    <a:gd name="adj2" fmla="val 35089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Left-Right Arrow 29"/>
                <p:cNvSpPr/>
                <p:nvPr/>
              </p:nvSpPr>
              <p:spPr>
                <a:xfrm flipH="1" rot="2762400">
                  <a:off x="6332400" y="4396320"/>
                  <a:ext cx="412920" cy="163800"/>
                </a:xfrm>
                <a:prstGeom prst="leftRightArrow">
                  <a:avLst>
                    <a:gd name="adj1" fmla="val 50000"/>
                    <a:gd name="adj2" fmla="val 35012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eft-Right Arrow 30"/>
                <p:cNvSpPr/>
                <p:nvPr/>
              </p:nvSpPr>
              <p:spPr>
                <a:xfrm rot="16200000">
                  <a:off x="4376160" y="4412520"/>
                  <a:ext cx="299880" cy="163440"/>
                </a:xfrm>
                <a:prstGeom prst="leftRightArrow">
                  <a:avLst>
                    <a:gd name="adj1" fmla="val 50000"/>
                    <a:gd name="adj2" fmla="val 35048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77" name="Rectangle 3"/>
          <p:cNvSpPr/>
          <p:nvPr/>
        </p:nvSpPr>
        <p:spPr>
          <a:xfrm>
            <a:off x="0" y="1246320"/>
            <a:ext cx="89647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alizations, consistency and mapping of efficient Legal, Technical, Trust and Promotional frameworks are key success factors to convince market &amp; business stakeholders of the possible ROI of eSignatures securing their e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20"/>
          <p:cNvGrpSpPr/>
          <p:nvPr/>
        </p:nvGrpSpPr>
        <p:grpSpPr>
          <a:xfrm>
            <a:off x="2786040" y="4722840"/>
            <a:ext cx="3600360" cy="1511280"/>
            <a:chOff x="2786040" y="4722840"/>
            <a:chExt cx="3600360" cy="1511280"/>
          </a:xfrm>
        </p:grpSpPr>
        <p:sp>
          <p:nvSpPr>
            <p:cNvPr id="779" name="Rounded Rectangle 6"/>
            <p:cNvSpPr/>
            <p:nvPr/>
          </p:nvSpPr>
          <p:spPr>
            <a:xfrm>
              <a:off x="2786040" y="4722840"/>
              <a:ext cx="360036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98"/>
            <p:cNvSpPr/>
            <p:nvPr/>
          </p:nvSpPr>
          <p:spPr>
            <a:xfrm>
              <a:off x="2912760" y="4794120"/>
              <a:ext cx="3373560" cy="13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tandardization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Covering whole range of ES prod / serv., ES types and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Business practice driv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ropriate guid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98"/>
          <p:cNvSpPr/>
          <p:nvPr/>
        </p:nvSpPr>
        <p:spPr>
          <a:xfrm>
            <a:off x="2739960" y="2333520"/>
            <a:ext cx="37148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50"/>
                </a:solidFill>
                <a:latin typeface="Arial"/>
              </a:rPr>
              <a:t>Sound CSPs &amp;Trust Services Provisioning market for interoperable and cross-border use eSign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22"/>
          <p:cNvGrpSpPr/>
          <p:nvPr/>
        </p:nvGrpSpPr>
        <p:grpSpPr>
          <a:xfrm>
            <a:off x="6500880" y="4722840"/>
            <a:ext cx="2359080" cy="1511280"/>
            <a:chOff x="6500880" y="4722840"/>
            <a:chExt cx="2359080" cy="1511280"/>
          </a:xfrm>
        </p:grpSpPr>
        <p:sp>
          <p:nvSpPr>
            <p:cNvPr id="783" name="Rounded Rectangle 10"/>
            <p:cNvSpPr/>
            <p:nvPr/>
          </p:nvSpPr>
          <p:spPr>
            <a:xfrm>
              <a:off x="6500880" y="4722840"/>
              <a:ext cx="235908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98"/>
            <p:cNvSpPr/>
            <p:nvPr/>
          </p:nvSpPr>
          <p:spPr>
            <a:xfrm>
              <a:off x="6659640" y="4786200"/>
              <a:ext cx="20019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Supervision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Voluntary accredit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 Status Li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lication labe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2"/>
          <p:cNvSpPr/>
          <p:nvPr/>
        </p:nvSpPr>
        <p:spPr>
          <a:xfrm>
            <a:off x="357120" y="81000"/>
            <a:ext cx="77724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2. Crobies Study in 2010: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Key success factors for eSign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2"/>
          <p:cNvGrpSpPr/>
          <p:nvPr/>
        </p:nvGrpSpPr>
        <p:grpSpPr>
          <a:xfrm>
            <a:off x="3535200" y="3137040"/>
            <a:ext cx="1965600" cy="755640"/>
            <a:chOff x="3535200" y="3137040"/>
            <a:chExt cx="1965600" cy="755640"/>
          </a:xfrm>
        </p:grpSpPr>
        <p:sp>
          <p:nvSpPr>
            <p:cNvPr id="787" name="Down Arrow 25"/>
            <p:cNvSpPr/>
            <p:nvPr/>
          </p:nvSpPr>
          <p:spPr>
            <a:xfrm flipV="1">
              <a:off x="4392720" y="3137040"/>
              <a:ext cx="179280" cy="720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92d05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98"/>
            <p:cNvSpPr/>
            <p:nvPr/>
          </p:nvSpPr>
          <p:spPr>
            <a:xfrm>
              <a:off x="3535200" y="3344760"/>
              <a:ext cx="196560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Promo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9"/>
          <p:cNvGrpSpPr/>
          <p:nvPr/>
        </p:nvGrpSpPr>
        <p:grpSpPr>
          <a:xfrm>
            <a:off x="285840" y="4721400"/>
            <a:ext cx="2340000" cy="1511280"/>
            <a:chOff x="285840" y="4721400"/>
            <a:chExt cx="2340000" cy="1511280"/>
          </a:xfrm>
        </p:grpSpPr>
        <p:sp>
          <p:nvSpPr>
            <p:cNvPr id="790" name="Rounded Rectangle 22"/>
            <p:cNvSpPr/>
            <p:nvPr/>
          </p:nvSpPr>
          <p:spPr>
            <a:xfrm>
              <a:off x="285840" y="4721400"/>
              <a:ext cx="234000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98"/>
            <p:cNvSpPr/>
            <p:nvPr/>
          </p:nvSpPr>
          <p:spPr>
            <a:xfrm>
              <a:off x="357120" y="4765680"/>
              <a:ext cx="2203560" cy="14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Legal 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level of 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Range of ES prod/ser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3.1 New approach for legal framework: </a:t>
            </a:r>
            <a:br>
              <a:rPr sz="2800"/>
            </a:b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Draft EU EIDAS- Regulation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3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6FCD-66C4-43A2-8B5A-9EC30D0B4314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272960"/>
            <a:ext cx="85359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June 2012 – EU Commission publish </a:t>
            </a:r>
            <a:r>
              <a:rPr b="0" lang="en-GB" sz="2400" spc="-1" strike="noStrike" u="sng">
                <a:solidFill>
                  <a:srgbClr val="404040"/>
                </a:solidFill>
                <a:uFillTx/>
                <a:latin typeface="Calibri"/>
              </a:rPr>
              <a:t>first draft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regulation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Added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utual recognition of electronic identification [E-ID]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xtended Supervision of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ertification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o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rust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, includes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proactive supervision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Qualified Electronic trust service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ignature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eal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ime stamping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elivery service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ocuments admissibility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ebsite authentication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6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3.2 Standards Framework I:</a:t>
            </a:r>
            <a:br>
              <a:rPr sz="2800"/>
            </a:b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M460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uropean</a:t>
            </a: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 Commission mandat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61800" y="164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C founded eSignatures standardization activiti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4 years: 2011-2015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1st phase (executed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efinition of a rationalized standardization framework, in collaboration with CE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ral specifications upgrades primarily aimed at providing quick technical fixes to existing electronic signatures standards, and definition of test specif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2nd phase (now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lement the rationalized standardization framework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upport the new EU Regulation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 (exp. approval in 201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liennummernplatzhalt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4980-E811-4B34-BBBA-A3AEC29B6681}" type="slidenum">
              <a:rPr b="0" lang="en-GB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3.2 Standards Framework II</a:t>
            </a:r>
            <a:br>
              <a:rPr sz="2800"/>
            </a:b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Mandate/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800" name="Group 41"/>
          <p:cNvGrpSpPr/>
          <p:nvPr/>
        </p:nvGrpSpPr>
        <p:grpSpPr>
          <a:xfrm>
            <a:off x="2354400" y="3814920"/>
            <a:ext cx="4363920" cy="1357200"/>
            <a:chOff x="2354400" y="3814920"/>
            <a:chExt cx="4363920" cy="1357200"/>
          </a:xfrm>
        </p:grpSpPr>
        <p:sp>
          <p:nvSpPr>
            <p:cNvPr id="801" name="Rectangle 5"/>
            <p:cNvSpPr/>
            <p:nvPr/>
          </p:nvSpPr>
          <p:spPr>
            <a:xfrm>
              <a:off x="2354400" y="3814920"/>
              <a:ext cx="4363920" cy="13572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Box 7"/>
            <p:cNvSpPr/>
            <p:nvPr/>
          </p:nvSpPr>
          <p:spPr>
            <a:xfrm>
              <a:off x="2782800" y="4243320"/>
              <a:ext cx="357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Cre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&amp; Valid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34"/>
            <p:cNvSpPr/>
            <p:nvPr/>
          </p:nvSpPr>
          <p:spPr>
            <a:xfrm>
              <a:off x="4367160" y="390528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42"/>
          <p:cNvGrpSpPr/>
          <p:nvPr/>
        </p:nvGrpSpPr>
        <p:grpSpPr>
          <a:xfrm>
            <a:off x="2155680" y="5386320"/>
            <a:ext cx="2198880" cy="642960"/>
            <a:chOff x="2155680" y="5386320"/>
            <a:chExt cx="2198880" cy="642960"/>
          </a:xfrm>
        </p:grpSpPr>
        <p:sp>
          <p:nvSpPr>
            <p:cNvPr id="805" name="Rectangle 9"/>
            <p:cNvSpPr/>
            <p:nvPr/>
          </p:nvSpPr>
          <p:spPr>
            <a:xfrm>
              <a:off x="2350800" y="5386320"/>
              <a:ext cx="200376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11"/>
            <p:cNvSpPr/>
            <p:nvPr/>
          </p:nvSpPr>
          <p:spPr>
            <a:xfrm>
              <a:off x="2155680" y="5386320"/>
              <a:ext cx="216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eation De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35"/>
            <p:cNvSpPr/>
            <p:nvPr/>
          </p:nvSpPr>
          <p:spPr>
            <a:xfrm>
              <a:off x="4003920" y="544176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3"/>
          <p:cNvGrpSpPr/>
          <p:nvPr/>
        </p:nvGrpSpPr>
        <p:grpSpPr>
          <a:xfrm>
            <a:off x="4716360" y="5415120"/>
            <a:ext cx="2156040" cy="642960"/>
            <a:chOff x="4716360" y="5415120"/>
            <a:chExt cx="2156040" cy="642960"/>
          </a:xfrm>
        </p:grpSpPr>
        <p:sp>
          <p:nvSpPr>
            <p:cNvPr id="809" name="Rectangle 13"/>
            <p:cNvSpPr/>
            <p:nvPr/>
          </p:nvSpPr>
          <p:spPr>
            <a:xfrm>
              <a:off x="4716360" y="5415120"/>
              <a:ext cx="200232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Box 12"/>
            <p:cNvSpPr/>
            <p:nvPr/>
          </p:nvSpPr>
          <p:spPr>
            <a:xfrm>
              <a:off x="4881960" y="5415120"/>
              <a:ext cx="199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yptographic Sui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6"/>
            <p:cNvSpPr/>
            <p:nvPr/>
          </p:nvSpPr>
          <p:spPr>
            <a:xfrm>
              <a:off x="4790880" y="54705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46"/>
          <p:cNvGrpSpPr/>
          <p:nvPr/>
        </p:nvGrpSpPr>
        <p:grpSpPr>
          <a:xfrm>
            <a:off x="4697280" y="2970360"/>
            <a:ext cx="2211480" cy="699840"/>
            <a:chOff x="4697280" y="2970360"/>
            <a:chExt cx="2211480" cy="699840"/>
          </a:xfrm>
        </p:grpSpPr>
        <p:sp>
          <p:nvSpPr>
            <p:cNvPr id="813" name="Rectangle 17"/>
            <p:cNvSpPr/>
            <p:nvPr/>
          </p:nvSpPr>
          <p:spPr>
            <a:xfrm>
              <a:off x="4697280" y="2986200"/>
              <a:ext cx="2036880" cy="684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Box 9"/>
            <p:cNvSpPr/>
            <p:nvPr/>
          </p:nvSpPr>
          <p:spPr>
            <a:xfrm>
              <a:off x="4781520" y="2970360"/>
              <a:ext cx="212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ervice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37"/>
            <p:cNvSpPr/>
            <p:nvPr/>
          </p:nvSpPr>
          <p:spPr>
            <a:xfrm>
              <a:off x="4755960" y="333360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45"/>
          <p:cNvGrpSpPr/>
          <p:nvPr/>
        </p:nvGrpSpPr>
        <p:grpSpPr>
          <a:xfrm>
            <a:off x="2351160" y="2941560"/>
            <a:ext cx="2003400" cy="700200"/>
            <a:chOff x="2351160" y="2941560"/>
            <a:chExt cx="2003400" cy="700200"/>
          </a:xfrm>
        </p:grpSpPr>
        <p:sp>
          <p:nvSpPr>
            <p:cNvPr id="817" name="Rectangle 21"/>
            <p:cNvSpPr/>
            <p:nvPr/>
          </p:nvSpPr>
          <p:spPr>
            <a:xfrm>
              <a:off x="2352600" y="2957400"/>
              <a:ext cx="2001960" cy="684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Box 8"/>
            <p:cNvSpPr/>
            <p:nvPr/>
          </p:nvSpPr>
          <p:spPr>
            <a:xfrm>
              <a:off x="2351160" y="2941560"/>
              <a:ext cx="194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SPs supporting eSigna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4003920" y="33051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4"/>
          <p:cNvGrpSpPr/>
          <p:nvPr/>
        </p:nvGrpSpPr>
        <p:grpSpPr>
          <a:xfrm>
            <a:off x="2139840" y="1890720"/>
            <a:ext cx="4746600" cy="885960"/>
            <a:chOff x="2139840" y="1890720"/>
            <a:chExt cx="4746600" cy="885960"/>
          </a:xfrm>
        </p:grpSpPr>
        <p:sp>
          <p:nvSpPr>
            <p:cNvPr id="821" name="Rectangle 25"/>
            <p:cNvSpPr/>
            <p:nvPr/>
          </p:nvSpPr>
          <p:spPr>
            <a:xfrm>
              <a:off x="2352240" y="2057400"/>
              <a:ext cx="4381560" cy="719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Box 10"/>
            <p:cNvSpPr/>
            <p:nvPr/>
          </p:nvSpPr>
          <p:spPr>
            <a:xfrm>
              <a:off x="2139840" y="2255760"/>
              <a:ext cx="474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Service Status Lists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39"/>
            <p:cNvSpPr/>
            <p:nvPr/>
          </p:nvSpPr>
          <p:spPr>
            <a:xfrm>
              <a:off x="4289400" y="1890720"/>
              <a:ext cx="287280" cy="2890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Box 47"/>
          <p:cNvSpPr/>
          <p:nvPr/>
        </p:nvSpPr>
        <p:spPr>
          <a:xfrm>
            <a:off x="332640" y="3868560"/>
            <a:ext cx="1739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ules &amp;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Form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Creation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/ 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rotection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7"/>
          <p:cNvSpPr/>
          <p:nvPr/>
        </p:nvSpPr>
        <p:spPr>
          <a:xfrm>
            <a:off x="6898680" y="3749760"/>
            <a:ext cx="1996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XAdES (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AdES (C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AdES (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dES in Mobile envm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SiC (contain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47"/>
          <p:cNvSpPr/>
          <p:nvPr/>
        </p:nvSpPr>
        <p:spPr>
          <a:xfrm>
            <a:off x="332280" y="5365800"/>
            <a:ext cx="171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Made by CE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SCDs (e.g. 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SMs &amp; other S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47"/>
          <p:cNvSpPr/>
          <p:nvPr/>
        </p:nvSpPr>
        <p:spPr>
          <a:xfrm>
            <a:off x="6849360" y="5176800"/>
            <a:ext cx="189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as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47"/>
          <p:cNvSpPr/>
          <p:nvPr/>
        </p:nvSpPr>
        <p:spPr>
          <a:xfrm>
            <a:off x="6843600" y="2868480"/>
            <a:ext cx="207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egistered 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ong term p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47"/>
          <p:cNvSpPr/>
          <p:nvPr/>
        </p:nvSpPr>
        <p:spPr>
          <a:xfrm>
            <a:off x="326160" y="2819520"/>
            <a:ext cx="172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Issuing certific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Time-sta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ing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Valida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47"/>
          <p:cNvSpPr/>
          <p:nvPr/>
        </p:nvSpPr>
        <p:spPr>
          <a:xfrm>
            <a:off x="6900480" y="1625760"/>
            <a:ext cx="1950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ist of TSP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pproved (supervi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by National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(e.g. Trusted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009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AFTER Mandate 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Object 2" descr=""/>
          <p:cNvPicPr/>
          <p:nvPr/>
        </p:nvPicPr>
        <p:blipFill>
          <a:blip r:embed="rId1"/>
          <a:stretch/>
        </p:blipFill>
        <p:spPr>
          <a:xfrm>
            <a:off x="671400" y="1268280"/>
            <a:ext cx="7783560" cy="5589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4. Next Steps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5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F33A-4A09-4463-AE1F-DA44B1149469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377720"/>
            <a:ext cx="8528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n Spring 2013 EU Commission published new 2nd draft regulation “on electronic identification and trust services for electronic transactions in the internal market”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Under EU Mandate 460 (2013 to 2015) ETSI commissioned to produc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 for TSP Conformity Assess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s for Best Practices (Policy Requireme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Personal Sign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organisational 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eals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Time-stamping Servi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Website Certificates  (should be EN 319 411-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…………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52:04Z</dcterms:created>
  <dc:creator>Arno Fiedler</dc:creator>
  <dc:description/>
  <dc:language>en-US</dc:language>
  <cp:lastModifiedBy>Arno Fiedler</cp:lastModifiedBy>
  <cp:lastPrinted>2012-04-17T12:11:33Z</cp:lastPrinted>
  <dcterms:modified xsi:type="dcterms:W3CDTF">2013-09-09T15:18:08Z</dcterms:modified>
  <cp:revision>784</cp:revision>
  <dc:subject/>
  <dc:title>Slide 1</dc:title>
</cp:coreProperties>
</file>