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4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34"/>
          </p:nvPr>
        </p:nvSpPr>
        <p:spPr>
          <a:xfrm>
            <a:off x="402120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ftr" idx="35"/>
          </p:nvPr>
        </p:nvSpPr>
        <p:spPr>
          <a:xfrm>
            <a:off x="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 type="sldNum" idx="36"/>
          </p:nvPr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8344DB4-89C3-43E9-A222-846162E4DA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71BD85F-51E2-4938-9E28-1DA57952C6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f the published ETSI documents mentioned in this presentation are available for download via the ETSI download page.  Just enter the TS number of key words from the ti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questions feel free to contact myself (standards) , or Olivier Delos (regul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more formal statement on questions regarding the regulation contact Gerard Galler of the EU commi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AE7B76B-987A-420C-8FFA-7D482CB43C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0F59BC5-19EF-47AE-A636-1B76E6A920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CFB1628-C1B6-4D7C-A49F-7EF6611395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3 main dimensions to its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is a recognized European Standards Organization and as such can produce standards supporting European reg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also become highly-respected as a producer of technical standards for worldwide use. Many ETSI standards answer global ICT mark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nally ETSI has defined testing methodologies and a testing language (TTCN). ETSI also runs interoperability test events. Those even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pportunity for companies to test their prototypes against a standard with their partners and competi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ancing the quality of specif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eding up the standardiz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ucing time to mark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ing the deployment of a techn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6AB8A06-8A9D-461A-803E-34AAE079D8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ing that the EU Directive 1999/93 on E-Signatures was getting out of date and had not achieved full EU harmonization the EU Commission has issued a new Draft reg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ope of this document is wider that the Directive covering a range of “Trust Services” required for electronic online services across Europe.  It is aimed at achieving a greater degree of harmony between EU 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raft regulation is under discussion in the council of ministers.  There is agreement with the general principles of the new regulation but significant discussion on the details i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d that a new draft may be produced under the Irish presidency by June / Ju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2F75510-785A-42DC-BD64-0C69FD67AA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047321F-4C5F-424F-A3D2-444444A763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B08F162-4245-449A-AE25-F81C144B88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8963766-DF92-4944-B98E-547FFA1FF1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41046-12EC-4000-A94F-B42BF21C7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336F5-FB40-412B-AFDC-971249EFAD9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4A208E-4B51-46D8-9B53-383CB16184E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130DC7-8274-4FDF-96BB-839749D251A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BD3173-FA16-4060-A9B3-2038B49C1A0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8357F4-6375-4781-987A-CBFB1B5C131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C90776-EC43-4D4B-8538-E8BF45F7C4D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167255-D06A-4BB7-A4BB-34A639B6E1F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3741A9-112A-4BFC-A338-8C61446DE1F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231FFD-DBDF-49BC-91D9-EC99D178577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F221EF-124F-45E5-AB97-8CCE4298137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1EE9B-7174-4FD2-8850-BEAB93231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B4812-47D6-4A26-BA2E-1FB4A101D12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C5B38-8B3E-476A-915C-72AB2FFF348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72EC3-BE14-41BB-9D4D-56326B32A00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10A20-5B42-401E-83C9-F8F88601805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FEFB2-B596-4C94-8365-8E07404E51B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CA6A3-E90B-49BA-AC16-94E86B7F7B3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BEE9A-964C-4EB1-931F-991005F0C2F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4D843-34BF-486E-98ED-EB718E787ED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252D8-C208-4D01-85B1-847380036C9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14B21-0CAA-47E8-A8FD-2262D7273DE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EBE2D-BCF7-42AB-A948-172F59EA1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B0896-EDCD-4F8E-BA99-76EB606AD43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254FE-6D90-4612-A1D7-ADE6405EFBA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FA929E-1C9B-45F3-A3A4-5AF13980BEE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6622A7-73FC-416A-85DC-34E3E5022B3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0EB46C-4B1C-4B35-981D-2D41B20C0FF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C9F62D-0404-4D8F-A2F6-17F1A4844C4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5D50B6-F039-45A9-BD17-CF7D4D37FB3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EEEEB1-9312-4F95-B308-9864FA1A63E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4DFAAE-8D19-4C00-AC91-960FF779482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F0415-9970-4A76-9F69-9891A393F58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00B96E-6DC7-4C0A-9EB0-CC0043D08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6DEE3-70AD-49CF-B33A-9A4644DCDA0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AC7844-FD94-49DB-B1E9-D5E3F66373E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91CBDD-8285-4EAC-80A1-9515A854F9A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E03394-1064-496E-B1A7-F5722F2A732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D6421C-B81A-4C80-976A-FE94E3CBC6D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7B224E-EC1E-4C44-AB18-CF09EFC00EE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5860CF-B5E3-4DBB-87AC-94833A72B79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51396C-8409-434E-BF62-6E444C111E2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537B15-422E-410B-A277-CB83EB33FFA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816050-847F-4452-8045-F4B7594408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D52BE7-8538-4ABE-98F6-55BB7E85505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AFF5F3-E225-4DB8-A40E-34D5085F994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D7A512-95FC-4EE1-BA25-29169B10662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2DBCDF-9309-4A70-B0A1-12C7107A62E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337110-6632-4E81-A875-7DDB30B05C5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FB8DA-51BD-4D12-A1CC-A0E34BCBB28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DDD10-41B0-4059-BBDC-B35C3A3A7F6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C3015-47B3-4FDE-B87F-A886E757A32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CC333-8C9D-4469-995E-0643D40C2D4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BD513-411A-49B2-B689-D2271DACB0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A6CC1-2684-4A00-962E-69E6455E14E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685B6-955D-4788-9FFB-D611043125D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0AD3E-8B3D-424E-B5AB-9C2AF980AC3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5AF13-2849-4828-A7FA-9F53E7AEFAF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1D39C-13C0-430C-A709-BB82DDD20EB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F87FB-190D-4E75-98EA-8B78D7ABBE7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C8CCE-A7B2-4995-A33D-954CA880095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BBEC53-7DF2-4DCA-9793-6AA6D48FCAC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D306F8-F386-41D2-97AF-2CCA97E837F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AF3554-60CB-4B59-9451-79FBBDACCF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255805-8550-4024-AB47-846AD98CB08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F45EBB-2A4E-4F3C-8A2E-E5F5AEB7987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987243-3CFA-40F0-8EC3-76750B686C4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45676B-BEB5-4AAB-B31E-C37828E9032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02B2B9-A67B-4B1F-A93C-6D03770570D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5509F9-BCE5-49CA-90AD-701E0C1F82A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38FEFE-616E-4881-B829-636381D378F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6FBD82-1D95-4390-AA74-94ECC15C078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5A842A-F0ED-4A8B-A9F4-0F534F2F77F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634AE-238E-454F-8C3A-BE5E83319A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76ED4-B4E3-46C2-B1D3-15192176B53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91976-F740-48AD-B591-61EDDC82FCB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456B5-3E64-48AD-9F4F-8FF30F31F91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72222-3D3E-4767-9336-FF2221F9EB4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249BC-CB18-4AC4-9957-F9E77A0931D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50AA4-8FE0-4F0E-A5FC-165505A3BBB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20123-C276-4BBD-872A-9A24660C417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7E74D7-FBE7-4445-8920-8FA1DFE1B19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2AE686-8491-44C7-AE4E-3E494889171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B8955-61E9-4CF5-B4D3-96704CCFD7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010E8-C413-4F3E-983D-C27EA3C8344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809F3-D87C-4A1C-9C54-919963734D3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14226-F492-4A4E-8065-DCD899FDDB8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C43D3-8A1B-491E-9193-7A1B86F7FE4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D96C6-B576-4A56-946C-3A4C58629B3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9FAC2-6714-4D06-A67A-C1ED390EFE2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6F3D1-4B2A-4F43-A109-875DA6D7A49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ECED5-C070-4187-8621-039DB4752F9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999B3-0890-4FA1-B1AF-1F135D1B96F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09DAE-BAD2-4321-82E9-D89E7D7F71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3B0B3-CEC0-45DA-AB9B-8B176248CAA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50B3F-1A8D-433F-B782-D0D36A0B433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6DDA9-E78D-4E80-9738-D7A09CCCD1C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B7A954-7972-44AD-BE90-D574FE33053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C5C2E3-CA73-49E8-AB3D-1EAA7B5F0F6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6260BD-B3EF-490E-9869-B77B1EC6035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BCF276-98FF-46F4-8FD1-424B72463D3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369C4A-6A68-4FC6-B1B0-F69B81ED9C0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596C0A-26E2-4917-AB2A-F1CB7931D50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B4F878-98DD-4BAD-B462-65876467BD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DF67C-2536-4A2B-B607-DCAC9D9BD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839E94-CA21-4323-89D6-EBD9FB0699F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5FA571-6155-48B4-962A-52D10230C5E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95DAB8-7624-486C-9657-8F0B82A97A8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61741E-F5CC-48E5-B524-FF3173CCC0B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3568B5-F78C-4E07-BD65-B2331D03DB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232E0-98C4-438A-BEAC-EBE7D99F1E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8BFE8-30C1-431C-93F6-9ECC48CBB6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3D0FB-FBEA-449F-A3FF-0DB661FF96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71823-CABD-485D-8122-3F77321FBD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4B337-1BEF-40FC-B5CE-7B1A974B83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130E1-FC5A-4111-B6CB-A3E9004AB5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29D2F-7020-425B-AD19-7555EDB823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5285E-80DB-4FA8-BBC0-2A4AB15C43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687FA-7A2C-43FC-BC9F-5EC8929B6A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E7DA8-8047-4EAA-9804-EF0CE7F0BB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7E687-5901-4746-8506-E8062D7D69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0CCFB-B91E-4471-A5C3-B6EEA30D29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6B86E-D7B4-483E-B899-129B597CC4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CBCA-7B94-42CA-BAC6-1C474BE028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26F9-85DC-4D85-8779-361475791A4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B1C0-A46F-4E0F-9D60-17860AE84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20B80-1F42-4601-987B-9F562355B7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156F-16BA-4A0A-AD59-95AB244DB9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B1CC-D035-4B49-B57C-C60053E640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C9E7-7BDD-43EF-96DE-96D687AFC1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61A7-F857-4CC8-B8E5-38F74471FA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B2DB-16B0-4967-A6FB-E3A1B593C4B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5834-FB68-4E12-9F6B-36C8B90A4C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13A8-606B-4D8B-858D-04BE66EE6B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DB5F-E304-486C-8BEB-8E1E1AAF39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F7E0-4E98-4FFE-8A3E-9E2C517F42B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ACD5D-27EA-4EBC-B845-7580BBB21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EE613-19F0-4EF5-9220-D8FF238F4A6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5E9A6-290B-4F13-A6A9-28E869EFA31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CC7ED-8541-4D36-B103-76EE2931C1F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42697-2AFA-4F05-B19B-197334940D8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C40DA-D20B-4C17-8DAD-3354DE3AA3E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9E238-4812-4E09-8D3B-BF807A71DD8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0BFC7-6771-43B1-ADFA-D56FC27699D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7A828-18DC-42C0-9D16-DF6A88CB62C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5B2C9-F7DA-4276-96FD-11EEDB5330F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E1069-E0CD-4212-8475-53AF1F1111A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62A5D-6F13-466A-9907-C69706721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08F40-54E3-4D01-9E89-09D3AEDDED3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7D411-9D34-4606-805E-1DDA3C4642C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B660EC-55E0-47FD-AFD3-5C4EC759BAE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8BE741-552A-4CF5-B736-E3FBE01A411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41C579-EE85-40CD-8DB5-0D169564848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AA43B9-75AE-464A-804E-7B173FDF28A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0A3128-5CBD-4E98-B3D3-EA64BD7AC39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CF5F0A-CAA3-4E9E-B9CA-09BF56CDBFE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A24AE2-40F6-45F7-A752-54BC4C02C85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6EB3E2-94F8-47E8-94AA-89C9B7A4EBD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07393D-5747-4F4A-A311-787F252CB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78AC-8060-4B59-AC59-7C5AD1F749D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92123A-F9E0-480A-B0CD-DF56AF6DF21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2051DF-5E06-4C20-8875-4F48F04945F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658D68-C170-4E5A-9796-921C84D0B2F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C9CCC-D639-4218-8AA5-A02BCFA875F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114BC-C1AD-4BCE-BD51-51F39E0040D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BF883-4CE1-4ADB-A1BA-7DE46C0BF62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311FD-88E7-442C-95EA-6CAAD13C953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C3666-A1B7-4164-965E-5B38EAB280F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4795F-291E-4365-80ED-07F34A61A08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4E972-AFF8-42DA-8F13-2808C7DE5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B426-1FBE-41B7-9DAD-8250132789C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B2D57-0BE5-4BD7-8207-AEFA1E20B87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B2C14-E6C6-4BD3-AE99-A4B971A9846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0C0F6-9035-46A4-AA77-CB3731B6910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10FA6-7CB0-4E47-B88C-FBAE73E671A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28C97-9B2B-4A23-99E1-EAA60F0A984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4A0057-6396-48A2-97B9-9AB07417409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309625-4F03-4DC4-9114-7E2230BA53F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39F9FC-CF7D-48A7-9F2B-135434F304D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D31125-41F2-434E-ABE8-3FD7993EBCC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0CE3F2-876F-4EC0-ACC4-C06E8187C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8030D-6C0C-43EA-81D5-3B274272B23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C7B05E-4369-4EFC-8C85-4EE784519EE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81E1CA-9A45-412C-9A42-DFCAB2F27C9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F357C-F050-4D9A-9735-421A7AE4F79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4C1482-8E44-4921-A241-7B22F7266F7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80ED1-0BAF-47A8-A0FE-27BD0090D8C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18553F-7AB9-410A-A811-C16469A8AC7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0A2EE3-50C0-4996-A1C1-E6EDEFB50A4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D5A1C0-53DF-4213-BDAF-B9F38450277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C2845A-5583-4BA7-BAA5-D2F3FC3C6FA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7A6E7A-65A7-4403-9F3F-525158E45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6817-AAE4-4498-82BD-F37C8C123DAD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:\DATEN\Nimbus_allgemein\logo_NImbus\Bildschirm\100dpiRGB\Nimbus1-100dpiRGB.jpg"/>
          <p:cNvPicPr/>
          <p:nvPr/>
        </p:nvPicPr>
        <p:blipFill>
          <a:blip r:embed="rId4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87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8716-4B36-4801-8D7B-95E5612A41FF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30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2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811D-3A84-40C5-9A76-7A31AF9E2978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73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CF6F-903A-43E0-B230-2786A8BABC26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16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2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8188-B427-45F8-A8CC-014416509B9F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59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2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1375-D821-4D1B-8B01-FA6E183307DF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02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Num" idx="2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D1D4-CBB0-46F7-9493-11E6BCD3A4B7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45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Num" idx="3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331D-1EFC-4258-B109-647C6EB50FD3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88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3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A771-FA6C-401F-94FB-404A01B0193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4" name="תמונה 6" descr="open-slide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:\DATEN\Nimbus_allgemein\logo_NImbus\Bildschirm\100dpiRGB\Nimbus1-100dpiRGB.jpg"/>
          <p:cNvPicPr/>
          <p:nvPr/>
        </p:nvPicPr>
        <p:blipFill>
          <a:blip r:embed="rId5"/>
          <a:stretch/>
        </p:blipFill>
        <p:spPr>
          <a:xfrm>
            <a:off x="7513560" y="6213600"/>
            <a:ext cx="1514520" cy="49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D2BD-A839-41A9-AAA5-519FDDCD1C28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29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16B0-767D-4B66-9E17-84504EF18C42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72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7DED-B462-4B81-85A0-DC4CFE675CC4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15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5494-5FAB-45D5-9845-1DB0762F6B42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58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926D-B76C-4E59-85B5-4AA788D899FF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01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1485-4FDB-4EEF-8F4C-7D7619FE3499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44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B216-1EFB-4098-B1E0-7B53CEC0CA07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da.etsi.org/pda/queryform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eur-lex.europa.eu/LexUriServ/LexUriServ.do?uri=COM:2012:0238:FIN:EN:PDF" TargetMode="External"/><Relationship Id="rId5" Type="http://schemas.openxmlformats.org/officeDocument/2006/relationships/hyperlink" Target="mailto:arno.fiedler@nimbus-berlin.com" TargetMode="External"/><Relationship Id="rId6" Type="http://schemas.openxmlformats.org/officeDocument/2006/relationships/hyperlink" Target="mailto:nick.pope@thales-esecurity.c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16040" y="5513400"/>
            <a:ext cx="8067600" cy="5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EUROPEAN UNION MANDATE/460</a:t>
            </a:r>
            <a:endParaRPr b="1" lang="en-US" sz="1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15680" y="5084280"/>
            <a:ext cx="80802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5959"/>
                </a:solidFill>
                <a:latin typeface="Calibri"/>
              </a:rPr>
              <a:t>Kloster Banz 11.09.2013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42680" y="6000480"/>
            <a:ext cx="808812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Presented by Arno Fiedler,  Member of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E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uropean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T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ommunication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S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tandard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I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nstitute</a:t>
            </a:r>
            <a:br>
              <a:rPr sz="1600"/>
            </a:b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tronic Signatures and Infrastructures, Specialist Task Force 458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5. Summary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9" name="Fußzeilenplatzhalt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oliennummernplatzhalt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0C9B-314C-4132-B44B-73359E34D6F4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hteck 5"/>
          <p:cNvSpPr/>
          <p:nvPr/>
        </p:nvSpPr>
        <p:spPr>
          <a:xfrm>
            <a:off x="392040" y="2357280"/>
            <a:ext cx="86108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he new draft EU-Regulation will deliver a complete legal and trust framework for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oactive Supervision 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on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qualified level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br>
              <a:rPr sz="2400"/>
            </a:br>
            <a:r>
              <a:rPr b="0" lang="de-DE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TSI and CEN standards will be a fundamental part in future EU legislation (delegating acts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).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ut: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lying parties (in Europe!) have to consume the Trust we provide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Thank you !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TSI Download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da.etsi.org/pda/queryform.asp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nter keyword / title /  document numb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Draft EU Regulation:</a:t>
            </a:r>
            <a:br>
              <a:rPr sz="2400"/>
            </a:b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ur-lex.europa.eu/LexUriServ/LexUriServ.do?uri=COM:2012:0238:FIN:EN:PDF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ontact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Arno Fiedler: STF 458 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arno.fiedler@nimbus-berlin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Iñigo Barreira: STF 458 </a:t>
            </a:r>
            <a:r>
              <a:rPr b="0" lang="es-ES" sz="2000" spc="-1" strike="noStrike" u="sng">
                <a:solidFill>
                  <a:srgbClr val="254061"/>
                </a:solidFill>
                <a:uFillTx/>
                <a:latin typeface="Calibri"/>
              </a:rPr>
              <a:t>i-barreira@izenpe.net</a:t>
            </a:r>
            <a:br>
              <a:rPr sz="2000"/>
            </a:b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Nick Pope: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ead STF 458 (TSP &amp; e-Signature standards) </a:t>
            </a:r>
            <a:br>
              <a:rPr sz="20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nick.pope@thales-esecurity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Footer Placehold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4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A7BE-A243-48FA-8A04-CDEB83D56204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BCB2-5982-4EAA-AE08-DBD90F2D102B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Diagramm 3" descr=""/>
          <p:cNvPicPr/>
          <p:nvPr/>
        </p:nvPicPr>
        <p:blipFill>
          <a:blip r:embed="rId1"/>
          <a:stretch/>
        </p:blipFill>
        <p:spPr>
          <a:xfrm>
            <a:off x="476280" y="1359000"/>
            <a:ext cx="8028000" cy="4992480"/>
          </a:xfrm>
          <a:prstGeom prst="rect">
            <a:avLst/>
          </a:prstGeom>
          <a:ln w="0">
            <a:noFill/>
          </a:ln>
        </p:spPr>
      </p:pic>
      <p:sp>
        <p:nvSpPr>
          <p:cNvPr id="849" name="Rechteck 5"/>
          <p:cNvSpPr/>
          <p:nvPr/>
        </p:nvSpPr>
        <p:spPr>
          <a:xfrm>
            <a:off x="457200" y="212760"/>
            <a:ext cx="623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   Actual (Best) Practise for SS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570D-F26B-4E98-99FB-5A6784CBFB21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Diagramm 3" descr=""/>
          <p:cNvPicPr/>
          <p:nvPr/>
        </p:nvPicPr>
        <p:blipFill>
          <a:blip r:embed="rId1"/>
          <a:stretch/>
        </p:blipFill>
        <p:spPr>
          <a:xfrm>
            <a:off x="549360" y="1359000"/>
            <a:ext cx="7924680" cy="4992480"/>
          </a:xfrm>
          <a:prstGeom prst="rect">
            <a:avLst/>
          </a:prstGeom>
          <a:ln w="0">
            <a:noFill/>
          </a:ln>
        </p:spPr>
      </p:pic>
      <p:sp>
        <p:nvSpPr>
          <p:cNvPr id="853" name="Rechteck 5"/>
          <p:cNvSpPr/>
          <p:nvPr/>
        </p:nvSpPr>
        <p:spPr>
          <a:xfrm>
            <a:off x="266760" y="185760"/>
            <a:ext cx="65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actual TSP Perspective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(german exam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63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1. ETSI activiti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4FB3-B5EB-464A-9FD0-319B8A234E86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Text Box 13"/>
          <p:cNvGrpSpPr/>
          <p:nvPr/>
        </p:nvGrpSpPr>
        <p:grpSpPr>
          <a:xfrm>
            <a:off x="463680" y="3067200"/>
            <a:ext cx="2749320" cy="876240"/>
            <a:chOff x="463680" y="3067200"/>
            <a:chExt cx="2749320" cy="876240"/>
          </a:xfrm>
        </p:grpSpPr>
        <p:pic>
          <p:nvPicPr>
            <p:cNvPr id="743" name="Text Box 13" descr=""/>
            <p:cNvPicPr/>
            <p:nvPr/>
          </p:nvPicPr>
          <p:blipFill>
            <a:blip r:embed="rId1"/>
            <a:stretch/>
          </p:blipFill>
          <p:spPr>
            <a:xfrm>
              <a:off x="463680" y="3067200"/>
              <a:ext cx="274932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538200" y="3129120"/>
              <a:ext cx="255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in support of EU reg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AutoShape 7"/>
          <p:cNvGrpSpPr/>
          <p:nvPr/>
        </p:nvGrpSpPr>
        <p:grpSpPr>
          <a:xfrm>
            <a:off x="2925720" y="2414520"/>
            <a:ext cx="1079640" cy="822240"/>
            <a:chOff x="2925720" y="2414520"/>
            <a:chExt cx="1079640" cy="822240"/>
          </a:xfrm>
        </p:grpSpPr>
        <p:pic>
          <p:nvPicPr>
            <p:cNvPr id="746" name="AutoShape 7" descr=""/>
            <p:cNvPicPr/>
            <p:nvPr/>
          </p:nvPicPr>
          <p:blipFill>
            <a:blip r:embed="rId2"/>
            <a:stretch/>
          </p:blipFill>
          <p:spPr>
            <a:xfrm>
              <a:off x="2925720" y="2414520"/>
              <a:ext cx="107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 rot="12693600">
              <a:off x="3025440" y="2805840"/>
              <a:ext cx="96516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8" name="Picture 5" descr="MPj03994060000[1]"/>
          <p:cNvPicPr/>
          <p:nvPr/>
        </p:nvPicPr>
        <p:blipFill>
          <a:blip r:embed="rId3"/>
          <a:stretch/>
        </p:blipFill>
        <p:spPr>
          <a:xfrm>
            <a:off x="914400" y="1725480"/>
            <a:ext cx="1762200" cy="13827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4" descr="Globe-for-Web.jpg Shipping Worldewide image by Darmon9"/>
          <p:cNvPicPr/>
          <p:nvPr/>
        </p:nvPicPr>
        <p:blipFill>
          <a:blip r:embed="rId4"/>
          <a:stretch/>
        </p:blipFill>
        <p:spPr>
          <a:xfrm>
            <a:off x="6499080" y="1704960"/>
            <a:ext cx="1622520" cy="1565280"/>
          </a:xfrm>
          <a:prstGeom prst="rect">
            <a:avLst/>
          </a:prstGeom>
          <a:ln w="0">
            <a:noFill/>
          </a:ln>
        </p:spPr>
      </p:pic>
      <p:grpSp>
        <p:nvGrpSpPr>
          <p:cNvPr id="750" name="Text Box 15"/>
          <p:cNvGrpSpPr/>
          <p:nvPr/>
        </p:nvGrpSpPr>
        <p:grpSpPr>
          <a:xfrm>
            <a:off x="3529080" y="5114880"/>
            <a:ext cx="2262240" cy="871560"/>
            <a:chOff x="3529080" y="5114880"/>
            <a:chExt cx="2262240" cy="871560"/>
          </a:xfrm>
        </p:grpSpPr>
        <p:pic>
          <p:nvPicPr>
            <p:cNvPr id="751" name="Text Box 15" descr=""/>
            <p:cNvPicPr/>
            <p:nvPr/>
          </p:nvPicPr>
          <p:blipFill>
            <a:blip r:embed="rId5"/>
            <a:stretch/>
          </p:blipFill>
          <p:spPr>
            <a:xfrm>
              <a:off x="3529080" y="5114880"/>
              <a:ext cx="2262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3584520" y="5173560"/>
              <a:ext cx="21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teroperabilit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Text Box 12"/>
          <p:cNvGrpSpPr/>
          <p:nvPr/>
        </p:nvGrpSpPr>
        <p:grpSpPr>
          <a:xfrm>
            <a:off x="6076800" y="3139920"/>
            <a:ext cx="2451240" cy="871560"/>
            <a:chOff x="6076800" y="3139920"/>
            <a:chExt cx="2451240" cy="871560"/>
          </a:xfrm>
        </p:grpSpPr>
        <p:pic>
          <p:nvPicPr>
            <p:cNvPr id="754" name="Text Box 12" descr=""/>
            <p:cNvPicPr/>
            <p:nvPr/>
          </p:nvPicPr>
          <p:blipFill>
            <a:blip r:embed="rId6"/>
            <a:stretch/>
          </p:blipFill>
          <p:spPr>
            <a:xfrm>
              <a:off x="6076800" y="3139920"/>
              <a:ext cx="2451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6149880" y="3200400"/>
              <a:ext cx="230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for global ICT mar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AutoShape 7"/>
          <p:cNvGrpSpPr/>
          <p:nvPr/>
        </p:nvGrpSpPr>
        <p:grpSpPr>
          <a:xfrm>
            <a:off x="4492800" y="4065480"/>
            <a:ext cx="347400" cy="1067040"/>
            <a:chOff x="4492800" y="4065480"/>
            <a:chExt cx="347400" cy="1067040"/>
          </a:xfrm>
        </p:grpSpPr>
        <p:pic>
          <p:nvPicPr>
            <p:cNvPr id="757" name="AutoShape 7" descr=""/>
            <p:cNvPicPr/>
            <p:nvPr/>
          </p:nvPicPr>
          <p:blipFill>
            <a:blip r:embed="rId7"/>
            <a:stretch/>
          </p:blipFill>
          <p:spPr>
            <a:xfrm>
              <a:off x="4492800" y="4065480"/>
              <a:ext cx="347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 rot="5400000">
              <a:off x="4234320" y="4484160"/>
              <a:ext cx="8636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AutoShape 7"/>
          <p:cNvGrpSpPr/>
          <p:nvPr/>
        </p:nvGrpSpPr>
        <p:grpSpPr>
          <a:xfrm>
            <a:off x="5450040" y="2414520"/>
            <a:ext cx="1090440" cy="798480"/>
            <a:chOff x="5450040" y="2414520"/>
            <a:chExt cx="1090440" cy="798480"/>
          </a:xfrm>
        </p:grpSpPr>
        <p:pic>
          <p:nvPicPr>
            <p:cNvPr id="760" name="AutoShape 7" descr=""/>
            <p:cNvPicPr/>
            <p:nvPr/>
          </p:nvPicPr>
          <p:blipFill>
            <a:blip r:embed="rId8"/>
            <a:stretch/>
          </p:blipFill>
          <p:spPr>
            <a:xfrm>
              <a:off x="5450040" y="2414520"/>
              <a:ext cx="1090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 rot="19785600">
              <a:off x="5467320" y="2792520"/>
              <a:ext cx="965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14" descr="PLUGTESTS.jpg"/>
          <p:cNvPicPr/>
          <p:nvPr/>
        </p:nvPicPr>
        <p:blipFill>
          <a:blip r:embed="rId9"/>
          <a:stretch/>
        </p:blipFill>
        <p:spPr>
          <a:xfrm>
            <a:off x="3629160" y="5854680"/>
            <a:ext cx="2033280" cy="5652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3" descr="ETSI Logo_S_Office1.jpg"/>
          <p:cNvPicPr/>
          <p:nvPr/>
        </p:nvPicPr>
        <p:blipFill>
          <a:blip r:embed="rId10"/>
          <a:stretch/>
        </p:blipFill>
        <p:spPr>
          <a:xfrm>
            <a:off x="3340080" y="3159000"/>
            <a:ext cx="2625840" cy="846360"/>
          </a:xfrm>
          <a:prstGeom prst="rect">
            <a:avLst/>
          </a:prstGeom>
          <a:ln w="0">
            <a:noFill/>
          </a:ln>
        </p:spPr>
      </p:pic>
      <p:sp>
        <p:nvSpPr>
          <p:cNvPr id="764" name="מציין מיקום של כותרת תחתונה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eb4e3"/>
                </a:solidFill>
                <a:latin typeface="Arial"/>
              </a:rPr>
              <a:t>© ETSI 2012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hteck 1"/>
          <p:cNvSpPr/>
          <p:nvPr/>
        </p:nvSpPr>
        <p:spPr>
          <a:xfrm>
            <a:off x="2838600" y="157320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, DECT, TETR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: UMTS, LT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:TSL, XAdES, PAdES, 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76120" y="0"/>
            <a:ext cx="8229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1. ETSI Electronic Signatures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and Infrastructures (ESI) TC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4480" y="1402920"/>
            <a:ext cx="885816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nce 2000 ETSI/ESI plays a key role in the development of electronic signature related standard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ignature formats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XAdES (TS 101 903) -&gt;ISO, CAdES (TS 101 733) -&gt;ISO, PAdES (TS 102 778) -&gt;ISO and ASiC (TS 102 918) and related profil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rust Service Provider (TSP) Status Information (TSL, TS 102 231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olicy requirements for CAs: TS 102 042, TS 101 456 (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Qual. Cer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.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SA policy requirements: TS 102 023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ertificate profiles: TS 101 862 (Qual. Cert.), TS 102 280 (Nat. Person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gistered Electronic Mail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(eDelivery): TS 102 640 (multipart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ata preservation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TS 101 533-1, TR 101 533-2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lgo paper: TS 102 17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llaborates with ETSI CTI, Centre for Testing and Interoperability for Plugtests even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OI with CA/B-Forum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Segnaposto numero diapositiva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792C-EE05-4129-A816-BB92F35749C5}" type="slidenum">
              <a:rPr b="0" lang="it-IT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33"/>
          <p:cNvGrpSpPr/>
          <p:nvPr/>
        </p:nvGrpSpPr>
        <p:grpSpPr>
          <a:xfrm>
            <a:off x="552600" y="3929040"/>
            <a:ext cx="8108640" cy="2305080"/>
            <a:chOff x="552600" y="3929040"/>
            <a:chExt cx="8108640" cy="2305080"/>
          </a:xfrm>
        </p:grpSpPr>
        <p:sp>
          <p:nvSpPr>
            <p:cNvPr id="770" name="Rounded Rectangle 24"/>
            <p:cNvSpPr/>
            <p:nvPr/>
          </p:nvSpPr>
          <p:spPr>
            <a:xfrm>
              <a:off x="552600" y="3929040"/>
              <a:ext cx="8108640" cy="230508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Group 31"/>
            <p:cNvGrpSpPr/>
            <p:nvPr/>
          </p:nvGrpSpPr>
          <p:grpSpPr>
            <a:xfrm>
              <a:off x="2443320" y="4036680"/>
              <a:ext cx="4298040" cy="649800"/>
              <a:chOff x="2443320" y="4036680"/>
              <a:chExt cx="4298040" cy="649800"/>
            </a:xfrm>
          </p:grpSpPr>
          <p:sp>
            <p:nvSpPr>
              <p:cNvPr id="772" name="Rectangle 98"/>
              <p:cNvSpPr/>
              <p:nvPr/>
            </p:nvSpPr>
            <p:spPr>
              <a:xfrm>
                <a:off x="2579400" y="4036680"/>
                <a:ext cx="4119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d0d0d"/>
                    </a:solidFill>
                    <a:latin typeface="Arial"/>
                    <a:ea typeface="Arial"/>
                  </a:rPr>
                  <a:t>Consistency &amp; formal (efficient) mapp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9"/>
              <p:cNvGrpSpPr/>
              <p:nvPr/>
            </p:nvGrpSpPr>
            <p:grpSpPr>
              <a:xfrm>
                <a:off x="2443320" y="4272840"/>
                <a:ext cx="4298040" cy="413640"/>
                <a:chOff x="2443320" y="4272840"/>
                <a:chExt cx="4298040" cy="413640"/>
              </a:xfrm>
            </p:grpSpPr>
            <p:sp>
              <p:nvSpPr>
                <p:cNvPr id="774" name="Left-Right Arrow 28"/>
                <p:cNvSpPr/>
                <p:nvPr/>
              </p:nvSpPr>
              <p:spPr>
                <a:xfrm rot="18837600">
                  <a:off x="2438640" y="4399200"/>
                  <a:ext cx="412920" cy="163440"/>
                </a:xfrm>
                <a:prstGeom prst="leftRightArrow">
                  <a:avLst>
                    <a:gd name="adj1" fmla="val 50000"/>
                    <a:gd name="adj2" fmla="val 35089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Left-Right Arrow 29"/>
                <p:cNvSpPr/>
                <p:nvPr/>
              </p:nvSpPr>
              <p:spPr>
                <a:xfrm flipH="1" rot="2762400">
                  <a:off x="6332400" y="4396320"/>
                  <a:ext cx="412920" cy="163800"/>
                </a:xfrm>
                <a:prstGeom prst="leftRightArrow">
                  <a:avLst>
                    <a:gd name="adj1" fmla="val 50000"/>
                    <a:gd name="adj2" fmla="val 35012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eft-Right Arrow 30"/>
                <p:cNvSpPr/>
                <p:nvPr/>
              </p:nvSpPr>
              <p:spPr>
                <a:xfrm rot="16200000">
                  <a:off x="4376160" y="4412520"/>
                  <a:ext cx="299880" cy="163440"/>
                </a:xfrm>
                <a:prstGeom prst="leftRightArrow">
                  <a:avLst>
                    <a:gd name="adj1" fmla="val 50000"/>
                    <a:gd name="adj2" fmla="val 35048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77" name="Rectangle 3"/>
          <p:cNvSpPr/>
          <p:nvPr/>
        </p:nvSpPr>
        <p:spPr>
          <a:xfrm>
            <a:off x="0" y="1246320"/>
            <a:ext cx="89647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alizations, consistency and mapping of efficient Legal, Technical, Trust and Promotional frameworks are key success factors to convince market &amp; business stakeholders of the possible ROI of eSignatures securing their e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20"/>
          <p:cNvGrpSpPr/>
          <p:nvPr/>
        </p:nvGrpSpPr>
        <p:grpSpPr>
          <a:xfrm>
            <a:off x="2786040" y="4722840"/>
            <a:ext cx="3600360" cy="1511280"/>
            <a:chOff x="2786040" y="4722840"/>
            <a:chExt cx="3600360" cy="1511280"/>
          </a:xfrm>
        </p:grpSpPr>
        <p:sp>
          <p:nvSpPr>
            <p:cNvPr id="779" name="Rounded Rectangle 6"/>
            <p:cNvSpPr/>
            <p:nvPr/>
          </p:nvSpPr>
          <p:spPr>
            <a:xfrm>
              <a:off x="2786040" y="4722840"/>
              <a:ext cx="360036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98"/>
            <p:cNvSpPr/>
            <p:nvPr/>
          </p:nvSpPr>
          <p:spPr>
            <a:xfrm>
              <a:off x="2912760" y="4794120"/>
              <a:ext cx="3373560" cy="13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tandardization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Covering whole range of ES prod / serv., ES types and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Business practice driv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ropriate guid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98"/>
          <p:cNvSpPr/>
          <p:nvPr/>
        </p:nvSpPr>
        <p:spPr>
          <a:xfrm>
            <a:off x="2739960" y="2333520"/>
            <a:ext cx="37148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50"/>
                </a:solidFill>
                <a:latin typeface="Arial"/>
              </a:rPr>
              <a:t>Sound CSPs &amp;Trust Services Provisioning market for interoperable and cross-border use e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22"/>
          <p:cNvGrpSpPr/>
          <p:nvPr/>
        </p:nvGrpSpPr>
        <p:grpSpPr>
          <a:xfrm>
            <a:off x="6500880" y="4722840"/>
            <a:ext cx="2359080" cy="1511280"/>
            <a:chOff x="6500880" y="4722840"/>
            <a:chExt cx="2359080" cy="1511280"/>
          </a:xfrm>
        </p:grpSpPr>
        <p:sp>
          <p:nvSpPr>
            <p:cNvPr id="783" name="Rounded Rectangle 10"/>
            <p:cNvSpPr/>
            <p:nvPr/>
          </p:nvSpPr>
          <p:spPr>
            <a:xfrm>
              <a:off x="6500880" y="4722840"/>
              <a:ext cx="235908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98"/>
            <p:cNvSpPr/>
            <p:nvPr/>
          </p:nvSpPr>
          <p:spPr>
            <a:xfrm>
              <a:off x="6659640" y="4786200"/>
              <a:ext cx="20019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Supervision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Voluntary accredit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 Status Li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lication labe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2"/>
          <p:cNvSpPr/>
          <p:nvPr/>
        </p:nvSpPr>
        <p:spPr>
          <a:xfrm>
            <a:off x="357120" y="81000"/>
            <a:ext cx="77724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2. Crobies Study in 2010: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Key success factors for eSign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2"/>
          <p:cNvGrpSpPr/>
          <p:nvPr/>
        </p:nvGrpSpPr>
        <p:grpSpPr>
          <a:xfrm>
            <a:off x="3535200" y="3137040"/>
            <a:ext cx="1965600" cy="755640"/>
            <a:chOff x="3535200" y="3137040"/>
            <a:chExt cx="1965600" cy="755640"/>
          </a:xfrm>
        </p:grpSpPr>
        <p:sp>
          <p:nvSpPr>
            <p:cNvPr id="787" name="Down Arrow 25"/>
            <p:cNvSpPr/>
            <p:nvPr/>
          </p:nvSpPr>
          <p:spPr>
            <a:xfrm flipV="1">
              <a:off x="4392720" y="3137040"/>
              <a:ext cx="179280" cy="720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92d05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98"/>
            <p:cNvSpPr/>
            <p:nvPr/>
          </p:nvSpPr>
          <p:spPr>
            <a:xfrm>
              <a:off x="3535200" y="3344760"/>
              <a:ext cx="196560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Promo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9"/>
          <p:cNvGrpSpPr/>
          <p:nvPr/>
        </p:nvGrpSpPr>
        <p:grpSpPr>
          <a:xfrm>
            <a:off x="285840" y="4721400"/>
            <a:ext cx="2340000" cy="1511280"/>
            <a:chOff x="285840" y="4721400"/>
            <a:chExt cx="2340000" cy="1511280"/>
          </a:xfrm>
        </p:grpSpPr>
        <p:sp>
          <p:nvSpPr>
            <p:cNvPr id="790" name="Rounded Rectangle 22"/>
            <p:cNvSpPr/>
            <p:nvPr/>
          </p:nvSpPr>
          <p:spPr>
            <a:xfrm>
              <a:off x="285840" y="4721400"/>
              <a:ext cx="234000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98"/>
            <p:cNvSpPr/>
            <p:nvPr/>
          </p:nvSpPr>
          <p:spPr>
            <a:xfrm>
              <a:off x="357120" y="4765680"/>
              <a:ext cx="2203560" cy="14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Legal 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level of 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Range of ES prod/ser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3.1 New approach for legal framework: </a:t>
            </a:r>
            <a:br>
              <a:rPr sz="2800"/>
            </a:b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Draft EU EIDAS- Regulation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3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EA8A-1DD0-468D-9177-725FF8B7E6AB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272960"/>
            <a:ext cx="85359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June 2012 – EU Commission publish </a:t>
            </a:r>
            <a:r>
              <a:rPr b="0" lang="en-GB" sz="2400" spc="-1" strike="noStrike" u="sng">
                <a:solidFill>
                  <a:srgbClr val="404040"/>
                </a:solidFill>
                <a:uFillTx/>
                <a:latin typeface="Calibri"/>
              </a:rPr>
              <a:t>first draft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regulation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Added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utual recognition of electronic identification [E-ID]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xtended Supervision of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ertification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o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rust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, includes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proactive supervision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Qualified Electronic trust service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ignature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eal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ime stamping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elivery service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ocuments admissibility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ebsite authentication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6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3.2 Standards Framework I:</a:t>
            </a:r>
            <a:br>
              <a:rPr sz="2800"/>
            </a:b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M460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uropean</a:t>
            </a: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 Commission mandat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61800" y="164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C founded eSignatures standardization activit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4 years: 2011-2015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1st phase (executed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efinition of a rationalized standardization framework, in collaboration with CE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ral specifications upgrades primarily aimed at providing quick technical fixes to existing electronic signatures standards, and definition of test specif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2nd phase (now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lement the rationalized standardization framework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upport the new EU Regulation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 (exp. approval in 201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liennummernplatzhalt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BCAA-6E0F-4A93-B898-1CB527F8FD09}" type="slidenum">
              <a:rPr b="0" lang="en-GB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3.2 Standards Framework II</a:t>
            </a:r>
            <a:br>
              <a:rPr sz="2800"/>
            </a:b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Mandate/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800" name="Group 41"/>
          <p:cNvGrpSpPr/>
          <p:nvPr/>
        </p:nvGrpSpPr>
        <p:grpSpPr>
          <a:xfrm>
            <a:off x="2354400" y="3814920"/>
            <a:ext cx="4363920" cy="1357200"/>
            <a:chOff x="2354400" y="3814920"/>
            <a:chExt cx="4363920" cy="1357200"/>
          </a:xfrm>
        </p:grpSpPr>
        <p:sp>
          <p:nvSpPr>
            <p:cNvPr id="801" name="Rectangle 5"/>
            <p:cNvSpPr/>
            <p:nvPr/>
          </p:nvSpPr>
          <p:spPr>
            <a:xfrm>
              <a:off x="2354400" y="3814920"/>
              <a:ext cx="4363920" cy="1357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Box 7"/>
            <p:cNvSpPr/>
            <p:nvPr/>
          </p:nvSpPr>
          <p:spPr>
            <a:xfrm>
              <a:off x="2782800" y="4243320"/>
              <a:ext cx="357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Cre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&amp; Valid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34"/>
            <p:cNvSpPr/>
            <p:nvPr/>
          </p:nvSpPr>
          <p:spPr>
            <a:xfrm>
              <a:off x="4367160" y="390528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42"/>
          <p:cNvGrpSpPr/>
          <p:nvPr/>
        </p:nvGrpSpPr>
        <p:grpSpPr>
          <a:xfrm>
            <a:off x="2155680" y="5386320"/>
            <a:ext cx="2198880" cy="642960"/>
            <a:chOff x="2155680" y="5386320"/>
            <a:chExt cx="2198880" cy="642960"/>
          </a:xfrm>
        </p:grpSpPr>
        <p:sp>
          <p:nvSpPr>
            <p:cNvPr id="805" name="Rectangle 9"/>
            <p:cNvSpPr/>
            <p:nvPr/>
          </p:nvSpPr>
          <p:spPr>
            <a:xfrm>
              <a:off x="2350800" y="5386320"/>
              <a:ext cx="200376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11"/>
            <p:cNvSpPr/>
            <p:nvPr/>
          </p:nvSpPr>
          <p:spPr>
            <a:xfrm>
              <a:off x="2155680" y="5386320"/>
              <a:ext cx="216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eation De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35"/>
            <p:cNvSpPr/>
            <p:nvPr/>
          </p:nvSpPr>
          <p:spPr>
            <a:xfrm>
              <a:off x="4003920" y="544176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3"/>
          <p:cNvGrpSpPr/>
          <p:nvPr/>
        </p:nvGrpSpPr>
        <p:grpSpPr>
          <a:xfrm>
            <a:off x="4716360" y="5415120"/>
            <a:ext cx="2156040" cy="642960"/>
            <a:chOff x="4716360" y="5415120"/>
            <a:chExt cx="2156040" cy="642960"/>
          </a:xfrm>
        </p:grpSpPr>
        <p:sp>
          <p:nvSpPr>
            <p:cNvPr id="809" name="Rectangle 13"/>
            <p:cNvSpPr/>
            <p:nvPr/>
          </p:nvSpPr>
          <p:spPr>
            <a:xfrm>
              <a:off x="4716360" y="5415120"/>
              <a:ext cx="200232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Box 12"/>
            <p:cNvSpPr/>
            <p:nvPr/>
          </p:nvSpPr>
          <p:spPr>
            <a:xfrm>
              <a:off x="4881960" y="5415120"/>
              <a:ext cx="199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yptographic Sui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6"/>
            <p:cNvSpPr/>
            <p:nvPr/>
          </p:nvSpPr>
          <p:spPr>
            <a:xfrm>
              <a:off x="4790880" y="54705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46"/>
          <p:cNvGrpSpPr/>
          <p:nvPr/>
        </p:nvGrpSpPr>
        <p:grpSpPr>
          <a:xfrm>
            <a:off x="4697280" y="2970360"/>
            <a:ext cx="2211480" cy="699840"/>
            <a:chOff x="4697280" y="2970360"/>
            <a:chExt cx="2211480" cy="699840"/>
          </a:xfrm>
        </p:grpSpPr>
        <p:sp>
          <p:nvSpPr>
            <p:cNvPr id="813" name="Rectangle 17"/>
            <p:cNvSpPr/>
            <p:nvPr/>
          </p:nvSpPr>
          <p:spPr>
            <a:xfrm>
              <a:off x="4697280" y="2986200"/>
              <a:ext cx="2036880" cy="684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Box 9"/>
            <p:cNvSpPr/>
            <p:nvPr/>
          </p:nvSpPr>
          <p:spPr>
            <a:xfrm>
              <a:off x="4781520" y="2970360"/>
              <a:ext cx="212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ervice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37"/>
            <p:cNvSpPr/>
            <p:nvPr/>
          </p:nvSpPr>
          <p:spPr>
            <a:xfrm>
              <a:off x="4755960" y="333360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45"/>
          <p:cNvGrpSpPr/>
          <p:nvPr/>
        </p:nvGrpSpPr>
        <p:grpSpPr>
          <a:xfrm>
            <a:off x="2351160" y="2941560"/>
            <a:ext cx="2003400" cy="700200"/>
            <a:chOff x="2351160" y="2941560"/>
            <a:chExt cx="2003400" cy="700200"/>
          </a:xfrm>
        </p:grpSpPr>
        <p:sp>
          <p:nvSpPr>
            <p:cNvPr id="817" name="Rectangle 21"/>
            <p:cNvSpPr/>
            <p:nvPr/>
          </p:nvSpPr>
          <p:spPr>
            <a:xfrm>
              <a:off x="2352600" y="2957400"/>
              <a:ext cx="2001960" cy="684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Box 8"/>
            <p:cNvSpPr/>
            <p:nvPr/>
          </p:nvSpPr>
          <p:spPr>
            <a:xfrm>
              <a:off x="2351160" y="2941560"/>
              <a:ext cx="194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SPs supporting eSigna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4003920" y="33051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4"/>
          <p:cNvGrpSpPr/>
          <p:nvPr/>
        </p:nvGrpSpPr>
        <p:grpSpPr>
          <a:xfrm>
            <a:off x="2139840" y="1890720"/>
            <a:ext cx="4746600" cy="885960"/>
            <a:chOff x="2139840" y="1890720"/>
            <a:chExt cx="4746600" cy="885960"/>
          </a:xfrm>
        </p:grpSpPr>
        <p:sp>
          <p:nvSpPr>
            <p:cNvPr id="821" name="Rectangle 25"/>
            <p:cNvSpPr/>
            <p:nvPr/>
          </p:nvSpPr>
          <p:spPr>
            <a:xfrm>
              <a:off x="2352240" y="2057400"/>
              <a:ext cx="4381560" cy="719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Box 10"/>
            <p:cNvSpPr/>
            <p:nvPr/>
          </p:nvSpPr>
          <p:spPr>
            <a:xfrm>
              <a:off x="2139840" y="2255760"/>
              <a:ext cx="474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Service Status Lists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39"/>
            <p:cNvSpPr/>
            <p:nvPr/>
          </p:nvSpPr>
          <p:spPr>
            <a:xfrm>
              <a:off x="4289400" y="1890720"/>
              <a:ext cx="287280" cy="2890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Box 47"/>
          <p:cNvSpPr/>
          <p:nvPr/>
        </p:nvSpPr>
        <p:spPr>
          <a:xfrm>
            <a:off x="332640" y="3868560"/>
            <a:ext cx="1739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ules &amp;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Form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Creation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/ 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rotection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7"/>
          <p:cNvSpPr/>
          <p:nvPr/>
        </p:nvSpPr>
        <p:spPr>
          <a:xfrm>
            <a:off x="6898680" y="3749760"/>
            <a:ext cx="1996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XAdES (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AdES (C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AdES (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dES in Mobile envm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SiC (contain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47"/>
          <p:cNvSpPr/>
          <p:nvPr/>
        </p:nvSpPr>
        <p:spPr>
          <a:xfrm>
            <a:off x="332280" y="5365800"/>
            <a:ext cx="171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Made by CE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SCDs (e.g. 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SMs &amp; other S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47"/>
          <p:cNvSpPr/>
          <p:nvPr/>
        </p:nvSpPr>
        <p:spPr>
          <a:xfrm>
            <a:off x="6849360" y="5176800"/>
            <a:ext cx="189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as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47"/>
          <p:cNvSpPr/>
          <p:nvPr/>
        </p:nvSpPr>
        <p:spPr>
          <a:xfrm>
            <a:off x="6843600" y="2868480"/>
            <a:ext cx="207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egistered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ong term p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47"/>
          <p:cNvSpPr/>
          <p:nvPr/>
        </p:nvSpPr>
        <p:spPr>
          <a:xfrm>
            <a:off x="326160" y="2819520"/>
            <a:ext cx="172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Issuing certific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Time-st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ing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Valida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47"/>
          <p:cNvSpPr/>
          <p:nvPr/>
        </p:nvSpPr>
        <p:spPr>
          <a:xfrm>
            <a:off x="6900480" y="1625760"/>
            <a:ext cx="1950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ist of TSP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pproved (supervi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by National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(e.g. Trusted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09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AFTER Mandate 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Object 2" descr=""/>
          <p:cNvPicPr/>
          <p:nvPr/>
        </p:nvPicPr>
        <p:blipFill>
          <a:blip r:embed="rId1"/>
          <a:stretch/>
        </p:blipFill>
        <p:spPr>
          <a:xfrm>
            <a:off x="671400" y="1268280"/>
            <a:ext cx="7783560" cy="5589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4. Next Steps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8C5B-F9C0-443C-91B3-A14584032A89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377720"/>
            <a:ext cx="8528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n Spring 2013 EU Commission published new 2nd draft regulation “on electronic identification and trust services for electronic transactions in the internal market”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Under EU Mandate 460 (2013 to 2015) ETSI commissioned to produc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 for TSP Conformity Assess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s for Best Practices (Policy Requireme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Personal Sign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organisational 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eals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Time-stamping Servi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Website Certificates  (should be EN 319 411-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…………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52:04Z</dcterms:created>
  <dc:creator>Arno Fiedler</dc:creator>
  <dc:description/>
  <dc:language>en-US</dc:language>
  <cp:lastModifiedBy>Arno Fiedler</cp:lastModifiedBy>
  <cp:lastPrinted>2012-04-17T12:11:33Z</cp:lastPrinted>
  <dcterms:modified xsi:type="dcterms:W3CDTF">2013-09-09T15:18:08Z</dcterms:modified>
  <cp:revision>784</cp:revision>
  <dc:subject/>
  <dc:title>Slide 1</dc:title>
</cp:coreProperties>
</file>