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3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4"/>
          </p:nvPr>
        </p:nvSpPr>
        <p:spPr>
          <a:xfrm>
            <a:off x="-36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5"/>
          </p:nvPr>
        </p:nvSpPr>
        <p:spPr>
          <a:xfrm>
            <a:off x="384768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0B00BB1-13FB-45D2-B138-84431117A20B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F660B83-EFF0-4415-B3E8-85A9850BAC0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ußzeilenplatzhalter 3"/>
          <p:cNvSpPr/>
          <p:nvPr/>
        </p:nvSpPr>
        <p:spPr>
          <a:xfrm>
            <a:off x="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liennummernplatzhalter 4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FAA3A-E8DB-4CD2-90A3-FCAD73DFEDE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F75E6E5-D9B3-41C9-B0FC-87F7707A458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5A0B920-8DF9-44E4-AF3A-FD5AE6C69CB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5F9AC32-57AD-4C4D-B610-E12D3AB47FA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liennummernplatzhalter 3"/>
          <p:cNvSpPr/>
          <p:nvPr/>
        </p:nvSpPr>
        <p:spPr>
          <a:xfrm>
            <a:off x="3848040" y="9429840"/>
            <a:ext cx="29480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94EEFB2-6AA6-48AA-94E1-71594179704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52403-FDE9-4FE9-B803-A3F7C2CC8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600FF-1070-4F9C-BC6B-020086EE81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C88CB-86C5-46B2-A4CB-E423B7D56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6F68-0935-48D5-8370-5180BB889F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4C1B-EF98-4C85-BFA6-C8DF0E2991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D4473-9A89-44A0-80D8-53394F7D78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5F315-87FB-4CEC-9134-8FD326DA11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4D23A-14C1-4609-B966-1F897F0554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9C59B-73F0-4ECD-9073-B7BFC78634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4B6E7-5697-444E-987B-5362F8C3F5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23410-D995-4719-B786-0399B2D5C1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9CF1-20E7-4999-93BF-2542180E8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A8DBA-F706-4E33-BFC0-05689717A2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E9FF-484A-4673-B968-B814A58D66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4A18-DC8B-4D9D-A792-70099D972A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05251-8B07-4F80-8F3C-419A0C754A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51377-14E2-4DB8-A949-A11A909EBB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0A3B8-BB4C-4BD9-A234-740547AC8D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17304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4800" y="119664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25092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17304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94800" y="3829680"/>
            <a:ext cx="27824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C53B-78E8-4A21-951C-7908A2ED3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A93AF-D1D1-498D-8C60-E628196F7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49440" y="210600"/>
            <a:ext cx="7128000" cy="25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3800-E916-4338-8E7A-6952BD4AE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856E1-499E-49FC-B723-C1450B82A1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9280" y="382968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AD9B-FBC9-400E-9A96-C485292C7B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9280" y="1196640"/>
            <a:ext cx="42170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50920" y="3829680"/>
            <a:ext cx="8642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EEBC-9B0B-473B-8908-F99B3F051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26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19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0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	</a:t>
            </a:r>
            <a:fld id="{75087ACB-EB04-4F23-B4BE-3853D1E450E4}" type="slidenum">
              <a:rPr b="0" lang="de-DE" sz="2400" spc="-1" strike="noStrike">
                <a:solidFill>
                  <a:srgbClr val="b2b2b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" name="Picture 21" descr="balken"/>
          <p:cNvPicPr/>
          <p:nvPr/>
        </p:nvPicPr>
        <p:blipFill>
          <a:blip r:embed="rId2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9" name="AutoShape 31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30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Grafik 15" descr=""/>
          <p:cNvPicPr/>
          <p:nvPr/>
        </p:nvPicPr>
        <p:blipFill>
          <a:blip r:embed="rId3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>
            <a:off x="34920" y="5661000"/>
            <a:ext cx="9069480" cy="1185840"/>
          </a:xfrm>
          <a:prstGeom prst="roundRect">
            <a:avLst>
              <a:gd name="adj" fmla="val 9102"/>
            </a:avLst>
          </a:prstGeom>
          <a:solidFill>
            <a:srgbClr val="666666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4920" y="5084640"/>
            <a:ext cx="906948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Num" idx="2"/>
          </p:nvPr>
        </p:nvSpPr>
        <p:spPr>
          <a:xfrm>
            <a:off x="838800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bbe0e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gt;&gt;</a:t>
            </a:r>
            <a:r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	</a:t>
            </a:r>
            <a:fld id="{0EFEC0DB-D2BB-4B49-804F-4919A28A54F4}" type="slidenum">
              <a:rPr b="0" lang="de-DE" sz="2400" spc="-1" strike="noStrike">
                <a:solidFill>
                  <a:srgbClr val="bbe0e3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>
            <a:off x="1403280" y="115920"/>
            <a:ext cx="0" cy="719280"/>
          </a:xfrm>
          <a:prstGeom prst="line">
            <a:avLst/>
          </a:prstGeom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7" name="Picture 22" descr="header_chip"/>
          <p:cNvPicPr/>
          <p:nvPr/>
        </p:nvPicPr>
        <p:blipFill>
          <a:blip r:embed="rId2"/>
          <a:stretch/>
        </p:blipFill>
        <p:spPr>
          <a:xfrm>
            <a:off x="4533840" y="981000"/>
            <a:ext cx="4572000" cy="554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balken"/>
          <p:cNvPicPr/>
          <p:nvPr/>
        </p:nvPicPr>
        <p:blipFill>
          <a:blip r:embed="rId3"/>
          <a:stretch/>
        </p:blipFill>
        <p:spPr>
          <a:xfrm>
            <a:off x="49320" y="836640"/>
            <a:ext cx="9036000" cy="18720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17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eaeaea"/>
                </a:solidFill>
                <a:latin typeface="Arial"/>
              </a:rPr>
              <a:t>© 2011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Grafik 16" descr=""/>
          <p:cNvPicPr/>
          <p:nvPr/>
        </p:nvPicPr>
        <p:blipFill>
          <a:blip r:embed="rId4"/>
          <a:stretch/>
        </p:blipFill>
        <p:spPr>
          <a:xfrm>
            <a:off x="179280" y="311040"/>
            <a:ext cx="1152720" cy="3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2" descr="ecsec-logo_tr_final"/>
          <p:cNvPicPr/>
          <p:nvPr/>
        </p:nvPicPr>
        <p:blipFill>
          <a:blip r:embed="rId2"/>
          <a:stretch/>
        </p:blipFill>
        <p:spPr>
          <a:xfrm>
            <a:off x="3635280" y="5013360"/>
            <a:ext cx="2305080" cy="1093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28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5" descr="startseite-hellgrau"/>
          <p:cNvPicPr/>
          <p:nvPr/>
        </p:nvPicPr>
        <p:blipFill>
          <a:blip r:embed="rId3"/>
          <a:srcRect l="567" t="781" r="567" b="781"/>
          <a:stretch/>
        </p:blipFill>
        <p:spPr>
          <a:xfrm>
            <a:off x="395280" y="395280"/>
            <a:ext cx="8353440" cy="604836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103" name="Text Box 37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3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32080" indent="-336600">
              <a:spcBef>
                <a:spcPts val="601"/>
              </a:spcBef>
              <a:buClr>
                <a:srgbClr val="4d4d4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1788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4920" y="2204640"/>
            <a:ext cx="852948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4d4d4d"/>
                </a:solidFill>
                <a:latin typeface="Arial"/>
              </a:rPr>
              <a:t>Identitätsmanagement im Cloud Computing aus rechtlicher Perspektive </a:t>
            </a:r>
            <a:br>
              <a:rPr sz="3600"/>
            </a:br>
            <a:br>
              <a:rPr sz="2400"/>
            </a:br>
            <a:endParaRPr b="1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843280" y="40053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Grafik 2" descr=""/>
          <p:cNvPicPr/>
          <p:nvPr/>
        </p:nvPicPr>
        <p:blipFill>
          <a:blip r:embed="rId1"/>
          <a:stretch/>
        </p:blipFill>
        <p:spPr>
          <a:xfrm>
            <a:off x="2997360" y="739800"/>
            <a:ext cx="3408120" cy="11174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1"/>
          <p:cNvSpPr/>
          <p:nvPr/>
        </p:nvSpPr>
        <p:spPr>
          <a:xfrm>
            <a:off x="520560" y="5940360"/>
            <a:ext cx="41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4d4d4d"/>
                </a:solidFill>
                <a:latin typeface="Arial"/>
              </a:rPr>
              <a:t>Stephan Sädtler (Universität Passau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Grafik 3" descr=""/>
          <p:cNvPicPr/>
          <p:nvPr/>
        </p:nvPicPr>
        <p:blipFill>
          <a:blip r:embed="rId2"/>
          <a:stretch/>
        </p:blipFill>
        <p:spPr>
          <a:xfrm>
            <a:off x="6843600" y="4546440"/>
            <a:ext cx="1729080" cy="1425600"/>
          </a:xfrm>
          <a:prstGeom prst="rect">
            <a:avLst/>
          </a:prstGeom>
          <a:ln w="0">
            <a:noFill/>
          </a:ln>
        </p:spPr>
      </p:pic>
      <p:pic>
        <p:nvPicPr>
          <p:cNvPr id="154" name="Grafik 2" descr=""/>
          <p:cNvPicPr/>
          <p:nvPr/>
        </p:nvPicPr>
        <p:blipFill>
          <a:blip r:embed="rId3"/>
          <a:stretch/>
        </p:blipFill>
        <p:spPr>
          <a:xfrm>
            <a:off x="579600" y="4592520"/>
            <a:ext cx="244764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oppelrelevanz des § 9 BDSG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Cloud Inhaltsdaten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Authent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e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der Identitätsdaten selbst du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chere Infrastrukt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34452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SkIDentity – Referenzarchitektur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5FFDEF0-591D-42EC-9A8D-A29C5684AD8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Grafik 4" descr=""/>
          <p:cNvPicPr/>
          <p:nvPr/>
        </p:nvPicPr>
        <p:blipFill>
          <a:blip r:embed="rId1"/>
          <a:stretch/>
        </p:blipFill>
        <p:spPr>
          <a:xfrm>
            <a:off x="611280" y="1123920"/>
            <a:ext cx="80661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2880" y="259920"/>
            <a:ext cx="770112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ID-Funktion nPA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Rechteck 7"/>
          <p:cNvSpPr/>
          <p:nvPr/>
        </p:nvSpPr>
        <p:spPr>
          <a:xfrm>
            <a:off x="820800" y="3244680"/>
            <a:ext cx="2786040" cy="64296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ersonalausweis-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hteck 9"/>
          <p:cNvSpPr/>
          <p:nvPr/>
        </p:nvSpPr>
        <p:spPr>
          <a:xfrm>
            <a:off x="820800" y="1214280"/>
            <a:ext cx="278604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usweisinhab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hteck 10"/>
          <p:cNvSpPr/>
          <p:nvPr/>
        </p:nvSpPr>
        <p:spPr>
          <a:xfrm>
            <a:off x="6643800" y="1214280"/>
            <a:ext cx="2224080" cy="50040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nsteanbi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hteck 11"/>
          <p:cNvSpPr/>
          <p:nvPr/>
        </p:nvSpPr>
        <p:spPr>
          <a:xfrm>
            <a:off x="820800" y="5418000"/>
            <a:ext cx="2786040" cy="67968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ersteller (z.Z. Bundesdruckere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eck 12"/>
          <p:cNvSpPr/>
          <p:nvPr/>
        </p:nvSpPr>
        <p:spPr>
          <a:xfrm>
            <a:off x="6143760" y="3581280"/>
            <a:ext cx="2857320" cy="113364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stelle für Berechtigungs-zertifikate (ggf.: Sperrlistenbetreib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hteck 13"/>
          <p:cNvSpPr/>
          <p:nvPr/>
        </p:nvSpPr>
        <p:spPr>
          <a:xfrm>
            <a:off x="4708440" y="5643720"/>
            <a:ext cx="2363760" cy="785520"/>
          </a:xfrm>
          <a:prstGeom prst="rect">
            <a:avLst/>
          </a:prstGeom>
          <a:solidFill>
            <a:srgbClr val="92d050">
              <a:alpha val="50000"/>
            </a:srgbClr>
          </a:solidFill>
          <a:ln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schutz-aufsichtsbehö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Gerade Verbindung mit Pfeil 15"/>
          <p:cNvCxnSpPr/>
          <p:nvPr/>
        </p:nvCxnSpPr>
        <p:spPr>
          <a:xfrm>
            <a:off x="2428560" y="171468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Gerade Verbindung mit Pfeil 16"/>
          <p:cNvCxnSpPr/>
          <p:nvPr/>
        </p:nvCxnSpPr>
        <p:spPr>
          <a:xfrm flipV="1">
            <a:off x="1929960" y="1714320"/>
            <a:ext cx="1080" cy="1530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Textfeld 23"/>
          <p:cNvSpPr/>
          <p:nvPr/>
        </p:nvSpPr>
        <p:spPr>
          <a:xfrm>
            <a:off x="2398680" y="221472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feld 24"/>
          <p:cNvSpPr/>
          <p:nvPr/>
        </p:nvSpPr>
        <p:spPr>
          <a:xfrm>
            <a:off x="357120" y="4309920"/>
            <a:ext cx="178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. Produktions-proz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Gerade Verbindung mit Pfeil 25"/>
          <p:cNvCxnSpPr>
            <a:endCxn id="182" idx="2"/>
          </p:cNvCxnSpPr>
          <p:nvPr/>
        </p:nvCxnSpPr>
        <p:spPr>
          <a:xfrm flipV="1">
            <a:off x="2212560" y="3887280"/>
            <a:ext cx="2520" cy="75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Gerade Verbindung mit Pfeil 28"/>
          <p:cNvCxnSpPr/>
          <p:nvPr/>
        </p:nvCxnSpPr>
        <p:spPr>
          <a:xfrm flipH="1">
            <a:off x="2214360" y="4250880"/>
            <a:ext cx="2160" cy="1189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feld 33"/>
          <p:cNvSpPr/>
          <p:nvPr/>
        </p:nvSpPr>
        <p:spPr>
          <a:xfrm>
            <a:off x="285840" y="2000160"/>
            <a:ext cx="1785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. Ausgabe / Erklärung über Nutz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Gerade Verbindung mit Pfeil 35"/>
          <p:cNvCxnSpPr/>
          <p:nvPr/>
        </p:nvCxnSpPr>
        <p:spPr>
          <a:xfrm>
            <a:off x="7214760" y="171432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Gerade Verbindung mit Pfeil 46"/>
          <p:cNvCxnSpPr/>
          <p:nvPr/>
        </p:nvCxnSpPr>
        <p:spPr>
          <a:xfrm flipV="1">
            <a:off x="7357680" y="1713960"/>
            <a:ext cx="1080" cy="1867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feld 54"/>
          <p:cNvSpPr/>
          <p:nvPr/>
        </p:nvSpPr>
        <p:spPr>
          <a:xfrm>
            <a:off x="6143760" y="2487600"/>
            <a:ext cx="150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. Antra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feld 56"/>
          <p:cNvSpPr/>
          <p:nvPr/>
        </p:nvSpPr>
        <p:spPr>
          <a:xfrm>
            <a:off x="7500960" y="2071800"/>
            <a:ext cx="150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. Prüfung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gabe, Übermittlung Sperrlist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Gerade Verbindung mit Pfeil 61"/>
          <p:cNvCxnSpPr/>
          <p:nvPr/>
        </p:nvCxnSpPr>
        <p:spPr>
          <a:xfrm>
            <a:off x="3921120" y="1428840"/>
            <a:ext cx="2356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Gerade Verbindung mit Pfeil 90"/>
          <p:cNvCxnSpPr/>
          <p:nvPr/>
        </p:nvCxnSpPr>
        <p:spPr>
          <a:xfrm flipH="1" flipV="1">
            <a:off x="3895200" y="1428480"/>
            <a:ext cx="2286720" cy="21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1" name="Textfeld 96"/>
          <p:cNvSpPr/>
          <p:nvPr/>
        </p:nvSpPr>
        <p:spPr>
          <a:xfrm>
            <a:off x="3649680" y="1515960"/>
            <a:ext cx="291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. Datenübermittlu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Zweipersonenverhältni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Gerade Verbindung mit Pfeil 97"/>
          <p:cNvCxnSpPr>
            <a:stCxn id="187" idx="0"/>
            <a:endCxn id="186" idx="2"/>
          </p:cNvCxnSpPr>
          <p:nvPr/>
        </p:nvCxnSpPr>
        <p:spPr>
          <a:xfrm flipV="1">
            <a:off x="5891040" y="4714560"/>
            <a:ext cx="1681920" cy="92952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3" name="Textfeld 100"/>
          <p:cNvSpPr/>
          <p:nvPr/>
        </p:nvSpPr>
        <p:spPr>
          <a:xfrm>
            <a:off x="7072200" y="5000760"/>
            <a:ext cx="2357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Ggf. Verlange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on</a:t>
            </a:r>
            <a:r>
              <a:rPr b="1" lang="de-DE" sz="1200" spc="-1" strike="noStrike">
                <a:solidFill>
                  <a:srgbClr val="f5821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Rücknahme / Widerru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Gerade Verbindung mit Pfeil 104"/>
          <p:cNvCxnSpPr>
            <a:stCxn id="182" idx="3"/>
            <a:endCxn id="186" idx="1"/>
          </p:cNvCxnSpPr>
          <p:nvPr/>
        </p:nvCxnSpPr>
        <p:spPr>
          <a:xfrm>
            <a:off x="3606480" y="3565080"/>
            <a:ext cx="2537640" cy="5835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cxnSp>
        <p:nvCxnSpPr>
          <p:cNvPr id="205" name="Gerade Verbindung mit Pfeil 107"/>
          <p:cNvCxnSpPr/>
          <p:nvPr/>
        </p:nvCxnSpPr>
        <p:spPr>
          <a:xfrm>
            <a:off x="3147840" y="1714320"/>
            <a:ext cx="2996640" cy="221508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6" name="Textfeld 110"/>
          <p:cNvSpPr/>
          <p:nvPr/>
        </p:nvSpPr>
        <p:spPr>
          <a:xfrm>
            <a:off x="4446720" y="3441600"/>
            <a:ext cx="12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Sperr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feld 111"/>
          <p:cNvSpPr/>
          <p:nvPr/>
        </p:nvSpPr>
        <p:spPr>
          <a:xfrm>
            <a:off x="3798720" y="3211560"/>
            <a:ext cx="16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Veranlassu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Gerade Verbindung mit Pfeil 112"/>
          <p:cNvCxnSpPr/>
          <p:nvPr/>
        </p:nvCxnSpPr>
        <p:spPr>
          <a:xfrm>
            <a:off x="3147480" y="1714680"/>
            <a:ext cx="1561320" cy="3929760"/>
          </a:xfrm>
          <a:prstGeom prst="straightConnector1">
            <a:avLst/>
          </a:prstGeom>
          <a:ln w="38160">
            <a:solidFill>
              <a:srgbClr val="3399ff"/>
            </a:solidFill>
            <a:miter/>
            <a:tailEnd len="med" type="arrow" w="med"/>
          </a:ln>
        </p:spPr>
      </p:cxnSp>
      <p:sp>
        <p:nvSpPr>
          <p:cNvPr id="209" name="Textfeld 114"/>
          <p:cNvSpPr/>
          <p:nvPr/>
        </p:nvSpPr>
        <p:spPr>
          <a:xfrm>
            <a:off x="4383000" y="4572000"/>
            <a:ext cx="16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99ff"/>
                </a:solidFill>
                <a:latin typeface="Arial"/>
              </a:rPr>
              <a:t>Beschwerd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SkIDentity – Service Provider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4864CC5A-B1D6-405D-B371-589F075CB5DE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Objekt 4"/>
          <p:cNvGraphicFramePr/>
          <p:nvPr/>
        </p:nvGraphicFramePr>
        <p:xfrm>
          <a:off x="2241720" y="4546440"/>
          <a:ext cx="1008000" cy="90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4546440"/>
                    <a:ext cx="10080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kt 5"/>
          <p:cNvGraphicFramePr/>
          <p:nvPr/>
        </p:nvGraphicFramePr>
        <p:xfrm>
          <a:off x="6145200" y="4622760"/>
          <a:ext cx="8557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k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45200" y="4622760"/>
                    <a:ext cx="8557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Grafik 11" descr=""/>
          <p:cNvPicPr/>
          <p:nvPr/>
        </p:nvPicPr>
        <p:blipFill>
          <a:blip r:embed="rId5"/>
          <a:stretch/>
        </p:blipFill>
        <p:spPr>
          <a:xfrm>
            <a:off x="1571760" y="3645000"/>
            <a:ext cx="1617480" cy="2049480"/>
          </a:xfrm>
          <a:prstGeom prst="rect">
            <a:avLst/>
          </a:prstGeom>
          <a:ln w="0">
            <a:noFill/>
          </a:ln>
        </p:spPr>
      </p:pic>
      <p:sp>
        <p:nvSpPr>
          <p:cNvPr id="217" name="Textfeld 14"/>
          <p:cNvSpPr/>
          <p:nvPr/>
        </p:nvSpPr>
        <p:spPr>
          <a:xfrm>
            <a:off x="7366680" y="5060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feld 16"/>
          <p:cNvSpPr/>
          <p:nvPr/>
        </p:nvSpPr>
        <p:spPr>
          <a:xfrm>
            <a:off x="2213280" y="55227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feld 12"/>
          <p:cNvSpPr/>
          <p:nvPr/>
        </p:nvSpPr>
        <p:spPr>
          <a:xfrm>
            <a:off x="5267520" y="2403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d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8"/>
          <p:cNvSpPr/>
          <p:nvPr/>
        </p:nvSpPr>
        <p:spPr>
          <a:xfrm flipV="1">
            <a:off x="1944720" y="2990880"/>
            <a:ext cx="1301760" cy="14810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268800" y="5060880"/>
            <a:ext cx="267156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uppieren 78"/>
          <p:cNvGrpSpPr/>
          <p:nvPr/>
        </p:nvGrpSpPr>
        <p:grpSpPr>
          <a:xfrm>
            <a:off x="2957400" y="1601640"/>
            <a:ext cx="5538960" cy="1365480"/>
            <a:chOff x="2957400" y="1601640"/>
            <a:chExt cx="5538960" cy="1365480"/>
          </a:xfrm>
        </p:grpSpPr>
        <p:sp>
          <p:nvSpPr>
            <p:cNvPr id="223" name="Gerade Verbindung 95"/>
            <p:cNvSpPr/>
            <p:nvPr/>
          </p:nvSpPr>
          <p:spPr>
            <a:xfrm flipV="1">
              <a:off x="3960720" y="2434320"/>
              <a:ext cx="14112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bgerundetes Rechteck 80"/>
            <p:cNvSpPr/>
            <p:nvPr/>
          </p:nvSpPr>
          <p:spPr>
            <a:xfrm>
              <a:off x="2957400" y="1994400"/>
              <a:ext cx="98748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Abgerundetes Rechteck 81"/>
            <p:cNvGrpSpPr/>
            <p:nvPr/>
          </p:nvGrpSpPr>
          <p:grpSpPr>
            <a:xfrm>
              <a:off x="4145040" y="1961280"/>
              <a:ext cx="1121760" cy="1005840"/>
              <a:chOff x="4145040" y="1961280"/>
              <a:chExt cx="1121760" cy="1005840"/>
            </a:xfrm>
          </p:grpSpPr>
          <p:pic>
            <p:nvPicPr>
              <p:cNvPr id="226" name="Abgerundetes Rechteck 81" descr=""/>
              <p:cNvPicPr/>
              <p:nvPr/>
            </p:nvPicPr>
            <p:blipFill>
              <a:blip r:embed="rId6"/>
              <a:stretch/>
            </p:blipFill>
            <p:spPr>
              <a:xfrm>
                <a:off x="4145040" y="1961280"/>
                <a:ext cx="1121760" cy="100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7" name=""/>
              <p:cNvSpPr/>
              <p:nvPr/>
            </p:nvSpPr>
            <p:spPr>
              <a:xfrm>
                <a:off x="4224240" y="2036880"/>
                <a:ext cx="897120" cy="79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Abgerundetes Rechteck 82"/>
            <p:cNvSpPr/>
            <p:nvPr/>
          </p:nvSpPr>
          <p:spPr>
            <a:xfrm>
              <a:off x="5371920" y="1994400"/>
              <a:ext cx="988920" cy="880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000000">
                  <a:alpha val="2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Diagramm 83" descr=""/>
            <p:cNvPicPr/>
            <p:nvPr/>
          </p:nvPicPr>
          <p:blipFill>
            <a:blip r:embed="rId7"/>
            <a:stretch/>
          </p:blipFill>
          <p:spPr>
            <a:xfrm>
              <a:off x="4200120" y="1972800"/>
              <a:ext cx="865440" cy="92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feld 13"/>
            <p:cNvSpPr/>
            <p:nvPr/>
          </p:nvSpPr>
          <p:spPr>
            <a:xfrm>
              <a:off x="3948840" y="1601640"/>
              <a:ext cx="148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eID-Broker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Grafik 14" descr=""/>
            <p:cNvPicPr/>
            <p:nvPr/>
          </p:nvPicPr>
          <p:blipFill>
            <a:blip r:embed="rId8"/>
            <a:stretch/>
          </p:blipFill>
          <p:spPr>
            <a:xfrm>
              <a:off x="3207960" y="2041560"/>
              <a:ext cx="622080" cy="81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Grafik 15" descr=""/>
            <p:cNvPicPr/>
            <p:nvPr/>
          </p:nvPicPr>
          <p:blipFill>
            <a:blip r:embed="rId9"/>
            <a:stretch/>
          </p:blipFill>
          <p:spPr>
            <a:xfrm>
              <a:off x="5703840" y="2026440"/>
              <a:ext cx="325440" cy="78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Grafik 98" descr=""/>
            <p:cNvPicPr/>
            <p:nvPr/>
          </p:nvPicPr>
          <p:blipFill>
            <a:blip r:embed="rId10"/>
            <a:stretch/>
          </p:blipFill>
          <p:spPr>
            <a:xfrm>
              <a:off x="6803280" y="2085120"/>
              <a:ext cx="16930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Line 28"/>
          <p:cNvSpPr/>
          <p:nvPr/>
        </p:nvSpPr>
        <p:spPr>
          <a:xfrm flipV="1">
            <a:off x="3141720" y="2990880"/>
            <a:ext cx="2724120" cy="1650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llipse 1"/>
          <p:cNvSpPr/>
          <p:nvPr/>
        </p:nvSpPr>
        <p:spPr>
          <a:xfrm>
            <a:off x="5580000" y="4076640"/>
            <a:ext cx="2592360" cy="2232000"/>
          </a:xfrm>
          <a:prstGeom prst="ellipse">
            <a:avLst/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robleme des 2-Personen-Verhältnisses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Jeder Diensteanbieter (= jeder Cloud-Provider, jede Behörde, ggf. jedes Fachverfahren!) benötigt ein eigenes Berechtigungszertifikat, § 21 PAus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tragsverfahren und Betrieb des eID-Servers als Kostentre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MUs als Cloud 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kleine Kommunen / Behö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er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gerade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Chancen für die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stenvorteile durch nutzungsbezogene Abrechn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gf. sogar erstmalige Chance, bestimmte Dienstleistungen anzubieten, die sonst zu hohe Grundkosten hä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C19DC89C-70DD-4862-B6ED-D670F487F072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feld 4"/>
          <p:cNvSpPr/>
          <p:nvPr/>
        </p:nvSpPr>
        <p:spPr>
          <a:xfrm>
            <a:off x="1290240" y="6297480"/>
            <a:ext cx="104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Calibri"/>
                <a:ea typeface="MS PGothic"/>
              </a:rPr>
              <a:t>Quelle: Hornung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8920" y="188640"/>
            <a:ext cx="7526160" cy="63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Personalausweisre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1 II 1 Nr. 2 PAuswG: „geschäftsmäßige Übermittlung der Daten“ rechtswidr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9 I Nr. 1 PAuswV: kein Zertifikat, wenn „der Zweck der Datenerhebung ausschließlich in der Auslesung oder Bereitstellung personenbezogener Daten aus dem Personalausweis                          für den Ausweisinhaber oder Dritte besteht“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B49A9DEB-529A-4F2A-BA1E-E7249FA78BC7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feld 4"/>
          <p:cNvSpPr/>
          <p:nvPr/>
        </p:nvSpPr>
        <p:spPr>
          <a:xfrm>
            <a:off x="684360" y="314172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Calibri"/>
                <a:ea typeface="MS PGothic"/>
              </a:rPr>
              <a:t>----------------------------------------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Europarechtliche Hürden?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ordnungsentwurf der Kommission: 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kzeptanzpflicht „notifizierter“ eID-Systeme anderer MS (Art. 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atliche e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ine Notifzierung von Systemen die „bestimmte technische Vorgaben“ machen bzw. kostenpflichtig sind (Art. 6 I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Haftung für „eindeutige Zuordnung der Personenidentifizierungsdaten“ und „Authentifizierungsmöglichkeit“ (Art. 6 I 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uswirkung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P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sundheitskarte, § 291a SGB 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, z.B. § 6 DeMail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Lösungsansätze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llgemeines 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öderiertes ID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seudonymisierung und Anonymis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ersonalausweis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ewährleistung der selbstbestimmten Verfügung des Ausweisinha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AS-V-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Schnittst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hne Nachteile eines zentralen „Gateways“ (ST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</a:t>
            </a: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azit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gelöste Probleme des Datenschutzrechts im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bhilfe zumindest im Bereich des ID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und föderiertes I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 vorteilha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: Chance und Risik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itere Herausforde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ets Verfolgung eines interdisziplinäreren Ansatzes zur rechtskonformen Technikgest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B55DA6E-C1BF-4DF6-9D32-99815755C51F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25080" y="6613560"/>
            <a:ext cx="332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b2b2b2"/>
                </a:solidFill>
                <a:latin typeface="Arial"/>
              </a:rPr>
              <a:t>© Copyright 2010 ecsec GmbH, All Rights Reserved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614520" y="2162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Titelmasterformat durch Klicken bearbeite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14520" y="43340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Formatvorlage des Untertitelmasters durch Klicken bearbei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34920" y="34920"/>
            <a:ext cx="9069480" cy="6802560"/>
          </a:xfrm>
          <a:prstGeom prst="roundRect">
            <a:avLst>
              <a:gd name="adj" fmla="val 1611"/>
            </a:avLst>
          </a:prstGeom>
          <a:solidFill>
            <a:srgbClr val="666666"/>
          </a:solidFill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23760" y="6524640"/>
            <a:ext cx="191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© 2012 SkIDentity-Te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1" descr="prozessor-hellgrau"/>
          <p:cNvPicPr/>
          <p:nvPr/>
        </p:nvPicPr>
        <p:blipFill>
          <a:blip r:embed="rId1"/>
          <a:stretch/>
        </p:blipFill>
        <p:spPr>
          <a:xfrm>
            <a:off x="395280" y="395280"/>
            <a:ext cx="8353440" cy="5986440"/>
          </a:xfrm>
          <a:prstGeom prst="rect">
            <a:avLst/>
          </a:prstGeom>
          <a:ln w="38160">
            <a:solidFill>
              <a:srgbClr val="b2b2b2"/>
            </a:solidFill>
            <a:miter/>
          </a:ln>
        </p:spPr>
      </p:pic>
      <p:sp>
        <p:nvSpPr>
          <p:cNvPr id="264" name="Rectangle 17"/>
          <p:cNvSpPr/>
          <p:nvPr/>
        </p:nvSpPr>
        <p:spPr>
          <a:xfrm>
            <a:off x="1332000" y="708120"/>
            <a:ext cx="6696000" cy="1368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1545120" y="692280"/>
            <a:ext cx="618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Herzlichen Dank </a:t>
            </a:r>
            <a:br>
              <a:rPr sz="4000"/>
            </a:br>
            <a:r>
              <a:rPr b="1" lang="de-DE" sz="4000" spc="-1" strike="noStrike">
                <a:solidFill>
                  <a:srgbClr val="4d4d4d"/>
                </a:solidFill>
                <a:latin typeface="Arial"/>
              </a:rPr>
              <a:t>für Ihre Aufmerksamkeit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1332000" y="2205000"/>
            <a:ext cx="6696000" cy="4032360"/>
          </a:xfrm>
          <a:prstGeom prst="rect">
            <a:avLst/>
          </a:prstGeom>
          <a:solidFill>
            <a:srgbClr val="fafafa">
              <a:alpha val="67000"/>
            </a:srgbClr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1340280" y="220500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Kontak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Grafik 16" descr=""/>
          <p:cNvPicPr/>
          <p:nvPr/>
        </p:nvPicPr>
        <p:blipFill>
          <a:blip r:embed="rId2"/>
          <a:stretch/>
        </p:blipFill>
        <p:spPr>
          <a:xfrm>
            <a:off x="1417680" y="5165640"/>
            <a:ext cx="2663640" cy="1000080"/>
          </a:xfrm>
          <a:prstGeom prst="rect">
            <a:avLst/>
          </a:prstGeom>
          <a:ln w="0">
            <a:noFill/>
          </a:ln>
        </p:spPr>
      </p:pic>
      <p:pic>
        <p:nvPicPr>
          <p:cNvPr id="269" name="Grafik 17" descr=""/>
          <p:cNvPicPr/>
          <p:nvPr/>
        </p:nvPicPr>
        <p:blipFill>
          <a:blip r:embed="rId3"/>
          <a:stretch/>
        </p:blipFill>
        <p:spPr>
          <a:xfrm>
            <a:off x="6516720" y="4976640"/>
            <a:ext cx="1440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70" name="Gruppieren 8"/>
          <p:cNvGrpSpPr/>
          <p:nvPr/>
        </p:nvGrpSpPr>
        <p:grpSpPr>
          <a:xfrm>
            <a:off x="2843280" y="2421000"/>
            <a:ext cx="3754440" cy="2484360"/>
            <a:chOff x="2843280" y="2421000"/>
            <a:chExt cx="3754440" cy="2484360"/>
          </a:xfrm>
        </p:grpSpPr>
        <p:sp>
          <p:nvSpPr>
            <p:cNvPr id="271" name="Rechteck 2"/>
            <p:cNvSpPr/>
            <p:nvPr/>
          </p:nvSpPr>
          <p:spPr>
            <a:xfrm>
              <a:off x="2843280" y="2421000"/>
              <a:ext cx="3754440" cy="2413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feld 2"/>
            <p:cNvSpPr/>
            <p:nvPr/>
          </p:nvSpPr>
          <p:spPr>
            <a:xfrm>
              <a:off x="2898000" y="3459240"/>
              <a:ext cx="1656000" cy="14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c/o Universiät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00"/>
              </a:b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nnstr. 3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94032 Passau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Telefon +49 851 509 2384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ephan.saedtler@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ni-passau.de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feld 21"/>
            <p:cNvSpPr/>
            <p:nvPr/>
          </p:nvSpPr>
          <p:spPr>
            <a:xfrm>
              <a:off x="4932360" y="3674880"/>
              <a:ext cx="1584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100" spc="-1" strike="noStrike">
                  <a:solidFill>
                    <a:srgbClr val="000000"/>
                  </a:solidFill>
                  <a:latin typeface="Arial"/>
                </a:rPr>
                <a:t>RA Stephan Sädtler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7f7f7f"/>
                  </a:solidFill>
                  <a:latin typeface="Arial"/>
                </a:rPr>
                <a:t>Wiss. MA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4" name="Grafik 3" descr=""/>
            <p:cNvPicPr/>
            <p:nvPr/>
          </p:nvPicPr>
          <p:blipFill>
            <a:blip r:embed="rId4"/>
            <a:stretch/>
          </p:blipFill>
          <p:spPr>
            <a:xfrm>
              <a:off x="3019320" y="2673720"/>
              <a:ext cx="1660680" cy="54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Grafik 4" descr=""/>
            <p:cNvPicPr/>
            <p:nvPr/>
          </p:nvPicPr>
          <p:blipFill>
            <a:blip r:embed="rId5"/>
            <a:stretch/>
          </p:blipFill>
          <p:spPr>
            <a:xfrm>
              <a:off x="4792680" y="2717640"/>
              <a:ext cx="1579680" cy="4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Gerade Verbindung 24"/>
            <p:cNvSpPr/>
            <p:nvPr/>
          </p:nvSpPr>
          <p:spPr>
            <a:xfrm>
              <a:off x="4792680" y="3336840"/>
              <a:ext cx="0" cy="1323720"/>
            </a:xfrm>
            <a:prstGeom prst="line">
              <a:avLst/>
            </a:prstGeom>
            <a:ln w="1908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Aussgangssituatio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ahllose Geschäftsmode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 allen Lebens- und Geschäftsbereic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neh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brauc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wal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masse / Datenvielfa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orteile: Verfügbarkeit, Kos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achteil: Kontrollverlust, Datenschutzrecht, et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49440" y="25992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 und Datensicherheit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 personenbezogener D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rhebliche Probleme im Bereich des 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tragung, ADV (§ 3 VIII 3 i.V.m. § 11 BDS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rittstaatenverke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(§ 9 BDS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36080" indent="-334080"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icherh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gegen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2 II B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nittstelle im Datenschutzrecht: § 9 BDSG und Anl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ür sonstige Da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1200" indent="-3402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elektronischer Ausweise als technisch-organisatorische Maßnahme – Projekt Sk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Bedeutung des IDM im CC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e Schutzpflichten für personenbezogenen 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§ 9 BDSG + Anl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sbes. Zugangs-, Zugriffs- und Weitergabekontrol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chutzpflicht für Daten ohne Personenbezu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Z.B. Betriebs- und Geschäftsgeheimni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Vertragliche Vereinbarun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onsti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weisrech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heitliche Empfehlungen des BSI: (siehe nächste Fol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liennummernplatzhalter 3"/>
          <p:cNvSpPr/>
          <p:nvPr/>
        </p:nvSpPr>
        <p:spPr>
          <a:xfrm>
            <a:off x="8388360" y="6524640"/>
            <a:ext cx="647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701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&gt;&gt;</a:t>
            </a:r>
            <a:r>
              <a:rPr b="1" lang="de-DE" sz="1200" spc="-1" strike="noStrike">
                <a:solidFill>
                  <a:srgbClr val="b2b2b2"/>
                </a:solidFill>
                <a:latin typeface="Arial"/>
              </a:rPr>
              <a:t>	</a:t>
            </a:r>
            <a:fld id="{968EAA75-50CA-45CA-B1FF-7CE3CE7BDE81}" type="slidenum">
              <a:rPr b="1" lang="de-DE" sz="12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324000" y="1208160"/>
            <a:ext cx="3506760" cy="4998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3951360" y="1846440"/>
            <a:ext cx="5079960" cy="3238200"/>
          </a:xfrm>
          <a:prstGeom prst="rect">
            <a:avLst/>
          </a:prstGeom>
          <a:ln w="0">
            <a:noFill/>
          </a:ln>
        </p:spPr>
      </p:pic>
      <p:sp>
        <p:nvSpPr>
          <p:cNvPr id="168" name="Abgerundetes Rechteck 2"/>
          <p:cNvSpPr/>
          <p:nvPr/>
        </p:nvSpPr>
        <p:spPr>
          <a:xfrm>
            <a:off x="3951360" y="2492280"/>
            <a:ext cx="5079960" cy="5050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bgerundetes Rechteck 8"/>
          <p:cNvSpPr/>
          <p:nvPr/>
        </p:nvSpPr>
        <p:spPr>
          <a:xfrm>
            <a:off x="3951360" y="4581360"/>
            <a:ext cx="5079960" cy="503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Übersicht 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leitung: Datenschutz und Datensicherheit im Cloud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deutung des IDM im Cloud Comp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Datenschutzrechtlicher Umgang mit Identitätsda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insatz von elektronischer Ausweise als technisch-organisatorische Maßnahme – Forschungsprojekt „SkIDentity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chtliche Herausforderungen und Chanc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az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4d4d4d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9440" y="210600"/>
            <a:ext cx="712800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4d4d4d"/>
                </a:solidFill>
                <a:latin typeface="Arial"/>
              </a:rPr>
              <a:t>Datenschutzrechtlicher Umgang Identitätsdaten</a:t>
            </a: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50920" y="1196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undsätzlich entsprechend Cloud-Inhalt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äumlicher Anwendungsbereich, Verbotsprinz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, ADV § 3 VIII 3 i.V.m. § 11 BD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Übermittlung in unsichere Drittsta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Technisch-organisatorische Maßnahmen § 9 BDS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ektorspezifische Besonderhei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2800" indent="-351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esonderes Gefährdungspotent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nterschiedliche Behandlu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3:21:52Z</dcterms:created>
  <dc:creator>Matthias  Besch, Steffen Frischat, Heidi Bahr</dc:creator>
  <dc:description/>
  <dc:language>en-US</dc:language>
  <cp:lastModifiedBy>Stephan Sädtler</cp:lastModifiedBy>
  <cp:lastPrinted>2011-02-11T13:07:56Z</cp:lastPrinted>
  <dcterms:modified xsi:type="dcterms:W3CDTF">2013-09-09T09:14:55Z</dcterms:modified>
  <cp:revision>650</cp:revision>
  <dc:subject>Unternehmenspräsentation</dc:subject>
  <dc:title>secunet</dc:title>
</cp:coreProperties>
</file>