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3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481DA6D-BD0C-43D4-94F0-9343790849CD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FCAA8A0-9D28-4DDF-8984-2B5AB063A9D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ußzeilenplatzhalter 3"/>
          <p:cNvSpPr/>
          <p:nvPr/>
        </p:nvSpPr>
        <p:spPr>
          <a:xfrm>
            <a:off x="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liennummernplatzhalter 4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5FABCA-3660-4965-843D-4DD7B2E2D2B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69C5B19-9414-4E4B-A8AB-DC16157811D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EDCDE16-3673-462F-90D5-ECE94A1AA7B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627C8FC-1546-4736-AEDC-941574A8462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757300D-0448-4B76-BC26-EA424BEC594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9AF9B-4648-495C-9218-3636B83B30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0D457-9C3C-45B7-B226-4C989F9028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564EE-E764-4FB3-A468-C571407B5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E1148-F0B8-43BC-899E-6138390A6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2A952-25A9-409C-9C7D-8B7AD62899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85D52-512E-4637-AADE-93CE9C60A7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3D60C-1E98-460C-9F17-28C70E6EFA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CB61C-33BD-4F29-8CFF-157E1ABD03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648D0-AE31-4928-8828-6A75BBDDAB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4FB26-C1ED-43FE-84BD-4F66FF03C4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D8E03-6726-4E72-84CE-CBFA4BB28D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B9324-88C9-4544-B675-C6653B623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C63E3-C808-424E-9B61-2A179E83E9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0CB8E-259F-4914-827C-412B839FFB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407AC-D1FF-481E-A539-8FB288F349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C7BA2-BEA9-4C8C-BD07-53895A8C9E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71119-9561-4AE0-B42B-7157CDF71E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9985-C429-4505-A349-4F79F62BD7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40A5-A079-4A8C-980F-53BCEA43A2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6E58F-FF71-4E98-A73C-A6E7598A54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1BD8-3BBF-4799-BED1-1C497169D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A47E4-FAD8-4779-BB42-0BB6043FD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59405-70D2-4188-A7D6-09E74DBE4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18D23-E4D0-41A0-A4DA-3D42B5DC7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07974BB5-3EE4-420F-A079-0D2C30E020A2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Grafik 15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4DCBF655-4F59-46F5-8B29-508E4F9F830E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1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Grafik 16" descr=""/>
          <p:cNvPicPr/>
          <p:nvPr/>
        </p:nvPicPr>
        <p:blipFill>
          <a:blip r:embed="rId4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529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Identitätsmanagement im Cloud Computing aus rechtlicher Perspektive </a:t>
            </a:r>
            <a:br>
              <a:rPr sz="3600"/>
            </a:br>
            <a:br>
              <a:rPr sz="2400"/>
            </a:b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2997360" y="739800"/>
            <a:ext cx="3408120" cy="11174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1"/>
          <p:cNvSpPr/>
          <p:nvPr/>
        </p:nvSpPr>
        <p:spPr>
          <a:xfrm>
            <a:off x="520560" y="59403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Stephan Sädtler (Universität Passa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3" descr=""/>
          <p:cNvPicPr/>
          <p:nvPr/>
        </p:nvPicPr>
        <p:blipFill>
          <a:blip r:embed="rId2"/>
          <a:stretch/>
        </p:blipFill>
        <p:spPr>
          <a:xfrm>
            <a:off x="6843600" y="4546440"/>
            <a:ext cx="1729080" cy="14256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3"/>
          <a:stretch/>
        </p:blipFill>
        <p:spPr>
          <a:xfrm>
            <a:off x="579600" y="4592520"/>
            <a:ext cx="2447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oppelrelevanz des § 9 BDSG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der Cloud Inhaltsdaten d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e Authent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e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der Identitätsdaten selbst d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e Infrastrukt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ndheits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SkIDentity – Referenzarchitektur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4BEC7CF-CA97-4078-9662-DAC131190F40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Grafik 4" descr=""/>
          <p:cNvPicPr/>
          <p:nvPr/>
        </p:nvPicPr>
        <p:blipFill>
          <a:blip r:embed="rId1"/>
          <a:stretch/>
        </p:blipFill>
        <p:spPr>
          <a:xfrm>
            <a:off x="611280" y="1123920"/>
            <a:ext cx="80661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2880" y="259920"/>
            <a:ext cx="77011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ID-Funktion nP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Rechteck 7"/>
          <p:cNvSpPr/>
          <p:nvPr/>
        </p:nvSpPr>
        <p:spPr>
          <a:xfrm>
            <a:off x="820800" y="3244680"/>
            <a:ext cx="2786040" cy="64296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ersonalausweis-behö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eck 9"/>
          <p:cNvSpPr/>
          <p:nvPr/>
        </p:nvSpPr>
        <p:spPr>
          <a:xfrm>
            <a:off x="820800" y="1214280"/>
            <a:ext cx="278604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sweisinhab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ck 10"/>
          <p:cNvSpPr/>
          <p:nvPr/>
        </p:nvSpPr>
        <p:spPr>
          <a:xfrm>
            <a:off x="6643800" y="1214280"/>
            <a:ext cx="222408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nsteanbi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hteck 11"/>
          <p:cNvSpPr/>
          <p:nvPr/>
        </p:nvSpPr>
        <p:spPr>
          <a:xfrm>
            <a:off x="820800" y="5418000"/>
            <a:ext cx="2786040" cy="67968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ersteller (z.Z. Bundesdruckere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eck 12"/>
          <p:cNvSpPr/>
          <p:nvPr/>
        </p:nvSpPr>
        <p:spPr>
          <a:xfrm>
            <a:off x="6143760" y="3581280"/>
            <a:ext cx="2857320" cy="11336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stelle für Berechtigungs-zertifikate (ggf.: Sperrlistenbetreib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hteck 13"/>
          <p:cNvSpPr/>
          <p:nvPr/>
        </p:nvSpPr>
        <p:spPr>
          <a:xfrm>
            <a:off x="4708440" y="5643720"/>
            <a:ext cx="2363760" cy="7855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schutz-aufsichtsbehö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Gerade Verbindung mit Pfeil 15"/>
          <p:cNvCxnSpPr/>
          <p:nvPr/>
        </p:nvCxnSpPr>
        <p:spPr>
          <a:xfrm>
            <a:off x="2428560" y="1714680"/>
            <a:ext cx="1080" cy="153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Gerade Verbindung mit Pfeil 16"/>
          <p:cNvCxnSpPr/>
          <p:nvPr/>
        </p:nvCxnSpPr>
        <p:spPr>
          <a:xfrm flipV="1">
            <a:off x="1929960" y="1714320"/>
            <a:ext cx="1080" cy="153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Textfeld 23"/>
          <p:cNvSpPr/>
          <p:nvPr/>
        </p:nvSpPr>
        <p:spPr>
          <a:xfrm>
            <a:off x="2398680" y="221472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. Antra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24"/>
          <p:cNvSpPr/>
          <p:nvPr/>
        </p:nvSpPr>
        <p:spPr>
          <a:xfrm>
            <a:off x="357120" y="4309920"/>
            <a:ext cx="17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. Produktions-proz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Gerade Verbindung mit Pfeil 25"/>
          <p:cNvCxnSpPr>
            <a:endCxn id="182" idx="2"/>
          </p:cNvCxnSpPr>
          <p:nvPr/>
        </p:nvCxnSpPr>
        <p:spPr>
          <a:xfrm flipV="1">
            <a:off x="2212560" y="3887280"/>
            <a:ext cx="2520" cy="75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3" name="Gerade Verbindung mit Pfeil 28"/>
          <p:cNvCxnSpPr/>
          <p:nvPr/>
        </p:nvCxnSpPr>
        <p:spPr>
          <a:xfrm flipH="1">
            <a:off x="2214360" y="4250880"/>
            <a:ext cx="2160" cy="118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Textfeld 33"/>
          <p:cNvSpPr/>
          <p:nvPr/>
        </p:nvSpPr>
        <p:spPr>
          <a:xfrm>
            <a:off x="285840" y="2000160"/>
            <a:ext cx="178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. Ausgabe / Erklärung über Nutz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Gerade Verbindung mit Pfeil 35"/>
          <p:cNvCxnSpPr/>
          <p:nvPr/>
        </p:nvCxnSpPr>
        <p:spPr>
          <a:xfrm>
            <a:off x="7214760" y="171432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6" name="Gerade Verbindung mit Pfeil 46"/>
          <p:cNvCxnSpPr/>
          <p:nvPr/>
        </p:nvCxnSpPr>
        <p:spPr>
          <a:xfrm flipV="1">
            <a:off x="7357680" y="171396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Textfeld 54"/>
          <p:cNvSpPr/>
          <p:nvPr/>
        </p:nvSpPr>
        <p:spPr>
          <a:xfrm>
            <a:off x="6143760" y="248760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. Antra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feld 56"/>
          <p:cNvSpPr/>
          <p:nvPr/>
        </p:nvSpPr>
        <p:spPr>
          <a:xfrm>
            <a:off x="7500960" y="2071800"/>
            <a:ext cx="150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. Prüfung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, Übermittlung Sperrlis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Gerade Verbindung mit Pfeil 61"/>
          <p:cNvCxnSpPr/>
          <p:nvPr/>
        </p:nvCxnSpPr>
        <p:spPr>
          <a:xfrm>
            <a:off x="3921120" y="1428840"/>
            <a:ext cx="2356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" name="Gerade Verbindung mit Pfeil 90"/>
          <p:cNvCxnSpPr/>
          <p:nvPr/>
        </p:nvCxnSpPr>
        <p:spPr>
          <a:xfrm flipH="1" flipV="1">
            <a:off x="3895200" y="1428480"/>
            <a:ext cx="2286720" cy="21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1" name="Textfeld 96"/>
          <p:cNvSpPr/>
          <p:nvPr/>
        </p:nvSpPr>
        <p:spPr>
          <a:xfrm>
            <a:off x="3649680" y="1515960"/>
            <a:ext cx="29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. Datenübermittlung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Zweipersonenverhältnis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Gerade Verbindung mit Pfeil 97"/>
          <p:cNvCxnSpPr>
            <a:stCxn id="187" idx="0"/>
            <a:endCxn id="186" idx="2"/>
          </p:cNvCxnSpPr>
          <p:nvPr/>
        </p:nvCxnSpPr>
        <p:spPr>
          <a:xfrm flipV="1">
            <a:off x="5891040" y="4714560"/>
            <a:ext cx="1681920" cy="9295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3" name="Textfeld 100"/>
          <p:cNvSpPr/>
          <p:nvPr/>
        </p:nvSpPr>
        <p:spPr>
          <a:xfrm>
            <a:off x="7072200" y="5000760"/>
            <a:ext cx="235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Ggf. Verlangen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von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Rücknahme / Widerru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Gerade Verbindung mit Pfeil 104"/>
          <p:cNvCxnSpPr>
            <a:stCxn id="182" idx="3"/>
            <a:endCxn id="186" idx="1"/>
          </p:cNvCxnSpPr>
          <p:nvPr/>
        </p:nvCxnSpPr>
        <p:spPr>
          <a:xfrm>
            <a:off x="3606480" y="3565080"/>
            <a:ext cx="2537640" cy="5835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cxnSp>
        <p:nvCxnSpPr>
          <p:cNvPr id="205" name="Gerade Verbindung mit Pfeil 107"/>
          <p:cNvCxnSpPr/>
          <p:nvPr/>
        </p:nvCxnSpPr>
        <p:spPr>
          <a:xfrm>
            <a:off x="3147840" y="1714320"/>
            <a:ext cx="2996640" cy="221508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6" name="Textfeld 110"/>
          <p:cNvSpPr/>
          <p:nvPr/>
        </p:nvSpPr>
        <p:spPr>
          <a:xfrm>
            <a:off x="4446720" y="344160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Sperr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feld 111"/>
          <p:cNvSpPr/>
          <p:nvPr/>
        </p:nvSpPr>
        <p:spPr>
          <a:xfrm>
            <a:off x="3798720" y="321156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Veranlass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Gerade Verbindung mit Pfeil 112"/>
          <p:cNvCxnSpPr/>
          <p:nvPr/>
        </p:nvCxnSpPr>
        <p:spPr>
          <a:xfrm>
            <a:off x="3147480" y="1714680"/>
            <a:ext cx="1561320" cy="39297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9" name="Textfeld 114"/>
          <p:cNvSpPr/>
          <p:nvPr/>
        </p:nvSpPr>
        <p:spPr>
          <a:xfrm>
            <a:off x="4383000" y="457200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Beschwe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 – Service Provider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E99C26B-819E-4CA9-B5F3-C29EE8A8365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kt 4"/>
          <p:cNvGraphicFramePr/>
          <p:nvPr/>
        </p:nvGraphicFramePr>
        <p:xfrm>
          <a:off x="2241720" y="4546440"/>
          <a:ext cx="1008000" cy="9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k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1720" y="4546440"/>
                    <a:ext cx="10080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kt 5"/>
          <p:cNvGraphicFramePr/>
          <p:nvPr/>
        </p:nvGraphicFramePr>
        <p:xfrm>
          <a:off x="6145200" y="4622760"/>
          <a:ext cx="85572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k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5200" y="462276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Grafik 11" descr=""/>
          <p:cNvPicPr/>
          <p:nvPr/>
        </p:nvPicPr>
        <p:blipFill>
          <a:blip r:embed="rId5"/>
          <a:stretch/>
        </p:blipFill>
        <p:spPr>
          <a:xfrm>
            <a:off x="1571760" y="3645000"/>
            <a:ext cx="1617480" cy="2049480"/>
          </a:xfrm>
          <a:prstGeom prst="rect">
            <a:avLst/>
          </a:prstGeom>
          <a:ln w="0">
            <a:noFill/>
          </a:ln>
        </p:spPr>
      </p:pic>
      <p:sp>
        <p:nvSpPr>
          <p:cNvPr id="217" name="Textfeld 14"/>
          <p:cNvSpPr/>
          <p:nvPr/>
        </p:nvSpPr>
        <p:spPr>
          <a:xfrm>
            <a:off x="7366680" y="5060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feld 16"/>
          <p:cNvSpPr/>
          <p:nvPr/>
        </p:nvSpPr>
        <p:spPr>
          <a:xfrm>
            <a:off x="2213280" y="55227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feld 12"/>
          <p:cNvSpPr/>
          <p:nvPr/>
        </p:nvSpPr>
        <p:spPr>
          <a:xfrm>
            <a:off x="5267520" y="2403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d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8"/>
          <p:cNvSpPr/>
          <p:nvPr/>
        </p:nvSpPr>
        <p:spPr>
          <a:xfrm flipV="1">
            <a:off x="1944720" y="2990880"/>
            <a:ext cx="1301760" cy="148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8"/>
          <p:cNvSpPr/>
          <p:nvPr/>
        </p:nvSpPr>
        <p:spPr>
          <a:xfrm>
            <a:off x="3268800" y="5060880"/>
            <a:ext cx="2671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uppieren 78"/>
          <p:cNvGrpSpPr/>
          <p:nvPr/>
        </p:nvGrpSpPr>
        <p:grpSpPr>
          <a:xfrm>
            <a:off x="2957400" y="1601640"/>
            <a:ext cx="5538960" cy="1365480"/>
            <a:chOff x="2957400" y="1601640"/>
            <a:chExt cx="5538960" cy="1365480"/>
          </a:xfrm>
        </p:grpSpPr>
        <p:sp>
          <p:nvSpPr>
            <p:cNvPr id="223" name="Gerade Verbindung 95"/>
            <p:cNvSpPr/>
            <p:nvPr/>
          </p:nvSpPr>
          <p:spPr>
            <a:xfrm flipV="1">
              <a:off x="3960720" y="2434320"/>
              <a:ext cx="141120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bgerundetes Rechteck 80"/>
            <p:cNvSpPr/>
            <p:nvPr/>
          </p:nvSpPr>
          <p:spPr>
            <a:xfrm>
              <a:off x="2957400" y="1994400"/>
              <a:ext cx="987480" cy="880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Abgerundetes Rechteck 81"/>
            <p:cNvGrpSpPr/>
            <p:nvPr/>
          </p:nvGrpSpPr>
          <p:grpSpPr>
            <a:xfrm>
              <a:off x="4145040" y="1961280"/>
              <a:ext cx="1121760" cy="1005840"/>
              <a:chOff x="4145040" y="1961280"/>
              <a:chExt cx="1121760" cy="1005840"/>
            </a:xfrm>
          </p:grpSpPr>
          <p:pic>
            <p:nvPicPr>
              <p:cNvPr id="226" name="Abgerundetes Rechteck 81" descr=""/>
              <p:cNvPicPr/>
              <p:nvPr/>
            </p:nvPicPr>
            <p:blipFill>
              <a:blip r:embed="rId6"/>
              <a:stretch/>
            </p:blipFill>
            <p:spPr>
              <a:xfrm>
                <a:off x="4145040" y="1961280"/>
                <a:ext cx="1121760" cy="100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>
                <a:off x="4224240" y="2036880"/>
                <a:ext cx="897120" cy="7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Abgerundetes Rechteck 82"/>
            <p:cNvSpPr/>
            <p:nvPr/>
          </p:nvSpPr>
          <p:spPr>
            <a:xfrm>
              <a:off x="5371920" y="1994400"/>
              <a:ext cx="988920" cy="880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Diagramm 83" descr=""/>
            <p:cNvPicPr/>
            <p:nvPr/>
          </p:nvPicPr>
          <p:blipFill>
            <a:blip r:embed="rId7"/>
            <a:stretch/>
          </p:blipFill>
          <p:spPr>
            <a:xfrm>
              <a:off x="4200120" y="1972800"/>
              <a:ext cx="865440" cy="92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feld 13"/>
            <p:cNvSpPr/>
            <p:nvPr/>
          </p:nvSpPr>
          <p:spPr>
            <a:xfrm>
              <a:off x="3948840" y="1601640"/>
              <a:ext cx="148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ID-Brok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Grafik 14" descr=""/>
            <p:cNvPicPr/>
            <p:nvPr/>
          </p:nvPicPr>
          <p:blipFill>
            <a:blip r:embed="rId8"/>
            <a:stretch/>
          </p:blipFill>
          <p:spPr>
            <a:xfrm>
              <a:off x="3207960" y="2041560"/>
              <a:ext cx="62208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Grafik 15" descr=""/>
            <p:cNvPicPr/>
            <p:nvPr/>
          </p:nvPicPr>
          <p:blipFill>
            <a:blip r:embed="rId9"/>
            <a:stretch/>
          </p:blipFill>
          <p:spPr>
            <a:xfrm>
              <a:off x="5703840" y="2026440"/>
              <a:ext cx="325440" cy="78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Grafik 98" descr=""/>
            <p:cNvPicPr/>
            <p:nvPr/>
          </p:nvPicPr>
          <p:blipFill>
            <a:blip r:embed="rId10"/>
            <a:stretch/>
          </p:blipFill>
          <p:spPr>
            <a:xfrm>
              <a:off x="6803280" y="2085120"/>
              <a:ext cx="169308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Line 28"/>
          <p:cNvSpPr/>
          <p:nvPr/>
        </p:nvSpPr>
        <p:spPr>
          <a:xfrm flipV="1">
            <a:off x="3141720" y="2990880"/>
            <a:ext cx="2724120" cy="1650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llipse 1"/>
          <p:cNvSpPr/>
          <p:nvPr/>
        </p:nvSpPr>
        <p:spPr>
          <a:xfrm>
            <a:off x="5580000" y="4076640"/>
            <a:ext cx="2592360" cy="2232000"/>
          </a:xfrm>
          <a:prstGeom prst="ellipse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Probleme des 2-Personen-Verhältnisses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Diensteanbieter (= jeder Cloud-Provider, jede Behörde, ggf. jedes Fachverfahren!) benötigt ein eigenes Berechtigungszertifikat, § 21 PAus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tragsverfahren und Betrieb des eID-Servers als Kostentre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KMUs als Cloud 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kleine Kommunen / Behö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erad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Chancen für die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stenvorteile durch nutzungsbezogene Abre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gf. sogar erstmalige Chance, bestimmte Dienstleistungen anzubieten, die sonst zu hohe Grundkosten hä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AC9D757-F20E-4857-B889-0E5B85D09B3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4"/>
          <p:cNvSpPr/>
          <p:nvPr/>
        </p:nvSpPr>
        <p:spPr>
          <a:xfrm>
            <a:off x="1290240" y="6297480"/>
            <a:ext cx="10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MS PGothic"/>
              </a:rPr>
              <a:t>Quelle: Hornu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von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8920" y="188640"/>
            <a:ext cx="752616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Personalausweisre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1 II 1 Nr. 2 PAuswG: „geschäftsmäßige Übermittlung der Daten“ rechtswidr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9 I Nr. 1 PAuswV: kein Zertifikat, wenn „der Zweck der Datenerhebung ausschließlich in der Auslesung oder Bereitstellung personenbezogener Daten aus dem Personalausweis                          für den Ausweisinhaber oder Dritte besteht“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6EC8BE0-D235-4D44-90E0-00F50FFD33C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feld 4"/>
          <p:cNvSpPr/>
          <p:nvPr/>
        </p:nvSpPr>
        <p:spPr>
          <a:xfrm>
            <a:off x="684360" y="314172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  <a:ea typeface="MS PGothic"/>
              </a:rPr>
              <a:t>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uroparechtliche Hürden?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ordnungsentwurf der Kommission: eIAS-V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zeptanzpflicht „notifizierter“ eID-Systeme anderer MS (Art. 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atliche e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Notifzierung von Systemen die „bestimmte technische Vorgaben“ machen bzw. kostenpflichtig sind (Art. 6 I 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ftung für „eindeutige Zuordnung der Personenidentifizierungsdaten“ und „Authentifizierungsmöglichkeit“ (Art. 6 I 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irkung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ndheitskarte, § 291a SGB 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, z.B. § 6 DeMail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Lösungsansätz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s Datenschutz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öderiertes ID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seudonymisierung und Anonym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sonalausweis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währleistung der selbstbestimmten Verfügung des Ausweisinha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AS-V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Schnittst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hne Nachteile eines zentralen „Gateways“ (ST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</a:t>
            </a: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az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gelöste Probleme des Datenschutzrechts im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hilfe zumindest im Bereich des ID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und föderiertes I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 vorteilh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: Chance und Risi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 Herausforder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ts Verfolgung eines interdisziplinäreren Ansatzes zur rechtskonformen Technikgest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E879E59-6780-4750-9215-7339C128037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614520" y="2162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264" name="Rectangle 17"/>
          <p:cNvSpPr/>
          <p:nvPr/>
        </p:nvSpPr>
        <p:spPr>
          <a:xfrm>
            <a:off x="1332000" y="7081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545120" y="692280"/>
            <a:ext cx="618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Herzlichen Dank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für Ihre Aufmerksamkeit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8"/>
          <p:cNvSpPr/>
          <p:nvPr/>
        </p:nvSpPr>
        <p:spPr>
          <a:xfrm>
            <a:off x="1332000" y="2205000"/>
            <a:ext cx="6696000" cy="4032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1340280" y="2205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Kontak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Grafik 16" descr=""/>
          <p:cNvPicPr/>
          <p:nvPr/>
        </p:nvPicPr>
        <p:blipFill>
          <a:blip r:embed="rId2"/>
          <a:stretch/>
        </p:blipFill>
        <p:spPr>
          <a:xfrm>
            <a:off x="1417680" y="5165640"/>
            <a:ext cx="2663640" cy="1000080"/>
          </a:xfrm>
          <a:prstGeom prst="rect">
            <a:avLst/>
          </a:prstGeom>
          <a:ln w="0">
            <a:noFill/>
          </a:ln>
        </p:spPr>
      </p:pic>
      <p:pic>
        <p:nvPicPr>
          <p:cNvPr id="269" name="Grafik 17" descr=""/>
          <p:cNvPicPr/>
          <p:nvPr/>
        </p:nvPicPr>
        <p:blipFill>
          <a:blip r:embed="rId3"/>
          <a:stretch/>
        </p:blipFill>
        <p:spPr>
          <a:xfrm>
            <a:off x="6516720" y="4976640"/>
            <a:ext cx="14400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270" name="Gruppieren 8"/>
          <p:cNvGrpSpPr/>
          <p:nvPr/>
        </p:nvGrpSpPr>
        <p:grpSpPr>
          <a:xfrm>
            <a:off x="2843280" y="2421000"/>
            <a:ext cx="3754440" cy="2484360"/>
            <a:chOff x="2843280" y="2421000"/>
            <a:chExt cx="3754440" cy="2484360"/>
          </a:xfrm>
        </p:grpSpPr>
        <p:sp>
          <p:nvSpPr>
            <p:cNvPr id="271" name="Rechteck 2"/>
            <p:cNvSpPr/>
            <p:nvPr/>
          </p:nvSpPr>
          <p:spPr>
            <a:xfrm>
              <a:off x="2843280" y="2421000"/>
              <a:ext cx="3754440" cy="241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feld 2"/>
            <p:cNvSpPr/>
            <p:nvPr/>
          </p:nvSpPr>
          <p:spPr>
            <a:xfrm>
              <a:off x="2898000" y="3459240"/>
              <a:ext cx="165600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/o Universiät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nnstr. 3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94032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lefon +49 851 509 2384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ephan.saedtler@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ni-passau.d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feld 21"/>
            <p:cNvSpPr/>
            <p:nvPr/>
          </p:nvSpPr>
          <p:spPr>
            <a:xfrm>
              <a:off x="4932360" y="3674880"/>
              <a:ext cx="1584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RA Stephan Sädtle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7f7f7f"/>
                  </a:solidFill>
                  <a:latin typeface="Arial"/>
                </a:rPr>
                <a:t>Wiss. M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Grafik 3" descr=""/>
            <p:cNvPicPr/>
            <p:nvPr/>
          </p:nvPicPr>
          <p:blipFill>
            <a:blip r:embed="rId4"/>
            <a:stretch/>
          </p:blipFill>
          <p:spPr>
            <a:xfrm>
              <a:off x="3019320" y="2673720"/>
              <a:ext cx="16606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Grafik 4" descr=""/>
            <p:cNvPicPr/>
            <p:nvPr/>
          </p:nvPicPr>
          <p:blipFill>
            <a:blip r:embed="rId5"/>
            <a:stretch/>
          </p:blipFill>
          <p:spPr>
            <a:xfrm>
              <a:off x="4792680" y="2717640"/>
              <a:ext cx="1579680" cy="4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Gerade Verbindung 24"/>
            <p:cNvSpPr/>
            <p:nvPr/>
          </p:nvSpPr>
          <p:spPr>
            <a:xfrm>
              <a:off x="4792680" y="3336840"/>
              <a:ext cx="0" cy="132372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Aussgangssituation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ahllose Geschäftsmode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allen Lebens- und Geschäftsbereic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neh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brauc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w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masse / Datenvielf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eile: Verfügbarkeit, Kos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teil: Kontrollverlust, Datenschutzrecht, etc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atenschutz und Datensicherheit im CC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personenbezogener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hebliche Probleme im Bereich des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äumlicher Anwendungsbereich, Verbotsprin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tragung, ADV (§ 3 VIII 3 i.V.m. § 11 BDS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ittstaatenverke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-organisatorische Maßnahmen (§ 9 BDS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ktorspezifische Besonderh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gegen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 II BS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nittstelle im Datenschutzrecht: § 9 BDSG und Anl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sonstige Da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Bedeutung des IDM im CC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e Schutzpflichten für personenbezogenen 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9 BDSG + An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bes. Zugangs-, Zugriffs- und Weitergabekontro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pflicht für Daten ohne Personenbezu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Betriebs- und Geschäftsgeheimni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tragliche Vereinbar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isrec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Empfehlungen des BSI: (siehe nächste Fol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B28C86D-8DE6-4FED-801D-F8ACA943963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324000" y="1208160"/>
            <a:ext cx="3506760" cy="4998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3951360" y="1846440"/>
            <a:ext cx="5079960" cy="3238200"/>
          </a:xfrm>
          <a:prstGeom prst="rect">
            <a:avLst/>
          </a:prstGeom>
          <a:ln w="0">
            <a:noFill/>
          </a:ln>
        </p:spPr>
      </p:pic>
      <p:sp>
        <p:nvSpPr>
          <p:cNvPr id="168" name="Abgerundetes Rechteck 2"/>
          <p:cNvSpPr/>
          <p:nvPr/>
        </p:nvSpPr>
        <p:spPr>
          <a:xfrm>
            <a:off x="3951360" y="2492280"/>
            <a:ext cx="507996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bgerundetes Rechteck 8"/>
          <p:cNvSpPr/>
          <p:nvPr/>
        </p:nvSpPr>
        <p:spPr>
          <a:xfrm>
            <a:off x="3951360" y="4581360"/>
            <a:ext cx="507996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von elektronischer Ausweise als technisch-organisatorische Maßnahme – Forschungsprojekt „SkIDentity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atenschutzrechtlicher Umgang Identitätsdaten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undsätzlich entsprechend Cloud-Inhal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äumlicher Anwendungsbereich, Verbotsprin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mittlung, ADV § 3 VIII 3 i.V.m. § 11 BD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mittlung in unsichere Drittsta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-organisatorische Maßnahmen § 9 BDS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ktorspezifische Besonderh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onderes Gefährdungspotent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chiedliche Behandlu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Stephan Sädtler</cp:lastModifiedBy>
  <cp:lastPrinted>2011-02-11T13:07:56Z</cp:lastPrinted>
  <dcterms:modified xsi:type="dcterms:W3CDTF">2013-09-09T09:14:55Z</dcterms:modified>
  <cp:revision>650</cp:revision>
  <dc:subject>Unternehmenspräsentation</dc:subject>
  <dc:title>secunet</dc:title>
</cp:coreProperties>
</file>