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13"/>
          </p:nvPr>
        </p:nvSpPr>
        <p:spPr>
          <a:xfrm>
            <a:off x="401940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Img"/>
          </p:nvPr>
        </p:nvSpPr>
        <p:spPr>
          <a:xfrm>
            <a:off x="998280" y="769680"/>
            <a:ext cx="51116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8640" cy="4601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ftr" idx="14"/>
          </p:nvPr>
        </p:nvSpPr>
        <p:spPr>
          <a:xfrm>
            <a:off x="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 type="sldNum" idx="15"/>
          </p:nvPr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37251-1D6F-434B-A453-BFC26A6F03D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FB26B-F2C0-441F-AF55-0D28B988C2E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D0D44-62D1-4A5A-A70E-347A82966CE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4F476-5831-42CE-98D2-9E2FBF07CA4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13A3-1AF0-475D-9C5B-BF06A78B4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9910-DF24-483C-BE30-A9EBA2DFFB9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D9C5D-9A6E-4976-9299-510EDE2C702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00254-2A72-4E07-A46E-005B4B7B6A3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C3D72-1E77-4871-B420-4D15EFEA0F2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31139B-67DC-4E09-ABE7-792889753AB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3BDA1-63E3-41D3-BE66-00960B13015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4D2FC6-272A-46D7-B3EC-96C6FB11167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99EC8-0B59-4899-B89B-8BAE8E48027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17173-5247-4B81-A152-DECBFD66C39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ADCB2-08AB-4748-AE01-1A966AC7406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BDAEE-5EDA-47DF-BEE0-47E121162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7418-A159-4FA6-BF31-AC1302E57D9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17E8B-815F-4534-ACB3-06EFF7E748C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8DAC1-DE8C-4852-B396-9A7B8A52BF0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92E2F-B643-4F99-924B-1FC86036CB8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3A7D9-88C5-4E3E-A3C2-31AF53862F8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38BB4-7CE7-499F-8B8B-026C6516383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DA5C4-A4A8-4821-ACED-6AE1F5A2795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595F5-C4BB-4777-84E8-CD1DB3D38AE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048D4-C4B9-486D-A568-A99F40EC94B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22E5B-1563-484D-9E85-E47B22820D8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708C0-3C3D-4480-900E-1CE2C0317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C307-92FC-41AF-9E76-24BF435FB05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F76E0-8F32-45A1-8B20-6B161F13750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914703-7BDF-4BE3-835A-A24E462B28C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934AFB-3CC6-45DD-9E1C-CA0E0FFA3A1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120FA3-033E-46AA-AE6A-4D183EA45BE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612FD9-7DBE-468C-8617-7CCA7405A65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CBE3B7-42E7-4446-9C95-8606B1403D9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A91745-E6F6-48E1-A6AD-C1013CAF54A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41FEDE-5A40-4A77-B29B-197AECA05E4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746686-B0AB-4B3B-A6CD-C49ED092619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9F59A4-03F3-4224-B639-FD144522C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9E90D5-F241-4402-9770-B8DDEFAF601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957BAF-F23E-47BF-8137-115ED7C87C5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9DB329-8016-4B6B-B174-A48FDBBBED1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D9AD0B-ED21-4B2B-BDCA-AF0AC7166A1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14DBFB-C4D5-449D-9E7A-81F22EB769B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87C1EE-5B10-4B8D-B459-BADC8308D3E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3DA9A6-1149-4B9A-95C1-756908761D6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447960-CEDD-4E07-9CF9-B28A68D08B1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C35E2C-0545-4EB4-BC23-C8B2FAD7E84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8C9A1B-3881-4677-AD45-D2A7214EAA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BA337-646C-4A17-85D1-EC7C43D9782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57902D-0AEA-4805-8E4D-49EA32BAA55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23125D-C54D-4506-90E1-DEE170AD8AF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F4EF8D-BBE0-4E8E-A67B-61753C9B0D1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8D5B0B-AD69-4AC4-88FF-2AC55CBA889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7D45F-D4B2-4EB2-A71E-9826FA938D0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9AE91-36CD-4C74-9AA4-637724ECDB1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224A9-D03A-4AE5-9D2A-2DCFF244C61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FB867-6B7C-4751-A56B-7894C5BFDE7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B93D7-88E9-4825-A5B8-B8FAB5B13E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CC882-799E-448A-830B-64D1F54A22A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E11CD-2C08-44A8-865C-B44E363AC6A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DAFBF-57F7-4F1A-94A1-14728BA07DA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66E86-B284-4C63-97C1-014AFCA7BEC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017B4-6D62-4C35-95CC-AD92D6754BA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9238D-00E2-4C9F-BCA5-6AC18B140A9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A8023-A851-4768-A597-EF31AF49FA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7C68-0C43-42B5-B089-F3BE93D09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EA9C3-6ED9-4A68-80ED-F5405B9B66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00609-6092-4599-B870-D3C888DCAC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5F8AF-F533-483E-AF9D-BF7953311F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26DAC-E0EF-440F-BF57-251F894E0F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6EAE5-DE9D-405E-A537-04B1C31736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6F68-E40C-4C90-B5E8-9AF27713F6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9986-3BCD-45A9-9D27-9C19968F92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96ACA-3139-4C75-9584-6F69C9A3E0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DC9B5-0A21-48CE-BC79-6F2BF42EDB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A6EC4-280A-4837-9F76-5B10819DAB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DE05F-99C4-46A7-941D-7B928582C4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39C68-B18F-4F96-823E-8E0EB8874C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4142F-D2F5-4579-8678-9043EA8146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4A5-8858-4B16-9606-A4A9F2C67B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3EBD-DE7F-4CEB-B5B0-1E062486692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E0F5-98F9-41E8-AA0E-FF08B93EF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FAAD-D5C7-4714-A232-A8E798BC210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26D-5992-4C96-A85F-1FA0490EA0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683F-B792-417C-A4C7-D6AB3D1A457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F854-EACF-4E4E-B840-8D75228C22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9A76-5A05-462E-997E-CE3CDD7AF0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EB52-E1E5-48EC-A294-26D2FC454F5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C176-6C5E-4F52-A63C-7191F94C16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594-7840-4E9E-82D7-B8FE41307F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3648-A6CB-493F-BD79-C68F453939E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728-3867-43E9-855B-F6FC81EA8A2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C1101-7B8E-4CF8-8A80-8B6E4FE36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72D1-EE93-42E6-B00F-29D585C9546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E1437-3ED7-4376-AE68-03DBADB77ED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73167-E912-4F78-B036-BA2DCA2BFE2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E3871-0D1A-4638-B09D-A40AB3CAEE9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F3A09-3603-4A64-84EA-9CE9D993486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DAE0F-DF42-4A2C-BFA8-571ED69B704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CA621-7ACB-4524-B422-C84E3BA39A1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2217D-4107-4F77-8CD4-E3544C4DC41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B0AD1-444E-492B-8120-7529AE1B672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FE1B1-09FB-4059-BFA4-10023518C46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BF062-27EE-42D9-B581-28B5DB555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4DCB-935A-4102-935A-FA3A84EF380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3B670-A640-44FA-8373-B20FA1F1D4A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85FE1-D462-439F-9F45-50206B86FC7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7789D-5148-4516-8CD9-8F6E5FE7A94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83032-85F5-445D-BF5F-365F1D3A3DA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6C4AA-ACDD-44C6-B304-EA0C57C2F7B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4AB96-0448-4573-A91A-74410AE1665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10ECF-FC22-401F-9C87-374ADBD4270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AF5FB-50B3-46BB-A5E3-450105878A6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BB131-ADAA-421B-B63F-892AD258D90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FFCA6-F75F-4D07-8132-FC2AE4EFF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CB0D-0754-4E09-8E2D-22A963CCB90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CE5E3-5E73-43CA-A198-9A095A8D9B6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E8FB3-0001-4320-BC68-DFE5FA078AE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D1702-51FE-4606-8A67-88622CB42C1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5DFF-7265-4B9B-BF6F-E99D42B0ACE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66A3-66F3-4A1B-AB9A-736709A7CA3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5408-CC4F-45BB-A1F5-5E352FB90AE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AAD9-9EB5-421D-B30A-788C5A14825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D801-D92E-405C-B2F7-DC25DE78D41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32E8-982A-459F-9028-DBDD4386C48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BA44-7ACC-43CE-8A0B-24C3C3A9A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B6CE-DCA6-44F1-8ECF-B7F18823D7B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BA44-BC6B-40A3-AC72-4AA4BB60F3F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13FE-521C-4758-BB3C-E4CC76824B3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539E-50B7-4A8E-808C-34D748A2873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3406-0B1E-4AB5-AD59-DD6CB53CAB7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9286-D07C-4367-971B-99232448C76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09168B-6425-41C7-98B4-41F5BBFFA7E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E8EBCB-0E96-4F64-A6C2-FE197E80934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67E2D2-759E-415C-8DB5-E1C7D5468C1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745A48-91BD-445E-9E2F-03ED4B228D8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73BE87-B258-44A8-8F67-DB38BE545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2D24-BD7C-498E-85F0-41051BD5548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0E33AC-47A5-4BF6-9334-3734132C6D4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5BD887-C4FF-4D07-B142-F45492911CA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446BDD-8C56-4555-8CE9-43241551D7C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48A799-4519-474B-9670-95384CF1EC6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44C1B3-E158-4D5D-A216-B3AA348135D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97C773-76D4-4BA9-AF91-F58D985E86D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C92DE8-3915-4F1D-B6F9-E5520B8D142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550BC-2D3A-49E8-AA84-0F1FED2A61A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3C2F1-9DCD-435B-A778-3B22AF90E9C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3886E-9DAD-4048-8589-F10E2C016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 </a:t>
            </a:r>
            <a:fld id="{7F5A344A-4B12-484C-95EC-F4A366B37758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9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7E8C4938-FC41-49A7-9CFA-2D57F77B9136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0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F9308FB6-02C0-4071-8632-C3B66A44BB81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E2435C90-EA34-4B4B-897C-D63387E24D24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1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EEEB5DBA-A4F6-426E-8E0F-EAD8F31D2D37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544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4160" y="2577600"/>
            <a:ext cx="7770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56" name="Text Box 8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174DBE4F-25DC-48BE-9FB1-89496672E999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3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2EFFF99D-576B-4D30-AB21-03D198C5A001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4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0817C8ED-1833-4F25-940E-491D981CEDAA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5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B6A309EF-40A1-4A5A-833C-884A1F39715B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6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CFF8994B-F504-4E55-830A-9DE134935D1A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7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0775276D-DAE5-46DB-B5FE-9FBDBFAE202A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8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94192AA3-D20C-4699-A483-596ABC957B03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openidentity.eu/" TargetMode="External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4920" y="3141360"/>
            <a:ext cx="8529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Neuigkeiten aus dem </a:t>
            </a:r>
            <a:br>
              <a:rPr sz="36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Open eCard Projekt</a:t>
            </a:r>
            <a:br>
              <a:rPr sz="3600"/>
            </a:br>
            <a:br>
              <a:rPr sz="6000"/>
            </a:b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16.05. 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Gruppieren 5"/>
          <p:cNvGrpSpPr/>
          <p:nvPr/>
        </p:nvGrpSpPr>
        <p:grpSpPr>
          <a:xfrm>
            <a:off x="3995640" y="1474920"/>
            <a:ext cx="1327320" cy="1325520"/>
            <a:chOff x="3995640" y="1474920"/>
            <a:chExt cx="1327320" cy="1325520"/>
          </a:xfrm>
        </p:grpSpPr>
        <p:sp>
          <p:nvSpPr>
            <p:cNvPr id="655" name="Abgerundetes Rechteck 4"/>
            <p:cNvSpPr/>
            <p:nvPr/>
          </p:nvSpPr>
          <p:spPr>
            <a:xfrm>
              <a:off x="3995640" y="1474920"/>
              <a:ext cx="1327320" cy="1325520"/>
            </a:xfrm>
            <a:prstGeom prst="roundRect">
              <a:avLst>
                <a:gd name="adj" fmla="val 2192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6" name="Grafik 5" descr=""/>
            <p:cNvPicPr/>
            <p:nvPr/>
          </p:nvPicPr>
          <p:blipFill>
            <a:blip r:embed="rId1"/>
            <a:stretch/>
          </p:blipFill>
          <p:spPr>
            <a:xfrm>
              <a:off x="3995640" y="1474920"/>
              <a:ext cx="1327320" cy="132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608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3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2013120" y="1052640"/>
            <a:ext cx="5584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519F5D25-F3B6-4962-B2E0-901C75690CC4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03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05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142920" y="1700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99128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Version 1.0.2     heute um 11:37 Uhr veröffentlich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1"/>
          <a:stretch/>
        </p:blipFill>
        <p:spPr>
          <a:xfrm>
            <a:off x="450720" y="1557360"/>
            <a:ext cx="8224920" cy="3757680"/>
          </a:xfrm>
          <a:prstGeom prst="rect">
            <a:avLst/>
          </a:prstGeom>
          <a:ln w="0">
            <a:noFill/>
          </a:ln>
        </p:spPr>
      </p:pic>
      <p:sp>
        <p:nvSpPr>
          <p:cNvPr id="711" name="Textfeld 3"/>
          <p:cNvSpPr/>
          <p:nvPr/>
        </p:nvSpPr>
        <p:spPr>
          <a:xfrm>
            <a:off x="2843280" y="17784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535F0538-94B6-4412-9B2B-CC7D33C7D0A1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21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14"/>
          <p:cNvSpPr/>
          <p:nvPr/>
        </p:nvSpPr>
        <p:spPr>
          <a:xfrm>
            <a:off x="142920" y="213192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rweiterbarkeit über Plugi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	</a:t>
            </a:r>
            <a:fld id="{9F55CD27-0170-42EC-AF1A-0F54779B4572}" type="slidenum">
              <a:rPr b="0" lang="de-DE" sz="18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Grafik 1" descr=""/>
          <p:cNvPicPr/>
          <p:nvPr/>
        </p:nvPicPr>
        <p:blipFill>
          <a:blip r:embed="rId1"/>
          <a:stretch/>
        </p:blipFill>
        <p:spPr>
          <a:xfrm>
            <a:off x="395280" y="1123920"/>
            <a:ext cx="84614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3" descr=""/>
          <p:cNvPicPr/>
          <p:nvPr/>
        </p:nvPicPr>
        <p:blipFill>
          <a:blip r:embed="rId1"/>
          <a:stretch/>
        </p:blipFill>
        <p:spPr>
          <a:xfrm>
            <a:off x="684360" y="1193760"/>
            <a:ext cx="7920000" cy="457848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81000" y="58050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eadline für Call for Papers: </a:t>
            </a:r>
            <a:r>
              <a:rPr b="1" lang="de-DE" sz="2800" spc="-1" strike="noStrike">
                <a:solidFill>
                  <a:srgbClr val="00ff00"/>
                </a:solidFill>
                <a:latin typeface="Arial"/>
              </a:rPr>
              <a:t>02.06.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A4EC5880-DF85-45D6-A669-CDB4A53D76FA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itel 1"/>
          <p:cNvSpPr/>
          <p:nvPr/>
        </p:nvSpPr>
        <p:spPr>
          <a:xfrm>
            <a:off x="1701720" y="260280"/>
            <a:ext cx="7128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  <a:ea typeface="Arial"/>
              </a:rPr>
              <a:t>Open Identity Summit 20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hteck 1"/>
          <p:cNvSpPr/>
          <p:nvPr/>
        </p:nvSpPr>
        <p:spPr>
          <a:xfrm>
            <a:off x="5148360" y="4724280"/>
            <a:ext cx="3816360" cy="10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feld 7"/>
          <p:cNvSpPr/>
          <p:nvPr/>
        </p:nvSpPr>
        <p:spPr>
          <a:xfrm>
            <a:off x="4041000" y="4941720"/>
            <a:ext cx="3948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openidentity.e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an-in-the-Middle-Angriff gegen SAML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7" name="Grafik 4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89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itM@SAML (reloaded?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9" name="Grafik 3" descr=""/>
          <p:cNvPicPr/>
          <p:nvPr/>
        </p:nvPicPr>
        <p:blipFill>
          <a:blip r:embed="rId1"/>
          <a:stretch/>
        </p:blipFill>
        <p:spPr>
          <a:xfrm>
            <a:off x="468360" y="1104840"/>
            <a:ext cx="8023320" cy="5400720"/>
          </a:xfrm>
          <a:prstGeom prst="rect">
            <a:avLst/>
          </a:prstGeom>
          <a:ln w="0">
            <a:noFill/>
          </a:ln>
        </p:spPr>
      </p:pic>
      <p:grpSp>
        <p:nvGrpSpPr>
          <p:cNvPr id="740" name="Gruppieren 6"/>
          <p:cNvGrpSpPr/>
          <p:nvPr/>
        </p:nvGrpSpPr>
        <p:grpSpPr>
          <a:xfrm>
            <a:off x="5580000" y="3457440"/>
            <a:ext cx="419040" cy="1195560"/>
            <a:chOff x="5580000" y="3457440"/>
            <a:chExt cx="419040" cy="1195560"/>
          </a:xfrm>
        </p:grpSpPr>
        <p:pic>
          <p:nvPicPr>
            <p:cNvPr id="741" name="Picture 2" descr=""/>
            <p:cNvPicPr/>
            <p:nvPr/>
          </p:nvPicPr>
          <p:blipFill>
            <a:blip r:embed="rId2"/>
            <a:stretch/>
          </p:blipFill>
          <p:spPr>
            <a:xfrm>
              <a:off x="5580000" y="3457440"/>
              <a:ext cx="419040" cy="495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42" name="Gerade Verbindung mit Pfeil 5"/>
            <p:cNvCxnSpPr/>
            <p:nvPr/>
          </p:nvCxnSpPr>
          <p:spPr>
            <a:xfrm>
              <a:off x="5789160" y="3952440"/>
              <a:ext cx="1080" cy="7009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	</a:t>
            </a:r>
            <a:fld id="{F79BC3DD-5A02-42E0-868D-CDA2BF907433}" type="slidenum">
              <a:rPr b="1" lang="de-DE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cc99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10"/>
          <p:cNvSpPr/>
          <p:nvPr/>
        </p:nvSpPr>
        <p:spPr>
          <a:xfrm>
            <a:off x="33120" y="6524640"/>
            <a:ext cx="20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© 2013 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753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MS PGothic"/>
              </a:rPr>
              <a:t>Kontak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4"/>
          <p:cNvSpPr/>
          <p:nvPr/>
        </p:nvSpPr>
        <p:spPr>
          <a:xfrm>
            <a:off x="1545120" y="11080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für Ihre Aufmerksamkeit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AFE57D2C-24C5-41B3-A932-9A8B56A71576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hteck 2"/>
          <p:cNvSpPr/>
          <p:nvPr/>
        </p:nvSpPr>
        <p:spPr>
          <a:xfrm>
            <a:off x="2843280" y="3141720"/>
            <a:ext cx="3754440" cy="241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feld 2"/>
          <p:cNvSpPr/>
          <p:nvPr/>
        </p:nvSpPr>
        <p:spPr>
          <a:xfrm>
            <a:off x="2899440" y="4365720"/>
            <a:ext cx="1739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c/o ecsec Gmb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Sudetenstraße 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96247 Michela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Telefon +49 9571 89647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obil    +49 171 975498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detlef.huehnlein@ecsec.d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feld 21"/>
          <p:cNvSpPr/>
          <p:nvPr/>
        </p:nvSpPr>
        <p:spPr>
          <a:xfrm>
            <a:off x="4932360" y="4395960"/>
            <a:ext cx="158436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r. Detlef Hühnlei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7f7f7f"/>
                </a:solidFill>
                <a:latin typeface="Arial"/>
              </a:rPr>
              <a:t>Projektleit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Gerade Verbindung 24"/>
          <p:cNvSpPr/>
          <p:nvPr/>
        </p:nvSpPr>
        <p:spPr>
          <a:xfrm>
            <a:off x="4792680" y="4057560"/>
            <a:ext cx="0" cy="13240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2" name="Grafik 1" descr=""/>
          <p:cNvPicPr/>
          <p:nvPr/>
        </p:nvPicPr>
        <p:blipFill>
          <a:blip r:embed="rId2"/>
          <a:stretch/>
        </p:blipFill>
        <p:spPr>
          <a:xfrm>
            <a:off x="3471840" y="3314880"/>
            <a:ext cx="763560" cy="763560"/>
          </a:xfrm>
          <a:prstGeom prst="rect">
            <a:avLst/>
          </a:prstGeom>
          <a:ln w="0">
            <a:noFill/>
          </a:ln>
        </p:spPr>
      </p:pic>
      <p:sp>
        <p:nvSpPr>
          <p:cNvPr id="763" name="Textfeld 25"/>
          <p:cNvSpPr/>
          <p:nvPr/>
        </p:nvSpPr>
        <p:spPr>
          <a:xfrm>
            <a:off x="3351240" y="404820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pen eCar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Grafik 4" descr=""/>
          <p:cNvPicPr/>
          <p:nvPr/>
        </p:nvPicPr>
        <p:blipFill>
          <a:blip r:embed="rId3"/>
          <a:stretch/>
        </p:blipFill>
        <p:spPr>
          <a:xfrm>
            <a:off x="4721400" y="3476520"/>
            <a:ext cx="1579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1F29E570-3454-45ED-A2F2-8645CF7242AA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66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14"/>
          <p:cNvSpPr/>
          <p:nvPr/>
        </p:nvSpPr>
        <p:spPr>
          <a:xfrm>
            <a:off x="14292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-6480" y="-27000"/>
            <a:ext cx="9201240" cy="5472000"/>
          </a:xfrm>
          <a:prstGeom prst="rect">
            <a:avLst/>
          </a:prstGeom>
          <a:ln w="0">
            <a:noFill/>
          </a:ln>
        </p:spPr>
      </p:pic>
      <p:sp>
        <p:nvSpPr>
          <p:cNvPr id="674" name="Textfeld 1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618920" y="2095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ource: http://source.openecard.or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6" name="Picture 2" descr=""/>
          <p:cNvPicPr/>
          <p:nvPr/>
        </p:nvPicPr>
        <p:blipFill>
          <a:blip r:embed="rId1"/>
          <a:stretch/>
        </p:blipFill>
        <p:spPr>
          <a:xfrm>
            <a:off x="324000" y="1155600"/>
            <a:ext cx="858204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eu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8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57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lt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521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" descr=""/>
          <p:cNvPicPr/>
          <p:nvPr/>
        </p:nvPicPr>
        <p:blipFill>
          <a:blip r:embed="rId2"/>
          <a:stretch/>
        </p:blipFill>
        <p:spPr>
          <a:xfrm>
            <a:off x="0" y="-17640"/>
            <a:ext cx="9140760" cy="5750280"/>
          </a:xfrm>
          <a:prstGeom prst="rect">
            <a:avLst/>
          </a:prstGeom>
          <a:ln w="0">
            <a:noFill/>
          </a:ln>
        </p:spPr>
      </p:pic>
      <p:sp>
        <p:nvSpPr>
          <p:cNvPr id="687" name="Textfeld 4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1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5675400" cy="53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dcterms:modified xsi:type="dcterms:W3CDTF">2013-05-20T21:30:11Z</dcterms:modified>
  <cp:revision>583</cp:revision>
  <dc:subject>Unternehmenspräsentation</dc:subject>
  <dc:title>secunet</dc:title>
</cp:coreProperties>
</file>