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AutoShape 1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0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dt" idx="13"/>
          </p:nvPr>
        </p:nvSpPr>
        <p:spPr>
          <a:xfrm>
            <a:off x="4019400" y="0"/>
            <a:ext cx="3076560" cy="50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sldImg"/>
          </p:nvPr>
        </p:nvSpPr>
        <p:spPr>
          <a:xfrm>
            <a:off x="998280" y="769680"/>
            <a:ext cx="5111640" cy="383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78640" cy="4601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 type="ftr" idx="14"/>
          </p:nvPr>
        </p:nvSpPr>
        <p:spPr>
          <a:xfrm>
            <a:off x="0" y="972036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6"/>
          <p:cNvSpPr>
            <a:spLocks noGrp="1"/>
          </p:cNvSpPr>
          <p:nvPr>
            <p:ph type="sldNum" idx="15"/>
          </p:nvPr>
        </p:nvSpPr>
        <p:spPr>
          <a:xfrm>
            <a:off x="4019400" y="972036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DAF0DE-A3F8-49A1-AC8B-F1DD338D437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7"/>
          <p:cNvSpPr/>
          <p:nvPr/>
        </p:nvSpPr>
        <p:spPr>
          <a:xfrm>
            <a:off x="4019400" y="972036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07C4D8-76E8-42E2-A8B0-CB14DEC521B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998640" y="770040"/>
            <a:ext cx="5113080" cy="383544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7"/>
          <p:cNvSpPr/>
          <p:nvPr/>
        </p:nvSpPr>
        <p:spPr>
          <a:xfrm>
            <a:off x="4019400" y="972036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E90003-80D3-4B16-B603-E92384959B3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998640" y="770040"/>
            <a:ext cx="5113080" cy="383544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4019400" y="972036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3637D8-1900-4D0C-8098-F7A8D266282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998640" y="770040"/>
            <a:ext cx="5113080" cy="383544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EF8B2-E3B1-4F52-9857-AA2E0260AF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29AE0-9628-4EF3-B62C-A6F9506924EF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1A51F0-C870-41BD-8962-E34F2AE70F0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C39B48-D50B-45D7-8F04-A11FCD9ECA7E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48209A-CB67-43A2-AD47-C293008EC4BB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11CEA2-B52F-4E92-BD8D-B677167993E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63245E-B126-4F22-A17F-B924126314B9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8B2251-2F43-480B-B973-0C54ECA980EB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369115-DC32-46F0-A668-B632D62BE3E3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532332-72F8-463E-993F-E5EB926F2032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240EBF-F3F3-43D9-94E7-C718882B53BD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46A75-762B-4299-B227-A046FA7DE9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47644-D4B4-4977-B792-67A3D6119864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8D94E-DD10-43E6-88A1-717E4EB52AF6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52BA9-ECD5-4359-A333-F4A0EF382042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57897-18E9-44C2-91F0-6F89C7754993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AF1BB-49E9-4601-B5FE-4757F1E642F4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87E0F-EE03-4D64-972D-DF87ACD9A207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0CF8E-A366-47F8-941C-62A7DF9CB41B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62A71-1F56-4E63-B101-78096748F335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27366-7659-4282-9DE4-E1B379515AAF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2B053-7212-4589-B700-D54B158EA8FB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31AB2-29E2-4806-8A4B-77162F3639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4453C-AD38-48F4-9EBC-0572864DB40E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6EF4D-5522-4914-80DC-EAE5F4FF2260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B76EC7-0E62-476D-B3BF-611835E753D6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19F513-B3EF-4F86-8FC5-125CC94471D9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EAD2C2-AA0A-40B1-8CA4-4F372BACC7A4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BAC767-3AB2-4B4B-87D0-C57E6372C55B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05723B-8392-4861-B482-5CE8AC8ECB45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581F17-F033-497F-9FCC-CF5A8BCCD8BF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4D1B3B-27B5-4A33-9709-734E38F03B39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F3289C-4CBA-4DD5-8408-3DD1B54C8049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63E19F-825D-4353-B2A0-688140A102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8EA9DA-3A55-4167-815E-47BF1CA0902A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679E99-BA01-48BD-BB07-79541CDF8D53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F45BFB-37ED-4332-A01A-904AF1E6E717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43BBC7-D189-41F8-945C-D0E890601B0A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AEB499-93F2-4F10-9EFA-040EEA3780CF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36632F-1D92-4E42-BDF1-9532F286A389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CA4829-A0E6-47E2-A138-490E1FBBC44B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79360E-4A7D-4197-A2B9-72FE554EF4C6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4B162A-D1F8-4AD3-A33F-896661BECF46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CBAB0F-5F93-49F5-8607-0E15A6C04D9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B50ACA-9414-4AAE-876C-5F04FF84B567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1DFF72-9BC7-4A73-9FF6-375C3ED3ADB3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226818-2A8B-4FF6-8FCD-BA343F1A73E0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8E8F18-9737-4845-B6E8-46F4498B5708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5915A2-007B-4638-B058-AC8616E6E02E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87925-E7F8-4EFC-A05F-80A0A8A70A5E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27000-A6B4-4FAE-8A08-F502F1997570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47675-0F8C-4289-A270-59DF0FDAB2A9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AE4C1-3304-46FD-BBF1-168399CA252A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18361-E84C-4C9B-A8E9-9CF29C23E91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83013-763E-47D1-BD13-4752F1772116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359FC-D164-4B79-A22E-D6CB77C91FD1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B46A1-59F2-45D3-9D9B-8D9C8562E2A5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9FE7B-5ECB-4F39-A269-0089CF8E8AD2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63B83-3C3C-4C74-8238-91610AB8A940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E62E9-2740-4B20-B7B6-35CD02CDB20D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BBD2A-DF43-48E1-B53C-6CDD867737E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D66DA-D3E9-47D7-A036-698945A66D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E75A4-E11A-4373-A606-32E3C533C76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A4A2B-239C-4B9C-9BBC-414AE19F19A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1CD0B-B531-4CE0-A73C-EE87D34D815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B8086-0C34-4297-98B2-1805B2FD57D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BB0BF-18CE-46E9-AA2A-47E7F7E2D7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36A67-C32D-428E-8952-0D6BC6F660B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00BBA-117F-40AF-B239-A4D3C7D176D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56BA1-7269-4F85-A0CA-DCAA3ED3E30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84FA9-7A3C-4FD3-8D17-EFF5A11620F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E38EC-20FC-4474-8170-60CBDB33F41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F1D65-6639-43F8-8355-E31E3349F59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7369A-228F-445A-B0D7-8C34428D216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4D792-DC80-4C8A-9239-1754FAD9E89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7BA5-3B66-4688-894E-CB6C5954C25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5AC9-524F-4FE5-BB73-B1CAD3B358C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02C4-3F9C-4CF8-92D3-0E5CDE0DF8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1F78F-330E-42E4-A1ED-737301CB7FF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4F89-85B5-4ADF-B72A-5DCD53CD317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1E8E-6B59-46B0-9F16-909E513A41C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EF4E-FE65-43CD-A19A-978F3953D38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1079-CC22-4F9A-8E92-E257D55EF80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C97A-2E8F-4763-BF71-31C94D0B058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1F9E-669B-408E-8639-27AE2525A30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E88D-5340-4F04-8C68-837C1F212CA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984B-BA62-4E30-AA0E-E22481113CC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B2FB-1038-46EE-925A-21EB75179EE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C2183B-F8CD-403E-B05A-93D7F89C27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A6F1B-A13E-4533-BA5C-418AA8DDEF9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3A8CC0-510E-4048-ADB9-0AB4FE0BA3C1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A991D8-2002-43EE-BB0A-AFB8D1577EF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FE5715-F76B-40B3-8FBE-8573BF69FCE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EE232C-4398-4CFD-9FAD-0D5310821A40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1B6A13-7A6F-40BD-8673-63EAB04DA4C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382E9D-38DD-41F0-8FCF-18159B4539F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0BA0B2-C7E4-4DBC-94A4-B37BA05E6E0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90F7E7-8B0A-4647-9B66-A253BDB2B65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C409EF-46D9-4811-9BB4-CDAFDA118B3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789678-984F-4261-8E21-EFEA802667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58078-5C3D-4D8D-BA55-44B321246E1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0ADA99-F13D-44CD-ACED-21DF9BCBBC0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B536EC-D534-4926-9677-3340F4A8752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484942-5B68-4988-A2A3-52334688C1C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E7BCDF-8665-4432-8B45-BCF2AD2F54F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1BB40C-D37D-4A55-8B3B-D511942341F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E713E6-3984-424A-B6A2-886D6A998F9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37486A-9525-4E20-877E-FB8750BAF9D3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8D1262-4AD3-433D-85C0-32F8A548EE4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0A3B52-8FE0-4EEE-B362-A0B2FC6846C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15F112-94B1-410E-B827-C721BB294E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47E68-9B5F-4CAD-B2C3-5386E5BB664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A4A558-3657-40AF-A892-33E7167AE75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028CDC-7C7D-4FCA-8AD5-58F02A9A0C6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FF5EFD-8B45-48FF-8A6B-A0F31AA5C94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21F0F-AC02-41CF-8785-AA34CA4FBEB6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4DCF7-4B5F-4BD8-AAEC-05AC2F2049F1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C5306-D3C1-4D6E-82E7-64F05129B4FE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2EC1A-E73A-4B65-8F3A-A6CE59984BBE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407F0-146F-4D6A-97A0-BECF0DF6E56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B5128-EB5A-49A3-A948-B5EFDEFE899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568EE-CF5C-4DB1-87B5-7158942006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1F517-91B2-43B0-894C-8B2B10A9641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809B1-427E-4435-80F5-537B8BD66A4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AFA10-01B7-4483-B1B2-62F95A9A6E6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29B3E-9D33-401B-9E3F-661E303F9FB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E4EEA-E7C4-490C-9DD3-568AB925F24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67302-5563-43E0-8EED-FF43794B868A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89A153-E258-49C0-B308-0F2AFB8A0CD8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B74EDE-3ABF-463B-A69E-775B4DDD231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DC3DE2-8D62-4AD4-8BDA-016C76C4FC56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356B8E-387F-46EC-B8A1-11D44A1C2362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90B1B5-9D84-4EE5-8D74-AC9AA118D7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0D712-DD6C-4026-9B74-5769E3EBD04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D28D16-3668-41F7-AE42-364B399EE96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073015-4A7F-408F-BEF7-F4618FE55E1E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497FF6-3C32-4508-8557-A5B650BE6559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3DEEF6-6C46-4504-A7BE-BA3EF614B2B1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C37651-F6BA-4312-AAF9-A9AB49E4AABC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2477DF-E32B-44EF-BA73-AD107CB035F6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EF1BB9-3774-424A-9990-54A2AC536D44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A0F3E7-AE0E-4E25-A40F-1670ED74DF73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C2BBA0-E0D2-481A-BAE1-C03C5AA24810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D2C89F-5084-4132-817E-4EA85AB4D0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ldNum" idx="1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 </a:t>
            </a:r>
            <a:fld id="{4F951514-19EE-4A88-B745-9E0A2D7CD37E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10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45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45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sldNum" idx="9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C0DA1CFE-8C5D-4EAA-A32A-0BECFFFD9AF5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50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50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sldNum" idx="10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D6B83A5A-6618-44A9-9AD0-1E3BED985D9E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55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sldNum" idx="11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5987B957-A7E3-4AF5-9B4C-F71E9963F2D8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60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12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4CC696B9-E476-45A2-946F-848CDA65A5B7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2"/>
          <p:cNvSpPr/>
          <p:nvPr/>
        </p:nvSpPr>
        <p:spPr>
          <a:xfrm>
            <a:off x="325440" y="6613560"/>
            <a:ext cx="332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000" spc="-1" strike="noStrike">
                <a:solidFill>
                  <a:srgbClr val="b2b2b2"/>
                </a:solidFill>
                <a:latin typeface="Arial"/>
              </a:rPr>
              <a:t>© Copyright 2010 ecsec GmbH, All Rights Reserved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4160" y="2577600"/>
            <a:ext cx="7770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2"/>
          <a:stretch/>
        </p:blipFill>
        <p:spPr>
          <a:xfrm>
            <a:off x="3635280" y="5013360"/>
            <a:ext cx="2305080" cy="109368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5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3"/>
          <a:srcRect l="567" t="781" r="567" b="781"/>
          <a:stretch/>
        </p:blipFill>
        <p:spPr>
          <a:xfrm>
            <a:off x="395280" y="395280"/>
            <a:ext cx="8353440" cy="604836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  <p:sp>
        <p:nvSpPr>
          <p:cNvPr id="56" name="Text Box 8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Num" idx="2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6BC99398-8AFB-4166-9A6C-3D0AE41CC6CE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15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sldNum" idx="3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0B1C3F19-53A3-4252-B247-844C0C06DD58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20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Num" idx="4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91431652-3C18-4338-9449-862063C161A0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25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Num" idx="5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B9F11BD7-5685-47E8-9ADE-28E1A5026F97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30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sldNum" idx="6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FE5A1719-8724-4B6C-8CD2-AA3BDE8C860E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35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sldNum" idx="7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BBB2DD51-00B3-4E5C-BC5B-E0B6078A57B3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40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sldNum" idx="8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8C6F2112-610D-4805-9E20-CF6C3FF5908B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http://openidentity.eu/" TargetMode="External"/><Relationship Id="rId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94920" y="3141360"/>
            <a:ext cx="8529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3600" spc="-1" strike="noStrike">
                <a:solidFill>
                  <a:srgbClr val="4d4d4d"/>
                </a:solidFill>
                <a:latin typeface="Arial"/>
              </a:rPr>
              <a:t>Neuigkeiten aus dem </a:t>
            </a:r>
            <a:br>
              <a:rPr sz="3600"/>
            </a:br>
            <a:r>
              <a:rPr b="1" lang="de-DE" sz="3600" spc="-1" strike="noStrike">
                <a:solidFill>
                  <a:srgbClr val="4d4d4d"/>
                </a:solidFill>
                <a:latin typeface="Arial"/>
              </a:rPr>
              <a:t>Open eCard Projekt</a:t>
            </a:r>
            <a:br>
              <a:rPr sz="3600"/>
            </a:br>
            <a:br>
              <a:rPr sz="6000"/>
            </a:b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16.05. 2013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3" name="Text Box 4"/>
          <p:cNvSpPr/>
          <p:nvPr/>
        </p:nvSpPr>
        <p:spPr>
          <a:xfrm>
            <a:off x="2843280" y="40053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4" name="Gruppieren 5"/>
          <p:cNvGrpSpPr/>
          <p:nvPr/>
        </p:nvGrpSpPr>
        <p:grpSpPr>
          <a:xfrm>
            <a:off x="3995640" y="1474920"/>
            <a:ext cx="1327320" cy="1325520"/>
            <a:chOff x="3995640" y="1474920"/>
            <a:chExt cx="1327320" cy="1325520"/>
          </a:xfrm>
        </p:grpSpPr>
        <p:sp>
          <p:nvSpPr>
            <p:cNvPr id="655" name="Abgerundetes Rechteck 4"/>
            <p:cNvSpPr/>
            <p:nvPr/>
          </p:nvSpPr>
          <p:spPr>
            <a:xfrm>
              <a:off x="3995640" y="1474920"/>
              <a:ext cx="1327320" cy="1325520"/>
            </a:xfrm>
            <a:prstGeom prst="roundRect">
              <a:avLst>
                <a:gd name="adj" fmla="val 2192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56" name="Grafik 5" descr=""/>
            <p:cNvPicPr/>
            <p:nvPr/>
          </p:nvPicPr>
          <p:blipFill>
            <a:blip r:embed="rId1"/>
            <a:stretch/>
          </p:blipFill>
          <p:spPr>
            <a:xfrm>
              <a:off x="3995640" y="1474920"/>
              <a:ext cx="1327320" cy="1325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550520" y="260280"/>
            <a:ext cx="712476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Unterstützte Dienste (2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91" name="Picture 3" descr=""/>
          <p:cNvPicPr/>
          <p:nvPr/>
        </p:nvPicPr>
        <p:blipFill>
          <a:blip r:embed="rId1"/>
          <a:stretch/>
        </p:blipFill>
        <p:spPr>
          <a:xfrm>
            <a:off x="1979640" y="1052640"/>
            <a:ext cx="560844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550520" y="260280"/>
            <a:ext cx="712476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Unterstützte Dienste (3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93" name="Picture 2" descr=""/>
          <p:cNvPicPr/>
          <p:nvPr/>
        </p:nvPicPr>
        <p:blipFill>
          <a:blip r:embed="rId1"/>
          <a:stretch/>
        </p:blipFill>
        <p:spPr>
          <a:xfrm>
            <a:off x="2013120" y="1052640"/>
            <a:ext cx="55846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Foliennummernplatzhalter 3"/>
          <p:cNvSpPr/>
          <p:nvPr/>
        </p:nvSpPr>
        <p:spPr>
          <a:xfrm>
            <a:off x="833904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Rectangle 7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0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	</a:t>
            </a:r>
            <a:fld id="{43C895A7-B483-472B-9F91-9D7DFB39F42E}" type="slidenum">
              <a:rPr b="1" lang="de-DE" sz="1200" spc="-1" strike="noStrike">
                <a:solidFill>
                  <a:srgbClr val="bfbfb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Line 8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Text Box 9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03" name="Picture 11" descr="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12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705" name="AutoShape 1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Rectangle 14"/>
          <p:cNvSpPr/>
          <p:nvPr/>
        </p:nvSpPr>
        <p:spPr>
          <a:xfrm>
            <a:off x="142920" y="1700280"/>
            <a:ext cx="8461440" cy="50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5177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6913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s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e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r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Grafik 18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99128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Version 1.0.2     heute um 11:37 Uhr veröffentlicht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10" name="Picture 3" descr=""/>
          <p:cNvPicPr/>
          <p:nvPr/>
        </p:nvPicPr>
        <p:blipFill>
          <a:blip r:embed="rId1"/>
          <a:stretch/>
        </p:blipFill>
        <p:spPr>
          <a:xfrm>
            <a:off x="450720" y="1557360"/>
            <a:ext cx="8224920" cy="3757680"/>
          </a:xfrm>
          <a:prstGeom prst="rect">
            <a:avLst/>
          </a:prstGeom>
          <a:ln w="0">
            <a:noFill/>
          </a:ln>
        </p:spPr>
      </p:pic>
      <p:sp>
        <p:nvSpPr>
          <p:cNvPr id="711" name="Textfeld 3"/>
          <p:cNvSpPr/>
          <p:nvPr/>
        </p:nvSpPr>
        <p:spPr>
          <a:xfrm>
            <a:off x="2843280" y="177840"/>
            <a:ext cx="10080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5177b2"/>
                </a:solidFill>
                <a:latin typeface="Arial"/>
              </a:rPr>
              <a:t>1.0.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Foliennummernplatzhalter 3"/>
          <p:cNvSpPr/>
          <p:nvPr/>
        </p:nvSpPr>
        <p:spPr>
          <a:xfrm>
            <a:off x="833904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Rectangle 7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0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	</a:t>
            </a:r>
            <a:fld id="{A4BC9517-A1E8-4113-9B85-62CD227D4CCA}" type="slidenum">
              <a:rPr b="1" lang="de-DE" sz="1200" spc="-1" strike="noStrike">
                <a:solidFill>
                  <a:srgbClr val="bfbfb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Line 8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Text Box 9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21" name="Picture 11" descr="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722" name="Picture 12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723" name="AutoShape 1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Rectangle 14"/>
          <p:cNvSpPr/>
          <p:nvPr/>
        </p:nvSpPr>
        <p:spPr>
          <a:xfrm>
            <a:off x="142920" y="2131920"/>
            <a:ext cx="8461440" cy="505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5177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6913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s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e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or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6" name="Grafik 18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Erweiterbarkeit über Plugins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8" name="Rectangle 7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0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0" lang="de-DE" sz="1800" spc="-1" strike="noStrike">
                <a:solidFill>
                  <a:srgbClr val="b2b2b2"/>
                </a:solidFill>
                <a:latin typeface="Arial"/>
              </a:rPr>
              <a:t>	</a:t>
            </a:r>
            <a:fld id="{902A8E11-83C5-4836-B938-23CD4E3BDEAF}" type="slidenum">
              <a:rPr b="0" lang="de-DE" sz="18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9" name="Grafik 1" descr=""/>
          <p:cNvPicPr/>
          <p:nvPr/>
        </p:nvPicPr>
        <p:blipFill>
          <a:blip r:embed="rId1"/>
          <a:stretch/>
        </p:blipFill>
        <p:spPr>
          <a:xfrm>
            <a:off x="395280" y="1123920"/>
            <a:ext cx="8461440" cy="52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0" name="Picture 3" descr=""/>
          <p:cNvPicPr/>
          <p:nvPr/>
        </p:nvPicPr>
        <p:blipFill>
          <a:blip r:embed="rId1"/>
          <a:stretch/>
        </p:blipFill>
        <p:spPr>
          <a:xfrm>
            <a:off x="684360" y="1193760"/>
            <a:ext cx="7920000" cy="4578480"/>
          </a:xfrm>
          <a:prstGeom prst="rect">
            <a:avLst/>
          </a:prstGeom>
          <a:ln w="0">
            <a:noFill/>
          </a:ln>
        </p:spPr>
      </p:pic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981000" y="58050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Deadline für Call for Papers: </a:t>
            </a:r>
            <a:r>
              <a:rPr b="1" lang="de-DE" sz="2800" spc="-1" strike="noStrike">
                <a:solidFill>
                  <a:srgbClr val="00ff00"/>
                </a:solidFill>
                <a:latin typeface="Arial"/>
              </a:rPr>
              <a:t>02.06.2013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2" name="Foliennummernplatzhalter 3"/>
          <p:cNvSpPr/>
          <p:nvPr/>
        </p:nvSpPr>
        <p:spPr>
          <a:xfrm>
            <a:off x="833904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	</a:t>
            </a:r>
            <a:fld id="{35D06461-805E-4C9E-8797-5C4F5E31CAD3}" type="slidenum">
              <a:rPr b="1" lang="de-DE" sz="1200" spc="-1" strike="noStrike">
                <a:solidFill>
                  <a:srgbClr val="bfbfb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Titel 1"/>
          <p:cNvSpPr/>
          <p:nvPr/>
        </p:nvSpPr>
        <p:spPr>
          <a:xfrm>
            <a:off x="1701720" y="260280"/>
            <a:ext cx="71280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  <a:ea typeface="Arial"/>
              </a:rPr>
              <a:t>Open Identity Summit 20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Rechteck 1"/>
          <p:cNvSpPr/>
          <p:nvPr/>
        </p:nvSpPr>
        <p:spPr>
          <a:xfrm>
            <a:off x="5148360" y="4724280"/>
            <a:ext cx="3816360" cy="1047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Textfeld 7"/>
          <p:cNvSpPr/>
          <p:nvPr/>
        </p:nvSpPr>
        <p:spPr>
          <a:xfrm>
            <a:off x="4041000" y="4941720"/>
            <a:ext cx="39481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32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2"/>
              </a:rPr>
              <a:t>http://openidentity.e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Man-in-the-Middle-Angriff gegen SAML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37" name="Grafik 4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89880" cy="53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MitM@SAML (reloaded?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39" name="Grafik 3" descr=""/>
          <p:cNvPicPr/>
          <p:nvPr/>
        </p:nvPicPr>
        <p:blipFill>
          <a:blip r:embed="rId1"/>
          <a:stretch/>
        </p:blipFill>
        <p:spPr>
          <a:xfrm>
            <a:off x="468360" y="1104840"/>
            <a:ext cx="8023320" cy="5400720"/>
          </a:xfrm>
          <a:prstGeom prst="rect">
            <a:avLst/>
          </a:prstGeom>
          <a:ln w="0">
            <a:noFill/>
          </a:ln>
        </p:spPr>
      </p:pic>
      <p:grpSp>
        <p:nvGrpSpPr>
          <p:cNvPr id="740" name="Gruppieren 6"/>
          <p:cNvGrpSpPr/>
          <p:nvPr/>
        </p:nvGrpSpPr>
        <p:grpSpPr>
          <a:xfrm>
            <a:off x="5580000" y="3457440"/>
            <a:ext cx="419040" cy="1195560"/>
            <a:chOff x="5580000" y="3457440"/>
            <a:chExt cx="419040" cy="1195560"/>
          </a:xfrm>
        </p:grpSpPr>
        <p:pic>
          <p:nvPicPr>
            <p:cNvPr id="741" name="Picture 2" descr=""/>
            <p:cNvPicPr/>
            <p:nvPr/>
          </p:nvPicPr>
          <p:blipFill>
            <a:blip r:embed="rId2"/>
            <a:stretch/>
          </p:blipFill>
          <p:spPr>
            <a:xfrm>
              <a:off x="5580000" y="3457440"/>
              <a:ext cx="419040" cy="49536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742" name="Gerade Verbindung mit Pfeil 5"/>
            <p:cNvCxnSpPr/>
            <p:nvPr/>
          </p:nvCxnSpPr>
          <p:spPr>
            <a:xfrm>
              <a:off x="5789160" y="3952440"/>
              <a:ext cx="1080" cy="70092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Foliennummernplatzhalter 3"/>
          <p:cNvSpPr/>
          <p:nvPr/>
        </p:nvSpPr>
        <p:spPr>
          <a:xfrm>
            <a:off x="833904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de-DE" sz="1200" spc="-1" strike="noStrike">
                <a:solidFill>
                  <a:srgbClr val="00cc99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00cc99"/>
                </a:solidFill>
                <a:latin typeface="Arial"/>
              </a:rPr>
              <a:t>	</a:t>
            </a:r>
            <a:fld id="{FB4EB0C1-2ACB-4145-AEBD-DBCA5A01C65B}" type="slidenum">
              <a:rPr b="1" lang="de-DE" sz="1200" spc="-1" strike="noStrike">
                <a:solidFill>
                  <a:srgbClr val="00cc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de-DE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de-DE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Text Box 5"/>
          <p:cNvSpPr/>
          <p:nvPr/>
        </p:nvSpPr>
        <p:spPr>
          <a:xfrm>
            <a:off x="325080" y="6613560"/>
            <a:ext cx="332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000" spc="-1" strike="noStrike">
                <a:solidFill>
                  <a:srgbClr val="00cc99"/>
                </a:solidFill>
                <a:latin typeface="Arial"/>
              </a:rPr>
              <a:t>© Copyright 2010 ecsec GmbH, All Rights Reserved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Rectangle 6"/>
          <p:cNvSpPr/>
          <p:nvPr/>
        </p:nvSpPr>
        <p:spPr>
          <a:xfrm>
            <a:off x="614520" y="25779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4000" spc="-1" strike="noStrike">
                <a:solidFill>
                  <a:srgbClr val="4d4d4d"/>
                </a:solidFill>
                <a:latin typeface="Arial"/>
              </a:rPr>
              <a:t>Titelmasterformat durch Klicken bearbeit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Rectangle 7"/>
          <p:cNvSpPr/>
          <p:nvPr/>
        </p:nvSpPr>
        <p:spPr>
          <a:xfrm>
            <a:off x="614520" y="43340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4d4d4d"/>
                </a:solidFill>
                <a:latin typeface="Arial"/>
              </a:rPr>
              <a:t>Formatvorlage des Untertitelmasters durch Klicken bearbei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AutoShape 9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Text Box 10"/>
          <p:cNvSpPr/>
          <p:nvPr/>
        </p:nvSpPr>
        <p:spPr>
          <a:xfrm>
            <a:off x="33120" y="6524640"/>
            <a:ext cx="207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© 2013 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2" name="Picture 11" descr="prozessor-hellgrau"/>
          <p:cNvPicPr/>
          <p:nvPr/>
        </p:nvPicPr>
        <p:blipFill>
          <a:blip r:embed="rId1"/>
          <a:stretch/>
        </p:blipFill>
        <p:spPr>
          <a:xfrm>
            <a:off x="395280" y="395280"/>
            <a:ext cx="8353440" cy="598644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  <p:sp>
        <p:nvSpPr>
          <p:cNvPr id="753" name="Rectangle 17"/>
          <p:cNvSpPr/>
          <p:nvPr/>
        </p:nvSpPr>
        <p:spPr>
          <a:xfrm>
            <a:off x="1332000" y="1123920"/>
            <a:ext cx="6696000" cy="1368360"/>
          </a:xfrm>
          <a:prstGeom prst="rect">
            <a:avLst/>
          </a:prstGeom>
          <a:solidFill>
            <a:srgbClr val="fafafa">
              <a:alpha val="67000"/>
            </a:srgbClr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Rectangle 18"/>
          <p:cNvSpPr/>
          <p:nvPr/>
        </p:nvSpPr>
        <p:spPr>
          <a:xfrm>
            <a:off x="1332000" y="2852640"/>
            <a:ext cx="6696000" cy="2952720"/>
          </a:xfrm>
          <a:prstGeom prst="rect">
            <a:avLst/>
          </a:prstGeom>
          <a:solidFill>
            <a:srgbClr val="fafafa">
              <a:alpha val="67000"/>
            </a:srgbClr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Text Box 19"/>
          <p:cNvSpPr/>
          <p:nvPr/>
        </p:nvSpPr>
        <p:spPr>
          <a:xfrm>
            <a:off x="1340280" y="2852640"/>
            <a:ext cx="14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  <a:ea typeface="MS PGothic"/>
              </a:rPr>
              <a:t>Kontak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Text Box 14"/>
          <p:cNvSpPr/>
          <p:nvPr/>
        </p:nvSpPr>
        <p:spPr>
          <a:xfrm>
            <a:off x="1545120" y="1108080"/>
            <a:ext cx="6188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4000" spc="-1" strike="noStrike">
                <a:solidFill>
                  <a:srgbClr val="4d4d4d"/>
                </a:solidFill>
                <a:latin typeface="Arial"/>
                <a:ea typeface="MS PGothic"/>
              </a:rPr>
              <a:t>Herzlichen Dank </a:t>
            </a:r>
            <a:br>
              <a:rPr sz="4000"/>
            </a:br>
            <a:r>
              <a:rPr b="1" lang="de-DE" sz="4000" spc="-1" strike="noStrike">
                <a:solidFill>
                  <a:srgbClr val="4d4d4d"/>
                </a:solidFill>
                <a:latin typeface="Arial"/>
                <a:ea typeface="MS PGothic"/>
              </a:rPr>
              <a:t>für Ihre Aufmerksamkeit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Rectangle 7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0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	</a:t>
            </a:r>
            <a:fld id="{7B29A724-576B-43B2-A7A2-FF9C103DCB5F}" type="slidenum">
              <a:rPr b="1" lang="de-DE" sz="1200" spc="-1" strike="noStrike">
                <a:solidFill>
                  <a:srgbClr val="bfbfb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Rechteck 2"/>
          <p:cNvSpPr/>
          <p:nvPr/>
        </p:nvSpPr>
        <p:spPr>
          <a:xfrm>
            <a:off x="2843280" y="3141720"/>
            <a:ext cx="3754440" cy="2413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Textfeld 2"/>
          <p:cNvSpPr/>
          <p:nvPr/>
        </p:nvSpPr>
        <p:spPr>
          <a:xfrm>
            <a:off x="2899440" y="4365720"/>
            <a:ext cx="1739880" cy="11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c/o ecsec GmbH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3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Sudetenstraße 1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96247 Michela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Telefon +49 9571 89647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obil    +49 171 975498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detlef.huehnlein@ecsec.de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Textfeld 21"/>
          <p:cNvSpPr/>
          <p:nvPr/>
        </p:nvSpPr>
        <p:spPr>
          <a:xfrm>
            <a:off x="4932360" y="4395960"/>
            <a:ext cx="1584360" cy="61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Dr. Detlef Hühnlein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000" spc="-1" strike="noStrike">
                <a:solidFill>
                  <a:srgbClr val="7f7f7f"/>
                </a:solidFill>
                <a:latin typeface="Arial"/>
              </a:rPr>
              <a:t>Projektleite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Gerade Verbindung 24"/>
          <p:cNvSpPr/>
          <p:nvPr/>
        </p:nvSpPr>
        <p:spPr>
          <a:xfrm>
            <a:off x="4792680" y="4057560"/>
            <a:ext cx="0" cy="1324080"/>
          </a:xfrm>
          <a:prstGeom prst="line">
            <a:avLst/>
          </a:prstGeom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2" name="Grafik 1" descr=""/>
          <p:cNvPicPr/>
          <p:nvPr/>
        </p:nvPicPr>
        <p:blipFill>
          <a:blip r:embed="rId2"/>
          <a:stretch/>
        </p:blipFill>
        <p:spPr>
          <a:xfrm>
            <a:off x="3471840" y="3314880"/>
            <a:ext cx="763560" cy="763560"/>
          </a:xfrm>
          <a:prstGeom prst="rect">
            <a:avLst/>
          </a:prstGeom>
          <a:ln w="0">
            <a:noFill/>
          </a:ln>
        </p:spPr>
      </p:pic>
      <p:sp>
        <p:nvSpPr>
          <p:cNvPr id="763" name="Textfeld 25"/>
          <p:cNvSpPr/>
          <p:nvPr/>
        </p:nvSpPr>
        <p:spPr>
          <a:xfrm>
            <a:off x="3351240" y="4048200"/>
            <a:ext cx="1004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Open eCard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4" name="Grafik 4" descr=""/>
          <p:cNvPicPr/>
          <p:nvPr/>
        </p:nvPicPr>
        <p:blipFill>
          <a:blip r:embed="rId3"/>
          <a:stretch/>
        </p:blipFill>
        <p:spPr>
          <a:xfrm>
            <a:off x="4721400" y="3476520"/>
            <a:ext cx="15793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Foliennummernplatzhalter 3"/>
          <p:cNvSpPr/>
          <p:nvPr/>
        </p:nvSpPr>
        <p:spPr>
          <a:xfrm>
            <a:off x="833904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gt;&gt;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Rectangle 7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0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	</a:t>
            </a:r>
            <a:fld id="{B74E91A2-F2D7-42B3-B034-FDDFA7784214}" type="slidenum">
              <a:rPr b="1" lang="de-DE" sz="1200" spc="-1" strike="noStrike">
                <a:solidFill>
                  <a:srgbClr val="bfbfb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Line 8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Text Box 9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66" name="Picture 11" descr="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12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668" name="AutoShape 1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Rectangle 14"/>
          <p:cNvSpPr/>
          <p:nvPr/>
        </p:nvSpPr>
        <p:spPr>
          <a:xfrm>
            <a:off x="142920" y="1195560"/>
            <a:ext cx="8461440" cy="50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5177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69134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es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e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r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Grafik 18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73" name="Picture 2" descr=""/>
          <p:cNvPicPr/>
          <p:nvPr/>
        </p:nvPicPr>
        <p:blipFill>
          <a:blip r:embed="rId1"/>
          <a:stretch/>
        </p:blipFill>
        <p:spPr>
          <a:xfrm>
            <a:off x="-6480" y="-27000"/>
            <a:ext cx="9201240" cy="5472000"/>
          </a:xfrm>
          <a:prstGeom prst="rect">
            <a:avLst/>
          </a:prstGeom>
          <a:ln w="0">
            <a:noFill/>
          </a:ln>
        </p:spPr>
      </p:pic>
      <p:sp>
        <p:nvSpPr>
          <p:cNvPr id="674" name="Textfeld 1"/>
          <p:cNvSpPr/>
          <p:nvPr/>
        </p:nvSpPr>
        <p:spPr>
          <a:xfrm>
            <a:off x="1476360" y="612720"/>
            <a:ext cx="10080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5177b2"/>
                </a:solidFill>
                <a:latin typeface="Arial"/>
              </a:rPr>
              <a:t>1.0.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618920" y="209520"/>
            <a:ext cx="712476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Source: http://source.openecard.org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76" name="Picture 2" descr=""/>
          <p:cNvPicPr/>
          <p:nvPr/>
        </p:nvPicPr>
        <p:blipFill>
          <a:blip r:embed="rId1"/>
          <a:stretch/>
        </p:blipFill>
        <p:spPr>
          <a:xfrm>
            <a:off x="324000" y="1155600"/>
            <a:ext cx="858204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Neue eID-Aktivierung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78" name="Picture 2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1579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8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640720" cy="503856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Alte eID-Aktivierung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83" name="Picture 2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52184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85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640720" cy="503856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2" descr=""/>
          <p:cNvPicPr/>
          <p:nvPr/>
        </p:nvPicPr>
        <p:blipFill>
          <a:blip r:embed="rId2"/>
          <a:stretch/>
        </p:blipFill>
        <p:spPr>
          <a:xfrm>
            <a:off x="0" y="-17640"/>
            <a:ext cx="9140760" cy="5750280"/>
          </a:xfrm>
          <a:prstGeom prst="rect">
            <a:avLst/>
          </a:prstGeom>
          <a:ln w="0">
            <a:noFill/>
          </a:ln>
        </p:spPr>
      </p:pic>
      <p:sp>
        <p:nvSpPr>
          <p:cNvPr id="687" name="Textfeld 4"/>
          <p:cNvSpPr/>
          <p:nvPr/>
        </p:nvSpPr>
        <p:spPr>
          <a:xfrm>
            <a:off x="1476360" y="612720"/>
            <a:ext cx="10080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5177b2"/>
                </a:solidFill>
                <a:latin typeface="Arial"/>
              </a:rPr>
              <a:t>1.0.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550520" y="260280"/>
            <a:ext cx="712476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Unterstützte Dienste (1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89" name="Picture 2" descr=""/>
          <p:cNvPicPr/>
          <p:nvPr/>
        </p:nvPicPr>
        <p:blipFill>
          <a:blip r:embed="rId1"/>
          <a:stretch/>
        </p:blipFill>
        <p:spPr>
          <a:xfrm>
            <a:off x="2124000" y="1125360"/>
            <a:ext cx="5675400" cy="538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13:21:52Z</dcterms:created>
  <dc:creator>Matthias  Besch, Steffen Frischat, Heidi Bahr</dc:creator>
  <dc:description/>
  <dc:language>en-US</dc:language>
  <cp:lastModifiedBy>detlef.huehnlein</cp:lastModifiedBy>
  <dcterms:modified xsi:type="dcterms:W3CDTF">2013-05-20T21:30:11Z</dcterms:modified>
  <cp:revision>583</cp:revision>
  <dc:subject>Unternehmenspräsentation</dc:subject>
  <dc:title>secunet</dc:title>
</cp:coreProperties>
</file>