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dt" idx="13"/>
          </p:nvPr>
        </p:nvSpPr>
        <p:spPr>
          <a:xfrm>
            <a:off x="401940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sldImg"/>
          </p:nvPr>
        </p:nvSpPr>
        <p:spPr>
          <a:xfrm>
            <a:off x="998280" y="769680"/>
            <a:ext cx="5111640" cy="38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8640" cy="4601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ftr" idx="14"/>
          </p:nvPr>
        </p:nvSpPr>
        <p:spPr>
          <a:xfrm>
            <a:off x="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 type="sldNum" idx="15"/>
          </p:nvPr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1A40D-255C-4BCE-961D-65927F7A6E1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25D96-A975-4978-A8EF-8609734AEC8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6332C-3065-4979-9CE9-D4A1E696086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C3DD8-0A00-405E-A138-F95CB3E601E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0FD6A-02AD-4689-A195-4A2CE93F19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ABFA9-6A92-45B7-9EAE-28175F4E26F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177856-01C5-4F79-87C9-7B15634C4AB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185C36-8DE9-4A51-BDA0-114D736616F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62C812-CEB6-4BD4-B356-79C272D5FF4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3743EA-1DF7-4686-88E4-9B90F73EA7D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94EF73-9ED2-40ED-9A97-5634BF4DBB2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570684-7E1D-480E-807D-4F928C7B268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0B428F-FC3B-4909-A649-EA081A356AB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553BA8-2629-4990-B0C2-3E83D189E9D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4FF7B8-15F7-44B7-81EE-F3786034C76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EFE38-6C24-4EC2-87D2-F5117D0021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66FC6-1130-4457-8F27-7E49F834D52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3A862-7DAD-4B53-81B3-4CF6B6B6F32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3B28B-F39B-43EB-9DF3-D32D2073C81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22D99-AF34-4D0F-BBE7-9A2569682CD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D4635-49A9-453A-ACC2-A40A0172450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A0AE9-FF86-45E2-B971-1DBF866AEC0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4B5C9-CB4A-453E-9BCC-486256DA6A8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B8F60-3EE5-4DB7-B061-787C82CEA5C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ADD05-AEA7-44C9-AD40-6288664D096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B1C34-5017-4906-9C53-C244AA9556D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7DFAB-2FFA-4C65-B948-B0A68E2C24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06303-E1AA-4534-886E-F1B1AE17D2E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471B1-A54B-4311-8A93-5963C2E8ABD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2608E3-513E-419F-887A-5D072354D53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51916E-5689-41AF-8A09-4F7E4ECC251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6E6EF1-2F90-41DA-BA71-854C5C80598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0D9289-F018-4653-9DE5-AFB213BC05B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086220-C181-4144-A84B-D529ED5E2DD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029677-6378-4AF7-8FD1-9183C7D2321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FEA4C2-E2D7-4512-89B9-0FBB2364BA6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86F939-309C-4CC1-9A5D-152590C99A8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7B96B7-93B5-4D8E-9A37-A88D3673CC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3066A9-AEC1-47FE-B61C-5410DBCCBFB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5DA8F1-AA08-415A-8C56-EF3F0EF4135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F5941C-AA3E-466C-B0EF-23789F39C97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60E92B-A1CF-450C-B807-19D9BCC89A9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6C9F06-C535-4EE3-9F11-7D877764063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29083D-602F-45D7-8A2C-7AB0E07DC2F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DFE33D-90D9-48E1-8EFF-0A1BE38A21B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C570F3-E7E8-4F30-8575-29DFFBE02C5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86C498-E0B9-481D-8DF2-A49B2C8746C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389B33-988E-49DA-BC72-11BCBB2B06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790630-CB9E-412C-BD55-D4040978F6E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8ECA57-EBBB-416C-A493-FFC7504D34F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C090E4-8603-4B48-B00D-6CFE93C92BD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2AEB44-701A-41D4-9B74-D4B9A34A52D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D2EAF7-19FD-43C7-890F-41C03FC9056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C3162-87F8-4364-855C-C57646E3D35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538F2-0BEB-416E-BEC2-8FAE9A5ADCB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25968-04E2-41A6-AD99-9CBA075CC06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CC870-CAD1-49F4-9D3A-0310CE8E85B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8FA6C-F3AA-4BDF-ABBB-0BDAF2DED6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23041-5EA4-4297-ABD1-4B3802DB052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00A46-EBB1-4A6A-8D18-F95C1FB3510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56AFB-894C-4C0F-9C24-25D764825F7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72496-8F2A-4536-90AE-8412D392E1A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18E43-DD0A-4C4F-BD03-E6526A6D083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306A5-CE0B-49E1-A9B0-1F5D9F2513A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7FDEB-913E-42D9-AA87-4D4876F257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4ABDC-A8FD-4456-AF7B-ECE01572F8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26B7D-DC99-4037-80C5-067094BC8A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CD343-8645-47EE-8814-71305A13A4A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A7E91-CAAE-49D2-90D6-05EC6255885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38E1F-1ED7-498D-AE0D-671A424FB61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2EB2E-E32E-4F96-88FD-443645A78A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0F20A-E3DD-4094-88FF-28F30811469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C0B41-C124-4131-9A6B-AC77A0F71C8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89529-B3AD-40BA-8ECB-7740100F85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EF9EE-8353-4D3F-B0BA-CB65691C0B6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12DCF-D5B0-4FEF-BCA8-3F874C26BED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DBB6B-0A5C-4926-A845-2178AE5CB3B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78F31-B339-4761-87F3-7BED7730816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AA37C-2512-4AC4-A870-EC9247483D9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F559-5382-48D1-B3A4-DEBAB6AB767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CBF0-3E8E-4614-891C-86A43A24011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40F7-31BA-4005-BFE0-9EB6DD9486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1A099-F3C1-469A-831F-696A82853AB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4B56-83C2-43A2-854B-C348BD737C7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7D28-1F1E-4490-9A0C-2B4DFD9AB10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BFEA-A298-4294-AB2A-AF1CAF9C455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AEB8-291E-408F-922A-1408644BAF0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73A6-E02E-4F21-97C5-C98FFB02FB9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CD0D-30FA-44EA-AFEF-F25D137C811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4616-3B59-43DA-BF51-8D823F7070B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604A-7567-49C2-BE4B-3169B73DC9B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E70C-07CC-44A5-A7E8-60B64FF43B5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FFF05-4F8D-45BC-B619-644718A08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15334-1F86-497F-841E-457F8B375DE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DFBC2-08BD-42D6-8405-277AC415D2B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24EB3-5DF9-4CE0-96AA-98357E45BA3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83F90-1AC1-4748-B365-5E4B56314F9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100AC-83E0-492B-B6A7-F0D9B35C0D4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D1E94-2859-4B69-B477-93F70FC1BD1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E547C-3218-46F8-BBBE-94A8B05BDA9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C00E5-7DF1-4EBF-9171-A270057F264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202ABE-154E-4EC2-911F-5BFF15620B6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5CBC1-A411-4170-BA10-9CE81AF71D5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FD88E-218F-43B5-8AE2-A435A89FDD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29C3A-4D98-480F-9282-85500DBAABD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D9078-6B87-4C28-AC84-45E29409B41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26AD9-00E1-4408-B302-7CB73C5F9F9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13B59-5469-4100-AB81-216BD73927B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E6E33-3DB6-46E6-B1B5-77B231E9483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534DD-4663-4FB8-B16A-930F3B8B033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E688A-0D8D-4EBD-B539-2BF49A0B374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2A1C1-5EFE-4925-B963-916CDD71451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10303-935F-445D-8EA9-427FB52A1C8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3A3D5-2DF5-46AD-9F26-09BE0547FCE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8A984-6A99-40E6-9A25-7F89234DD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9B667-55AC-4822-8A69-0428D8E9B8B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86D79-F379-4C46-829D-BAD06263856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A8491-968A-4945-AA2B-8C612C1B2BD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0F848-F6B4-4CE6-A9F6-20FC5FE683E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E5C7-7E4D-483F-944F-873DC082B58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17F0-90EE-4D2E-A88E-34A9A46E9CE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E80B-2C02-4EDF-8F4E-C30E602D9DD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635F-131A-41A2-BF89-E6D477496BB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0E4C-4DB3-47BA-98ED-76A98618296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5771-12D3-4CA9-A6E2-ED7911E395C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133A-CC36-4813-9784-68D7D74221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5B5D7-14E4-4741-8129-B1C0732C6F1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B866-4788-4B1E-A6D9-AF1467FB7D9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38EC-A8D3-4236-9884-A313A713967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9F0F-EE26-4B76-99FF-18D5615A2A3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26CC-6EB1-4480-8868-116B069BC31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F62B-5FD1-4C5E-A1DF-2123155EB2C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101DCE-A22C-4CB6-9D9C-54D3BA26EFD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CDE4C2-60A4-4D51-BE45-924C84B92C9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74915E-B49F-46A8-9B8A-C2B34C75D88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F27747-C46B-41BB-B3D1-069FA57D390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FB9928-9D3C-4430-ACCC-985945808D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4F009-9970-41F4-9957-981B7393D5C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60CA69-2AD6-4CE7-AD7E-CEA43D41CE2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1AD180-BF6A-46BE-8BCC-1018C34B1FA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7BAA43-E94B-469A-BE37-B594D315CB3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5C364B-4E8D-4E30-8B6D-61C97559522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7B78EC-67A2-4B4A-AFDD-223E883E9A1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89B0C6-DC63-4998-B304-6A9BD36733D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06B2BB-0B95-42A2-B9EC-53CA38B8CC8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2CEF01-FE74-42A2-B8DA-4B6819C4C6B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FD9916-AC02-4C49-9807-7B54911BAE5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75EF48-04AB-470B-937A-B489B829C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 </a:t>
            </a:r>
            <a:fld id="{31836AAF-162F-4C35-B9CE-4697529AB122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0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4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9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3A7BC80A-219F-419A-8B63-34E6DF7EB328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Num" idx="10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63533581-425B-4465-8C05-72540B53E6D9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1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670BE742-FC89-4231-A8BB-0729DC3B0296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6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12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CEC7C887-C37B-45C7-B588-C82CD1BF8DDC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2544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4160" y="2577600"/>
            <a:ext cx="7770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5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56" name="Text Box 8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7F2EA538-B3BF-41CF-9749-F6C74D9FBA09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3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B102357C-493D-4843-95DB-E19639B407EA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4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CB2D0073-7006-4A85-87CD-E81D7FE8A7C4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5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8CB36629-7248-42E4-8AF3-BB8225805EA7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6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CC928F63-E271-4D6D-9F6D-BC46ADCCE249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Num" idx="7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AB10D4E4-5AF3-46CE-B30A-A46A07ED110D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sldNum" idx="8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367A9FC7-757E-4E21-9D0E-500314467045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openidentity.eu/" TargetMode="External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94920" y="3141360"/>
            <a:ext cx="8529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Neuigkeiten aus dem </a:t>
            </a:r>
            <a:br>
              <a:rPr sz="3600"/>
            </a:b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Open eCard Projekt</a:t>
            </a:r>
            <a:br>
              <a:rPr sz="3600"/>
            </a:br>
            <a:br>
              <a:rPr sz="6000"/>
            </a:b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16.05. 2013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4" name="Gruppieren 5"/>
          <p:cNvGrpSpPr/>
          <p:nvPr/>
        </p:nvGrpSpPr>
        <p:grpSpPr>
          <a:xfrm>
            <a:off x="3995640" y="1474920"/>
            <a:ext cx="1327320" cy="1325520"/>
            <a:chOff x="3995640" y="1474920"/>
            <a:chExt cx="1327320" cy="1325520"/>
          </a:xfrm>
        </p:grpSpPr>
        <p:sp>
          <p:nvSpPr>
            <p:cNvPr id="655" name="Abgerundetes Rechteck 4"/>
            <p:cNvSpPr/>
            <p:nvPr/>
          </p:nvSpPr>
          <p:spPr>
            <a:xfrm>
              <a:off x="3995640" y="1474920"/>
              <a:ext cx="1327320" cy="1325520"/>
            </a:xfrm>
            <a:prstGeom prst="roundRect">
              <a:avLst>
                <a:gd name="adj" fmla="val 2192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56" name="Grafik 5" descr=""/>
            <p:cNvPicPr/>
            <p:nvPr/>
          </p:nvPicPr>
          <p:blipFill>
            <a:blip r:embed="rId1"/>
            <a:stretch/>
          </p:blipFill>
          <p:spPr>
            <a:xfrm>
              <a:off x="3995640" y="1474920"/>
              <a:ext cx="1327320" cy="132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608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3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3" name="Picture 2" descr=""/>
          <p:cNvPicPr/>
          <p:nvPr/>
        </p:nvPicPr>
        <p:blipFill>
          <a:blip r:embed="rId1"/>
          <a:stretch/>
        </p:blipFill>
        <p:spPr>
          <a:xfrm>
            <a:off x="2013120" y="1052640"/>
            <a:ext cx="5584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39AEA931-BDB8-4174-AB01-32C8EFB4F5FE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03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705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14"/>
          <p:cNvSpPr/>
          <p:nvPr/>
        </p:nvSpPr>
        <p:spPr>
          <a:xfrm>
            <a:off x="142920" y="170028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99128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Version 1.0.2     heute um 11:37 Uhr veröffentlich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10" name="Picture 3" descr=""/>
          <p:cNvPicPr/>
          <p:nvPr/>
        </p:nvPicPr>
        <p:blipFill>
          <a:blip r:embed="rId1"/>
          <a:stretch/>
        </p:blipFill>
        <p:spPr>
          <a:xfrm>
            <a:off x="450720" y="1557360"/>
            <a:ext cx="8224920" cy="3757680"/>
          </a:xfrm>
          <a:prstGeom prst="rect">
            <a:avLst/>
          </a:prstGeom>
          <a:ln w="0">
            <a:noFill/>
          </a:ln>
        </p:spPr>
      </p:pic>
      <p:sp>
        <p:nvSpPr>
          <p:cNvPr id="711" name="Textfeld 3"/>
          <p:cNvSpPr/>
          <p:nvPr/>
        </p:nvSpPr>
        <p:spPr>
          <a:xfrm>
            <a:off x="2843280" y="17784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5D2D2E09-B9BB-4D8B-876F-FA1E112FB012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21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723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Rectangle 14"/>
          <p:cNvSpPr/>
          <p:nvPr/>
        </p:nvSpPr>
        <p:spPr>
          <a:xfrm>
            <a:off x="142920" y="213192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rweiterbarkeit über Plugi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8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	</a:t>
            </a:r>
            <a:fld id="{FB7A96DB-3C7B-4DBD-8468-53EAF68F82E6}" type="slidenum">
              <a:rPr b="0" lang="de-DE" sz="18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9" name="Grafik 1" descr=""/>
          <p:cNvPicPr/>
          <p:nvPr/>
        </p:nvPicPr>
        <p:blipFill>
          <a:blip r:embed="rId1"/>
          <a:stretch/>
        </p:blipFill>
        <p:spPr>
          <a:xfrm>
            <a:off x="395280" y="1123920"/>
            <a:ext cx="846144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3" descr=""/>
          <p:cNvPicPr/>
          <p:nvPr/>
        </p:nvPicPr>
        <p:blipFill>
          <a:blip r:embed="rId1"/>
          <a:stretch/>
        </p:blipFill>
        <p:spPr>
          <a:xfrm>
            <a:off x="684360" y="1193760"/>
            <a:ext cx="7920000" cy="457848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81000" y="58050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eadline für Call for Papers: </a:t>
            </a:r>
            <a:r>
              <a:rPr b="1" lang="de-DE" sz="2800" spc="-1" strike="noStrike">
                <a:solidFill>
                  <a:srgbClr val="00ff00"/>
                </a:solidFill>
                <a:latin typeface="Arial"/>
              </a:rPr>
              <a:t>02.06.2013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2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072D9BF8-5E91-47E5-80CC-E0C448FEA8EE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itel 1"/>
          <p:cNvSpPr/>
          <p:nvPr/>
        </p:nvSpPr>
        <p:spPr>
          <a:xfrm>
            <a:off x="1701720" y="260280"/>
            <a:ext cx="71280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  <a:ea typeface="Arial"/>
              </a:rPr>
              <a:t>Open Identity Summit 20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Rechteck 1"/>
          <p:cNvSpPr/>
          <p:nvPr/>
        </p:nvSpPr>
        <p:spPr>
          <a:xfrm>
            <a:off x="5148360" y="4724280"/>
            <a:ext cx="3816360" cy="10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feld 7"/>
          <p:cNvSpPr/>
          <p:nvPr/>
        </p:nvSpPr>
        <p:spPr>
          <a:xfrm>
            <a:off x="4041000" y="4941720"/>
            <a:ext cx="3948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http://openidentity.e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Man-in-the-Middle-Angriff gegen SAML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37" name="Grafik 4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898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MitM@SAML (reloaded?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39" name="Grafik 3" descr=""/>
          <p:cNvPicPr/>
          <p:nvPr/>
        </p:nvPicPr>
        <p:blipFill>
          <a:blip r:embed="rId1"/>
          <a:stretch/>
        </p:blipFill>
        <p:spPr>
          <a:xfrm>
            <a:off x="468360" y="1104840"/>
            <a:ext cx="8023320" cy="5400720"/>
          </a:xfrm>
          <a:prstGeom prst="rect">
            <a:avLst/>
          </a:prstGeom>
          <a:ln w="0">
            <a:noFill/>
          </a:ln>
        </p:spPr>
      </p:pic>
      <p:grpSp>
        <p:nvGrpSpPr>
          <p:cNvPr id="740" name="Gruppieren 6"/>
          <p:cNvGrpSpPr/>
          <p:nvPr/>
        </p:nvGrpSpPr>
        <p:grpSpPr>
          <a:xfrm>
            <a:off x="5580000" y="3457440"/>
            <a:ext cx="419040" cy="1195560"/>
            <a:chOff x="5580000" y="3457440"/>
            <a:chExt cx="419040" cy="1195560"/>
          </a:xfrm>
        </p:grpSpPr>
        <p:pic>
          <p:nvPicPr>
            <p:cNvPr id="741" name="Picture 2" descr=""/>
            <p:cNvPicPr/>
            <p:nvPr/>
          </p:nvPicPr>
          <p:blipFill>
            <a:blip r:embed="rId2"/>
            <a:stretch/>
          </p:blipFill>
          <p:spPr>
            <a:xfrm>
              <a:off x="5580000" y="3457440"/>
              <a:ext cx="419040" cy="495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42" name="Gerade Verbindung mit Pfeil 5"/>
            <p:cNvCxnSpPr/>
            <p:nvPr/>
          </p:nvCxnSpPr>
          <p:spPr>
            <a:xfrm>
              <a:off x="5789160" y="3952440"/>
              <a:ext cx="1080" cy="70092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1200" spc="-1" strike="noStrike">
                <a:solidFill>
                  <a:srgbClr val="00cc99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cc99"/>
                </a:solidFill>
                <a:latin typeface="Arial"/>
              </a:rPr>
              <a:t>	</a:t>
            </a:r>
            <a:fld id="{1F630027-7592-40CD-B419-12F7B38CD600}" type="slidenum">
              <a:rPr b="1" lang="de-DE" sz="1200" spc="-1" strike="noStrike">
                <a:solidFill>
                  <a:srgbClr val="00cc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000" spc="-1" strike="noStrike">
                <a:solidFill>
                  <a:srgbClr val="00cc99"/>
                </a:solidFill>
                <a:latin typeface="Arial"/>
              </a:rPr>
              <a:t>© Copyright 2010 ecsec GmbH, All Rights Reserve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Rectangle 6"/>
          <p:cNvSpPr/>
          <p:nvPr/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Text Box 10"/>
          <p:cNvSpPr/>
          <p:nvPr/>
        </p:nvSpPr>
        <p:spPr>
          <a:xfrm>
            <a:off x="33120" y="6524640"/>
            <a:ext cx="207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© 2013 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2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753" name="Rectangle 17"/>
          <p:cNvSpPr/>
          <p:nvPr/>
        </p:nvSpPr>
        <p:spPr>
          <a:xfrm>
            <a:off x="1332000" y="11239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Rectangle 18"/>
          <p:cNvSpPr/>
          <p:nvPr/>
        </p:nvSpPr>
        <p:spPr>
          <a:xfrm>
            <a:off x="1332000" y="2852640"/>
            <a:ext cx="6696000" cy="295272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19"/>
          <p:cNvSpPr/>
          <p:nvPr/>
        </p:nvSpPr>
        <p:spPr>
          <a:xfrm>
            <a:off x="1340280" y="285264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MS PGothic"/>
              </a:rPr>
              <a:t>Kontak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4"/>
          <p:cNvSpPr/>
          <p:nvPr/>
        </p:nvSpPr>
        <p:spPr>
          <a:xfrm>
            <a:off x="1545120" y="1108080"/>
            <a:ext cx="618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MS PGothic"/>
              </a:rPr>
              <a:t>Herzlichen Dank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MS PGothic"/>
              </a:rPr>
              <a:t>für Ihre Aufmerksamkeit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239958C4-EA95-4860-B00A-CB417046C0B4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hteck 2"/>
          <p:cNvSpPr/>
          <p:nvPr/>
        </p:nvSpPr>
        <p:spPr>
          <a:xfrm>
            <a:off x="2843280" y="3141720"/>
            <a:ext cx="3754440" cy="241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feld 2"/>
          <p:cNvSpPr/>
          <p:nvPr/>
        </p:nvSpPr>
        <p:spPr>
          <a:xfrm>
            <a:off x="2899440" y="4365720"/>
            <a:ext cx="1739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c/o ecsec Gmb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Sudetenstraße 1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96247 Michela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Telefon +49 9571 89647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obil    +49 171 975498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detlef.huehnlein@ecsec.d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Textfeld 21"/>
          <p:cNvSpPr/>
          <p:nvPr/>
        </p:nvSpPr>
        <p:spPr>
          <a:xfrm>
            <a:off x="4932360" y="4395960"/>
            <a:ext cx="158436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Dr. Detlef Hühnlei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7f7f7f"/>
                </a:solidFill>
                <a:latin typeface="Arial"/>
              </a:rPr>
              <a:t>Projektleit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Gerade Verbindung 24"/>
          <p:cNvSpPr/>
          <p:nvPr/>
        </p:nvSpPr>
        <p:spPr>
          <a:xfrm>
            <a:off x="4792680" y="4057560"/>
            <a:ext cx="0" cy="13240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2" name="Grafik 1" descr=""/>
          <p:cNvPicPr/>
          <p:nvPr/>
        </p:nvPicPr>
        <p:blipFill>
          <a:blip r:embed="rId2"/>
          <a:stretch/>
        </p:blipFill>
        <p:spPr>
          <a:xfrm>
            <a:off x="3471840" y="3314880"/>
            <a:ext cx="763560" cy="763560"/>
          </a:xfrm>
          <a:prstGeom prst="rect">
            <a:avLst/>
          </a:prstGeom>
          <a:ln w="0">
            <a:noFill/>
          </a:ln>
        </p:spPr>
      </p:pic>
      <p:sp>
        <p:nvSpPr>
          <p:cNvPr id="763" name="Textfeld 25"/>
          <p:cNvSpPr/>
          <p:nvPr/>
        </p:nvSpPr>
        <p:spPr>
          <a:xfrm>
            <a:off x="3351240" y="4048200"/>
            <a:ext cx="1004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pen eCard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4" name="Grafik 4" descr=""/>
          <p:cNvPicPr/>
          <p:nvPr/>
        </p:nvPicPr>
        <p:blipFill>
          <a:blip r:embed="rId3"/>
          <a:stretch/>
        </p:blipFill>
        <p:spPr>
          <a:xfrm>
            <a:off x="4721400" y="3476520"/>
            <a:ext cx="1579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EE2FA0F6-D7F7-4015-8A9F-301C0A503E03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66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668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14"/>
          <p:cNvSpPr/>
          <p:nvPr/>
        </p:nvSpPr>
        <p:spPr>
          <a:xfrm>
            <a:off x="142920" y="1195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3" name="Picture 2" descr=""/>
          <p:cNvPicPr/>
          <p:nvPr/>
        </p:nvPicPr>
        <p:blipFill>
          <a:blip r:embed="rId1"/>
          <a:stretch/>
        </p:blipFill>
        <p:spPr>
          <a:xfrm>
            <a:off x="-6480" y="-27000"/>
            <a:ext cx="9201240" cy="5472000"/>
          </a:xfrm>
          <a:prstGeom prst="rect">
            <a:avLst/>
          </a:prstGeom>
          <a:ln w="0">
            <a:noFill/>
          </a:ln>
        </p:spPr>
      </p:pic>
      <p:sp>
        <p:nvSpPr>
          <p:cNvPr id="674" name="Textfeld 1"/>
          <p:cNvSpPr/>
          <p:nvPr/>
        </p:nvSpPr>
        <p:spPr>
          <a:xfrm>
            <a:off x="1476360" y="61272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618920" y="2095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ource: http://source.openecard.or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6" name="Picture 2" descr=""/>
          <p:cNvPicPr/>
          <p:nvPr/>
        </p:nvPicPr>
        <p:blipFill>
          <a:blip r:embed="rId1"/>
          <a:stretch/>
        </p:blipFill>
        <p:spPr>
          <a:xfrm>
            <a:off x="324000" y="1155600"/>
            <a:ext cx="858204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eue eID-Aktivierun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8" name="Picture 2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1579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0720" cy="50385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lte eID-Aktivierun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3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5218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0720" cy="50385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2" descr=""/>
          <p:cNvPicPr/>
          <p:nvPr/>
        </p:nvPicPr>
        <p:blipFill>
          <a:blip r:embed="rId2"/>
          <a:stretch/>
        </p:blipFill>
        <p:spPr>
          <a:xfrm>
            <a:off x="0" y="-17640"/>
            <a:ext cx="9140760" cy="5750280"/>
          </a:xfrm>
          <a:prstGeom prst="rect">
            <a:avLst/>
          </a:prstGeom>
          <a:ln w="0">
            <a:noFill/>
          </a:ln>
        </p:spPr>
      </p:pic>
      <p:sp>
        <p:nvSpPr>
          <p:cNvPr id="687" name="Textfeld 4"/>
          <p:cNvSpPr/>
          <p:nvPr/>
        </p:nvSpPr>
        <p:spPr>
          <a:xfrm>
            <a:off x="1476360" y="61272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1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5675400" cy="53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detlef.huehnlein</cp:lastModifiedBy>
  <dcterms:modified xsi:type="dcterms:W3CDTF">2013-05-20T21:30:11Z</dcterms:modified>
  <cp:revision>583</cp:revision>
  <dc:subject>Unternehmenspräsentation</dc:subject>
  <dc:title>secunet</dc:title>
</cp:coreProperties>
</file>