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13"/>
          </p:nvPr>
        </p:nvSpPr>
        <p:spPr>
          <a:xfrm>
            <a:off x="4019400" y="0"/>
            <a:ext cx="3076560" cy="509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98280" y="769680"/>
            <a:ext cx="511164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8640" cy="460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14"/>
          </p:nvPr>
        </p:nvSpPr>
        <p:spPr>
          <a:xfrm>
            <a:off x="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15"/>
          </p:nvPr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E3DE8-0C37-47A7-9F09-447DE157C7C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96921-EF1F-484B-9899-6B14786C32D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1485F-9E97-4F24-8410-C99D1344035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19400" y="97203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98A47-81F0-448C-8665-A8A5A744307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998640" y="770040"/>
            <a:ext cx="5113080" cy="383544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935C1-E52D-4469-9045-C39CEC487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A603-8282-42F5-B478-66E1285BB43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DEC325-2239-46E8-83C4-9B8D21CE8C6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8DCFC-158B-4EF6-AF87-616A4E065DF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33D88-2F70-47ED-AD58-EB05DFB9B1A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18E90-AE8C-42F9-8816-5738F95FB4B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23541-8B96-4737-AFAD-0BF779304AB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A2A5F7-E2C3-4DFB-89C4-2ED4A817A17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1FC0E-654F-47E3-ABF2-1DDF6382FF8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AC10F-A4ED-4A04-AF16-E45F847F88C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02E3B-335D-4A78-98ED-EC5E617B2FB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F262-BD56-4A95-A93F-48198DDB1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CBB3-0DA6-4F81-AF55-980D6FAFF01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4C678-A890-4DB3-9C93-36F4B931DC2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4E218-E875-4313-BF43-DE54DADDD3F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D069-2723-4E15-A53C-E4CEDFCBFAC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47E9B-E6EF-438B-8109-79331A9B419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38396-CD89-4D01-AD24-ADAC84511E1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6F1C8-82B4-4A52-BC7A-13D41055696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B4D3-040E-4191-AA55-F1B5DAC5A11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3DEF-BAED-4E30-846C-F73DEB76C2D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D413-B4D0-47F9-8C81-0218E28D5D8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4D885-8909-41A1-A641-1C3164090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8125-CA76-4920-B993-B92B02DAD2C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29E0B-C09C-4ED0-82F7-98291809B04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90A841-F097-4970-9097-5EEC217D15C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716763-F22E-4E1E-926B-B17EEA2B04F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D23307-C2C7-49FA-BA70-F37B34D5F0E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7ED0F-970E-4581-8E9C-74F01ACBEC0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B1071-7173-47C0-9646-27E45A338A1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236B7A-97D3-4BAB-B122-1966E057C6B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DF0103-224A-47F4-B251-30A84BCE7A1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F4E4C9-A4B0-4315-BF81-7941CFDEA52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65D8AB-3B90-4125-8A97-D7B1067B0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8809B4-7F3A-4182-9F6C-44A47AD92FD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8A450B-6555-47C3-9487-2422A3B28D9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4941AB-7250-4EBB-B781-DBC6100EEEC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C8B9D-9926-4013-9334-FDEDBE567CB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6E4DE-3CE7-4BC4-8321-8F752F4122F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CAC4D-A660-450C-BAC6-33BBBBCBE9D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F9A11-7E6C-48BE-9821-0FBD6409BB6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3198B-F7A2-4675-95C8-BFDB24A5149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0980C6-C66D-4511-8801-C1E44D178F8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0EF631-E27F-4F1C-B606-426E722955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AC2953-45E0-41FE-BF4A-DC64B6968DE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0EB4D-F361-480E-81AF-34056142F8F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9B8881-D79D-4795-8855-6B42F8DB2A3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2B3186-A69B-4343-91C5-84A5BEDDDDB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C6402-FA04-4AF0-AB27-3EDCB8C601A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3F5B-1AC3-47C3-B37B-38186F993E3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679ED-FE8F-4D9D-B42E-019BD5CB1C5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7CEA-C982-4716-9357-054136F74CF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7D5B2-E163-4869-BF38-45A14CBD470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C9D92-8C25-43CA-8F10-1EAD2D6E9F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96B4E-269F-463E-B226-FD3BEBA0E0F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1B514-7D61-437E-B647-58D1453EEC6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BE9FA-030F-4EDB-95F8-FCDF1F3323D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58583-12A9-4685-AA35-101A5237F61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78D3-C3ED-4641-8ED3-D4CAF98E155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D3E38-EA80-4C96-85A0-7ECF03E7062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2F545-11DD-437A-9743-3013C89326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3B3A-41E1-49AE-B94E-E27A36AD1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6FA5-5C6C-4AED-849A-1848029440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D77EA-6A1C-4D47-AAA0-51602691BC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53014-BC2F-4374-97A9-2E17D05630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641A-15C9-46E6-AF0E-3ED10D1C6A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8E96-0BC4-4665-BFC6-4F20B62497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731E5-8568-449F-85ED-8086797ECB9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77EC1-3208-4448-95E6-510295E2FF7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8664-87E6-42F8-A472-488EB0CF060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E66C8-09AD-40C6-B221-4DA64516A8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3FE5-537E-4B67-871F-F16FAD0274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D4E47-4439-4DA8-9100-48271A01AA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8E607-44DD-492A-989E-972113D5FF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E5B09-957E-41F6-8CB5-6C3A6CC6365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788E-F8BD-4BB7-887C-AB333B2A89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19E-CD36-4C10-BCEF-CF22BA83DD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129-30A9-4B65-ACBD-BA2482261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D6B4-5EA7-4CCC-9C3D-BE845B1BFA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F8B0-185F-400E-9599-5391D1A922F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4BF9-C15C-42AF-B6A5-A0AC537CE5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5AE-F4FE-4444-8C06-3B16412673C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6C8-543F-4D7B-89AE-F7582F0E11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1F92-386F-4A0C-B2AF-16AE05B686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57A-A01A-4F8B-9DCC-A2FB24EDA0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E20-D44C-437E-9643-4850BB2496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3FB-9D34-461D-9A14-1B36578F0C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9CC-BF99-411D-A575-5D3F60570C0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5FE0F-EE99-4EFB-A179-1F00DA0AD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91AF-D0EB-47D7-9578-E0674F58AB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18096-66FB-4A33-AB12-E7FAFFEDFA7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127AF-3012-49C5-957A-0BD2C6AE2F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478A8-F015-4297-9689-DB749DEC35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73FF5-73F1-445F-ABCE-63C512F9210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546F0-6F81-4D6A-ABD0-D55893AD3D5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B7D96-502D-46C7-896C-5809885747B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FB0B7-0DC9-4C38-BCD9-A8B01FBCFA5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552FF-C980-4DFA-A728-05135143383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C0C22-BD27-436A-8BAE-65AE1D0AF26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C821F-5C84-4D49-ADA7-65DABF1E9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2CDA-7A60-4AFC-A22F-31B9FBF7CDF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8630D-25CD-4947-A509-64B625473B1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C35C4-7BB4-43C6-B8C7-9A1174F044A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2FA52-F238-4512-8870-FB80984A9B3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9995A-4403-4AE3-9944-940FC94A794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15D40-0492-4CA2-A1AD-C503997975E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36750-E9C9-4BE0-9968-D5D8B33BB61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7AD56-0F4B-4D87-93A2-162D55DB595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03B3F-5997-4457-B672-C0E7766AC9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0184C-0455-4800-AF4A-C370B38C8A9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D0796-FD3C-4357-8E47-6D2CEFDE3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7D97-86FB-4CB7-AD0F-D491558957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0D79F-72E7-4B66-8793-8BA43194FFA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CACE8-DBDC-4BB6-BF5D-550DBDB58E0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C8D4B-5D1A-429E-88FD-C5E885183B9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0261-3E69-4E67-B47D-CAB14A3DF3A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6CCA-6B1F-44F7-9C03-3E0944C3C91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8923-2078-48C1-83D1-8F7A18CB9A3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2442-8702-4687-991C-155FF6AD7AF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B5D4-DED7-428D-8947-1D25A45EBA6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C1D5-CF54-4915-BE37-C80A76A162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34FF-42FB-413C-8A9C-385455555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9EDA-61DE-4A07-9F13-518BE7AC5AC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5B84-E6E8-45B7-ADFA-E985D94B4B8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08BB-BE9A-47E7-83B4-C3BEE302E5B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ABC1-3BB8-4C92-9715-024DF2A941E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8330-71A4-468D-8134-62DCA6EE2BE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087B-57E8-42D6-B97F-7E781F1C78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29D409-0493-42D8-8895-09B8777A2D9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56380A-FC05-4924-8C74-63AFE2533F8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9BCE3-A74A-461A-B52A-C0E4E7DBBE0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1AD663-4636-4A0B-BDB8-A5DD76B4C37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C08207-2658-4674-AFF7-B83230B77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EE80-11AC-4508-B69B-8DBBA9C6D38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1549080" y="210600"/>
            <a:ext cx="7126200" cy="43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F06C0-BFB0-43EA-B3ED-AA192A064CD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025F0-9EBF-4F8B-88E3-FDD1D7D081A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5FF453-689F-4C7C-A256-7E1F7ADA3D3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D66D7E-9BBD-4FB8-B036-F757019C10F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50920" y="3828960"/>
            <a:ext cx="86407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B6F276-39DC-4969-B3A1-F22BD52219A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8560" y="119700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25092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8560" y="3828960"/>
            <a:ext cx="421632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4620B6-73B8-4787-B822-485890568C6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7232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080" y="119700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2509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7232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94080" y="3828960"/>
            <a:ext cx="278208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6F3C5E-5039-497E-99CF-533FF01478E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4B35D-5ABD-4139-B1DB-2F2DBF35542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17981A-5DC8-4583-9EB0-D3C8FF1D6B9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91CE2-1544-4344-BB35-8B4F6C16F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 </a:t>
            </a:r>
            <a:fld id="{FEE4FF02-77DC-406D-A957-AB697016702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9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E781895D-5EEF-4160-836E-C5B0780C97A7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0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18CA0112-1116-44AB-9CFD-D4D8E8638D08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1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C951DCB-FDF7-4767-8884-13A51CCC47CD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1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E42C0065-7646-4EAB-8170-25E9B4877AFB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544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4160" y="2577600"/>
            <a:ext cx="7770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56" name="Text Box 8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488BCF7C-2C12-45E2-BE5E-0837AAAB6F05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3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937C7617-4BD5-4999-A72F-9936357D8702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4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7A8B320A-1A8B-41A8-9AB0-D42A2349695C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5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12CEFF9D-E2BA-4B2D-8AA5-187A6B9C57E4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6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EC1E2EEB-1247-4A57-B53F-3FAC7FF0F69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Num" idx="7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12A25A05-0617-4130-99F3-24E5B1AA5E56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Grafik 3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sldNum" idx="8"/>
          </p:nvPr>
        </p:nvSpPr>
        <p:spPr>
          <a:xfrm>
            <a:off x="833868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2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	</a:t>
            </a:r>
            <a:fld id="{09F20CE3-7385-41F9-B728-02DF4EFD2B20}" type="slidenum">
              <a:rPr b="1" lang="de-DE" sz="12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openidentity.eu/" TargetMode="External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4920" y="3141360"/>
            <a:ext cx="8529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Neuigkeiten aus dem </a:t>
            </a:r>
            <a:br>
              <a:rPr sz="36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Open eCard Projekt</a:t>
            </a:r>
            <a:br>
              <a:rPr sz="3600"/>
            </a:br>
            <a:br>
              <a:rPr sz="6000"/>
            </a:b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16.05. 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Gruppieren 5"/>
          <p:cNvGrpSpPr/>
          <p:nvPr/>
        </p:nvGrpSpPr>
        <p:grpSpPr>
          <a:xfrm>
            <a:off x="3995640" y="1474920"/>
            <a:ext cx="1327320" cy="1325520"/>
            <a:chOff x="3995640" y="1474920"/>
            <a:chExt cx="1327320" cy="1325520"/>
          </a:xfrm>
        </p:grpSpPr>
        <p:sp>
          <p:nvSpPr>
            <p:cNvPr id="655" name="Abgerundetes Rechteck 4"/>
            <p:cNvSpPr/>
            <p:nvPr/>
          </p:nvSpPr>
          <p:spPr>
            <a:xfrm>
              <a:off x="3995640" y="1474920"/>
              <a:ext cx="1327320" cy="1325520"/>
            </a:xfrm>
            <a:prstGeom prst="roundRect">
              <a:avLst>
                <a:gd name="adj" fmla="val 219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56" name="Grafik 5" descr=""/>
            <p:cNvPicPr/>
            <p:nvPr/>
          </p:nvPicPr>
          <p:blipFill>
            <a:blip r:embed="rId1"/>
            <a:stretch/>
          </p:blipFill>
          <p:spPr>
            <a:xfrm>
              <a:off x="3995640" y="1474920"/>
              <a:ext cx="1327320" cy="132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5608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3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013120" y="1052640"/>
            <a:ext cx="5584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4A6596C0-3323-45DA-BEEF-61543D734829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03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05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4"/>
          <p:cNvSpPr/>
          <p:nvPr/>
        </p:nvSpPr>
        <p:spPr>
          <a:xfrm>
            <a:off x="142920" y="1700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99128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Version 1.0.2     heute um 11:37 Uhr veröffentlich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1"/>
          <a:stretch/>
        </p:blipFill>
        <p:spPr>
          <a:xfrm>
            <a:off x="450720" y="1557360"/>
            <a:ext cx="8224920" cy="3757680"/>
          </a:xfrm>
          <a:prstGeom prst="rect">
            <a:avLst/>
          </a:prstGeom>
          <a:ln w="0">
            <a:noFill/>
          </a:ln>
        </p:spPr>
      </p:pic>
      <p:sp>
        <p:nvSpPr>
          <p:cNvPr id="711" name="Textfeld 3"/>
          <p:cNvSpPr/>
          <p:nvPr/>
        </p:nvSpPr>
        <p:spPr>
          <a:xfrm>
            <a:off x="2843280" y="17784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81771E6D-327C-457B-A088-882191CE44FD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21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14"/>
          <p:cNvSpPr/>
          <p:nvPr/>
        </p:nvSpPr>
        <p:spPr>
          <a:xfrm>
            <a:off x="142920" y="213192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rweiterbarkeit über Plugi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b2b2b2"/>
                </a:solidFill>
                <a:latin typeface="Arial"/>
              </a:rPr>
              <a:t>	</a:t>
            </a:r>
            <a:fld id="{185B33B1-09D1-4470-8ED9-F9DA3AF61125}" type="slidenum">
              <a:rPr b="0" lang="de-DE" sz="1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Grafik 1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846144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0" name="Picture 3" descr=""/>
          <p:cNvPicPr/>
          <p:nvPr/>
        </p:nvPicPr>
        <p:blipFill>
          <a:blip r:embed="rId1"/>
          <a:stretch/>
        </p:blipFill>
        <p:spPr>
          <a:xfrm>
            <a:off x="684360" y="1193760"/>
            <a:ext cx="7920000" cy="457848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81000" y="58050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eadline für Call for Papers: </a:t>
            </a:r>
            <a:r>
              <a:rPr b="1" lang="de-DE" sz="2800" spc="-1" strike="noStrike">
                <a:solidFill>
                  <a:srgbClr val="00ff00"/>
                </a:solidFill>
                <a:latin typeface="Arial"/>
              </a:rPr>
              <a:t>02.06.2013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2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A1C14F84-E46E-4914-AD7E-38DA6B63ECEA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itel 1"/>
          <p:cNvSpPr/>
          <p:nvPr/>
        </p:nvSpPr>
        <p:spPr>
          <a:xfrm>
            <a:off x="1701720" y="260280"/>
            <a:ext cx="7128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  <a:ea typeface="Arial"/>
              </a:rPr>
              <a:t>Open Identity Summit 20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hteck 1"/>
          <p:cNvSpPr/>
          <p:nvPr/>
        </p:nvSpPr>
        <p:spPr>
          <a:xfrm>
            <a:off x="5148360" y="4724280"/>
            <a:ext cx="3816360" cy="10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feld 7"/>
          <p:cNvSpPr/>
          <p:nvPr/>
        </p:nvSpPr>
        <p:spPr>
          <a:xfrm>
            <a:off x="4041000" y="4941720"/>
            <a:ext cx="39481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://openidentity.e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an-in-the-Middle-Angriff gegen SAML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7" name="Grafik 4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89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MitM@SAML (reloaded?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39" name="Grafik 3" descr=""/>
          <p:cNvPicPr/>
          <p:nvPr/>
        </p:nvPicPr>
        <p:blipFill>
          <a:blip r:embed="rId1"/>
          <a:stretch/>
        </p:blipFill>
        <p:spPr>
          <a:xfrm>
            <a:off x="468360" y="1104840"/>
            <a:ext cx="8023320" cy="5400720"/>
          </a:xfrm>
          <a:prstGeom prst="rect">
            <a:avLst/>
          </a:prstGeom>
          <a:ln w="0">
            <a:noFill/>
          </a:ln>
        </p:spPr>
      </p:pic>
      <p:grpSp>
        <p:nvGrpSpPr>
          <p:cNvPr id="740" name="Gruppieren 6"/>
          <p:cNvGrpSpPr/>
          <p:nvPr/>
        </p:nvGrpSpPr>
        <p:grpSpPr>
          <a:xfrm>
            <a:off x="5580000" y="3457440"/>
            <a:ext cx="419040" cy="1195560"/>
            <a:chOff x="5580000" y="3457440"/>
            <a:chExt cx="419040" cy="1195560"/>
          </a:xfrm>
        </p:grpSpPr>
        <p:pic>
          <p:nvPicPr>
            <p:cNvPr id="741" name="Picture 2" descr=""/>
            <p:cNvPicPr/>
            <p:nvPr/>
          </p:nvPicPr>
          <p:blipFill>
            <a:blip r:embed="rId2"/>
            <a:stretch/>
          </p:blipFill>
          <p:spPr>
            <a:xfrm>
              <a:off x="5580000" y="3457440"/>
              <a:ext cx="419040" cy="495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42" name="Gerade Verbindung mit Pfeil 5"/>
            <p:cNvCxnSpPr/>
            <p:nvPr/>
          </p:nvCxnSpPr>
          <p:spPr>
            <a:xfrm>
              <a:off x="5789160" y="3952440"/>
              <a:ext cx="1080" cy="70092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00cc99"/>
                </a:solidFill>
                <a:latin typeface="Arial"/>
              </a:rPr>
              <a:t>	</a:t>
            </a:r>
            <a:fld id="{00397BAB-B8F2-42C9-B295-AD613066B94C}" type="slidenum">
              <a:rPr b="1" lang="de-DE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072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cc99"/>
                </a:solidFill>
                <a:latin typeface="Arial"/>
              </a:rPr>
              <a:t>© Copyright 2010 ecsec GmbH, All Rights Reserved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10"/>
          <p:cNvSpPr/>
          <p:nvPr/>
        </p:nvSpPr>
        <p:spPr>
          <a:xfrm>
            <a:off x="33120" y="6524640"/>
            <a:ext cx="207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© 2013 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753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MS PGothic"/>
              </a:rPr>
              <a:t>Kontak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4"/>
          <p:cNvSpPr/>
          <p:nvPr/>
        </p:nvSpPr>
        <p:spPr>
          <a:xfrm>
            <a:off x="1545120" y="11080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MS PGothic"/>
              </a:rPr>
              <a:t>für Ihre Aufmerksamkeit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ACBCE37E-C178-4A67-9CB3-F54B2BC0AFB2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hteck 2"/>
          <p:cNvSpPr/>
          <p:nvPr/>
        </p:nvSpPr>
        <p:spPr>
          <a:xfrm>
            <a:off x="2843280" y="3141720"/>
            <a:ext cx="3754440" cy="241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feld 2"/>
          <p:cNvSpPr/>
          <p:nvPr/>
        </p:nvSpPr>
        <p:spPr>
          <a:xfrm>
            <a:off x="2899440" y="4365720"/>
            <a:ext cx="1739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c/o ecsec GmbH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Sudetenstraße 1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96247 Michela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Telefon +49 9571 89647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obil    +49 171 975498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99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detlef.huehnlein@ecsec.de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feld 21"/>
          <p:cNvSpPr/>
          <p:nvPr/>
        </p:nvSpPr>
        <p:spPr>
          <a:xfrm>
            <a:off x="4932360" y="4395960"/>
            <a:ext cx="158436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. Detlef Hühnlei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000" spc="-1" strike="noStrike">
                <a:solidFill>
                  <a:srgbClr val="7f7f7f"/>
                </a:solidFill>
                <a:latin typeface="Arial"/>
              </a:rPr>
              <a:t>Projektleiter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Gerade Verbindung 24"/>
          <p:cNvSpPr/>
          <p:nvPr/>
        </p:nvSpPr>
        <p:spPr>
          <a:xfrm>
            <a:off x="4792680" y="4057560"/>
            <a:ext cx="0" cy="1324080"/>
          </a:xfrm>
          <a:prstGeom prst="line">
            <a:avLst/>
          </a:prstGeom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2" name="Grafik 1" descr=""/>
          <p:cNvPicPr/>
          <p:nvPr/>
        </p:nvPicPr>
        <p:blipFill>
          <a:blip r:embed="rId2"/>
          <a:stretch/>
        </p:blipFill>
        <p:spPr>
          <a:xfrm>
            <a:off x="3471840" y="3314880"/>
            <a:ext cx="763560" cy="763560"/>
          </a:xfrm>
          <a:prstGeom prst="rect">
            <a:avLst/>
          </a:prstGeom>
          <a:ln w="0">
            <a:noFill/>
          </a:ln>
        </p:spPr>
      </p:pic>
      <p:sp>
        <p:nvSpPr>
          <p:cNvPr id="763" name="Textfeld 25"/>
          <p:cNvSpPr/>
          <p:nvPr/>
        </p:nvSpPr>
        <p:spPr>
          <a:xfrm>
            <a:off x="3351240" y="4048200"/>
            <a:ext cx="1004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pen eCard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4" name="Grafik 4" descr=""/>
          <p:cNvPicPr/>
          <p:nvPr/>
        </p:nvPicPr>
        <p:blipFill>
          <a:blip r:embed="rId3"/>
          <a:stretch/>
        </p:blipFill>
        <p:spPr>
          <a:xfrm>
            <a:off x="4721400" y="3476520"/>
            <a:ext cx="15793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liennummernplatzhalter 3"/>
          <p:cNvSpPr/>
          <p:nvPr/>
        </p:nvSpPr>
        <p:spPr>
          <a:xfrm>
            <a:off x="8339040" y="6524640"/>
            <a:ext cx="84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AutoShape 2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AutoShape 5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</a:rPr>
              <a:t>	</a:t>
            </a:r>
            <a:fld id="{A2B7D0DD-E728-4151-93D1-2E119FE40CF5}" type="slidenum">
              <a:rPr b="1" lang="de-DE" sz="1200" spc="-1" strike="noStrike">
                <a:solidFill>
                  <a:srgbClr val="bfbfb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8"/>
          <p:cNvSpPr/>
          <p:nvPr/>
        </p:nvSpPr>
        <p:spPr>
          <a:xfrm>
            <a:off x="1403280" y="115920"/>
            <a:ext cx="180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96480" y="6524640"/>
            <a:ext cx="202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Open eCard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66" name="Picture 11" descr="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2" descr="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3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14"/>
          <p:cNvSpPr/>
          <p:nvPr/>
        </p:nvSpPr>
        <p:spPr>
          <a:xfrm>
            <a:off x="14292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5177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Grafik 18" descr=""/>
          <p:cNvPicPr/>
          <p:nvPr/>
        </p:nvPicPr>
        <p:blipFill>
          <a:blip r:embed="rId3"/>
          <a:stretch/>
        </p:blipFill>
        <p:spPr>
          <a:xfrm>
            <a:off x="396720" y="114480"/>
            <a:ext cx="7192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1"/>
          <a:stretch/>
        </p:blipFill>
        <p:spPr>
          <a:xfrm>
            <a:off x="-6480" y="-27000"/>
            <a:ext cx="9201240" cy="5472000"/>
          </a:xfrm>
          <a:prstGeom prst="rect">
            <a:avLst/>
          </a:prstGeom>
          <a:ln w="0">
            <a:noFill/>
          </a:ln>
        </p:spPr>
      </p:pic>
      <p:sp>
        <p:nvSpPr>
          <p:cNvPr id="674" name="Textfeld 1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618920" y="2095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ource: http://source.openecard.or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6" name="Picture 2" descr=""/>
          <p:cNvPicPr/>
          <p:nvPr/>
        </p:nvPicPr>
        <p:blipFill>
          <a:blip r:embed="rId1"/>
          <a:stretch/>
        </p:blipFill>
        <p:spPr>
          <a:xfrm>
            <a:off x="324000" y="1155600"/>
            <a:ext cx="85820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eu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8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57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lte eID-Aktivierung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3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521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549080" y="210600"/>
            <a:ext cx="712620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0720" cy="50385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2" descr=""/>
          <p:cNvPicPr/>
          <p:nvPr/>
        </p:nvPicPr>
        <p:blipFill>
          <a:blip r:embed="rId2"/>
          <a:stretch/>
        </p:blipFill>
        <p:spPr>
          <a:xfrm>
            <a:off x="0" y="-17640"/>
            <a:ext cx="9140760" cy="5750280"/>
          </a:xfrm>
          <a:prstGeom prst="rect">
            <a:avLst/>
          </a:prstGeom>
          <a:ln w="0">
            <a:noFill/>
          </a:ln>
        </p:spPr>
      </p:pic>
      <p:sp>
        <p:nvSpPr>
          <p:cNvPr id="687" name="Textfeld 4"/>
          <p:cNvSpPr/>
          <p:nvPr/>
        </p:nvSpPr>
        <p:spPr>
          <a:xfrm>
            <a:off x="1476360" y="612720"/>
            <a:ext cx="100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5177b2"/>
                </a:solidFill>
                <a:latin typeface="Arial"/>
              </a:rPr>
              <a:t>1.0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550520" y="260280"/>
            <a:ext cx="71247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Unterstützte Dienste (1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6754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dcterms:modified xsi:type="dcterms:W3CDTF">2013-05-20T21:30:11Z</dcterms:modified>
  <cp:revision>583</cp:revision>
  <dc:subject>Unternehmenspräsentation</dc:subject>
  <dc:title>secunet</dc:title>
</cp:coreProperties>
</file>