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dt" idx="13"/>
          </p:nvPr>
        </p:nvSpPr>
        <p:spPr>
          <a:xfrm>
            <a:off x="401940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sldImg"/>
          </p:nvPr>
        </p:nvSpPr>
        <p:spPr>
          <a:xfrm>
            <a:off x="998280" y="769680"/>
            <a:ext cx="5111640" cy="383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8640" cy="4601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ftr" idx="14"/>
          </p:nvPr>
        </p:nvSpPr>
        <p:spPr>
          <a:xfrm>
            <a:off x="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 type="sldNum" idx="15"/>
          </p:nvPr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AD3BD-EA94-4291-AAFE-EED2A66050C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A9343D-BC15-42E8-8E22-F5EF21ED29F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98640" y="770040"/>
            <a:ext cx="5113080" cy="383544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3CF18-E085-4CDA-B610-56D1C982E09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98640" y="770040"/>
            <a:ext cx="5113080" cy="383544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443E7-1140-4C6C-89F7-85F4EBE5CE7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998640" y="770040"/>
            <a:ext cx="5113080" cy="383544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A47AE-2D1A-4A97-83EC-6E5AB0A41A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BB1BB-D334-4E2F-8C64-C68E9F6D151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F4015E-0F2E-43B2-8FB5-3926D7F93BC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CB01E7-CA94-4E14-BBB1-8875B7BABB3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C5A75E-AA12-4A57-A66F-76E94DF2881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B9E3B8-29A4-4C23-8872-4A6F153F67E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6EC153-59BC-4187-8E8B-39FF2E4B124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FBCE3C-57DA-42CE-A7C8-248262EEB5C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DCB538-05C0-4967-A164-2FBA9758979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A1090F-B6C2-4E05-956E-3029C25F949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F1C469-D50A-4DA6-B6F8-82B521ADB22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A8DC4-0B1A-4675-B5B0-121FC412E0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6BC19-263C-4DE3-8073-A96B9662E7A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26922-C32B-4D1A-A74A-48C82DC5648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CF538-9F50-4A99-8372-2BED80003ED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7C346-0C44-4FFC-B865-682E01B4EFF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C4972-E8B0-4977-A1C7-BD2FB2118BE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A9638-3C44-4444-85B5-DC0FE8AB789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3CFC8-4337-48ED-BF0D-24AF69AFE39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E94C0-FC34-4E4A-A10C-DE3F68A69C2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30356-FFFB-40BD-A8DE-145F6A33B23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648D9-DB17-4CC3-BFF0-C9A30F89795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2AF70-6D35-4E7E-B806-E438B0DD5E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A564C-0ED6-44B8-B47A-04909393B73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1A4A4-8CEB-4988-B096-BFA28D298DC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93740F-0074-4ACA-A013-D1E3FFC34DC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BD5935-03C7-4F55-8848-357CA85B83C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E1EBF4-740E-4FDA-8F9E-913FC1DD5F9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341B2B-B5AB-48DC-9501-D44DB4C002D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E1B023-64D8-4B88-A56C-DC9AD961C14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7011CC-9E8B-4B13-964F-D1550CDFADC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BDE43A-1919-4039-8A50-24DE7AC3133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1C6AFF-289A-44A7-AFC2-F947CD6AF2E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21E078-1BE4-4B4C-9195-F17F2A86E7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960662-87F2-4162-8F8F-23A960012A6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EA867F-217E-4C6C-9F91-A9DEC8BD60E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BC0335-F60A-4CEE-83E1-FBCB8967072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9E9515-591E-4105-B371-D22AFAB009D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2D14E4-42E8-4BE8-BF28-C64C48E4DDF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F7F816-0AE7-425C-88E4-CF8979F760E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C7867C-8B17-4A9A-A9C7-4D4A6AB231C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B693BD-3BB5-4D30-A1E4-810BA731425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BF65E2-F267-4E46-916B-397357BE62D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DDD13B-7F1D-4D91-8B1F-2D69E35E58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0B789B-3E50-4362-849A-F3B85CA2B7F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3DAB8E-F4E8-4CDF-89A3-919EDA3B185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BB9F2C-A467-4216-B44A-F5DC773D337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D45233-359B-4BF1-A67C-FD43F6D716C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6040F6-BF2B-43CE-897C-6BB97B5B172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0E10D-2355-4C3A-8AFE-A06830A46CE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A9EBE-2D7B-4CB9-A4FB-8F97BB3D517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67C1B-97D0-4991-9ABC-C9BC842A545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2FAD2-BA26-44E2-BE5F-4DD00496916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6E8FD-9D86-48F5-A959-021495EE9D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BE83D-185C-4C70-89FA-51C710498B1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04EA7-8882-412A-AA7D-BFACF4B01E7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C5412-1FFA-4645-907C-B62FE34825F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3E3AC-431D-4212-BBE1-DE2595E0CC2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83193-27EA-4389-B3B2-0B9795BB58F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A6264-1375-4C81-BF3D-B4CAFD36CCC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B13C1-31A2-4C7A-AD37-5137D651F4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88F7B-212D-4917-89C6-56588D53F7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2B89F-95D8-4A06-8884-D59D3E8BB30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CA6E5-1358-4908-9832-E6F472F1537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3EDEB-09F0-407C-8786-25712B82E69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16032-A91C-4D8A-A2B8-DE65A9A0E86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8CF86-9387-4120-AC48-AF50D6E606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E0C2B-BC8A-461F-9052-25A3E6A5B6E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F4C65-D04D-4612-B55A-3D56C814C3D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04DA4-309A-4CCD-8FA6-8A1213C319D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3A794-C1BD-4F45-971E-3F05A9FED77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0B7D3-F879-479B-A9C2-A73D77DF8D2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414E6-CD50-42EB-BD2F-DDB4DA3E7B0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C0735-F28A-42BA-8997-609B8381857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F25BA-0AA0-43AF-BCFA-7DFF4DB922A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01E6-8E69-4A08-B9BF-EEF0FA3DBFE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B594-8C01-4483-875F-182779BB85C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22CC-FA26-438E-915C-6C6E227CE6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2C49D-D3DB-464B-8550-87F542F679E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CD60-AC9F-4B78-B56B-A12E0DC079B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C05D-56C3-44A7-BFF4-A4413040DC7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8125-9EC0-4D26-A289-A8F0A1C939B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A30E-4028-4FC8-93B5-595CE71B285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BB7D-E401-4A0E-B790-0F49D9A8FA5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2314-D239-449C-ADD2-0539D7B7B13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C79E-24BB-485E-ACC0-1BFFE6E1344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68BB-BD3E-4F77-9775-7D8AA7C0A89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D7B5-2CE0-440B-A333-3B160CFD5FA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89C0F-EC58-4234-830D-9542BD0654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8D73E-7551-4483-993E-820D2B01AF9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2ABA1-3FD1-4410-B6C2-F587DD3E9C8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FAC79F-6B21-45F2-936F-6F7832E18E6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1AFC1-87B2-47AC-87B7-6EBAF135557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837A46-0835-4C3D-88E1-ABE8977C703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3E1973-98E7-452E-9B2F-A4CF3D3DF19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3C6C9-6368-4964-B8E1-3C4BC209DE4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D2C30-4DA0-44A3-9EFF-903CC62A980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37B13-D259-41E8-BDEC-551593FEC8D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C4BCC-4BFF-4D29-8BB2-F8CA25BAEF8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DA2B42-A0BD-4914-AC58-50CDECCE40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DC44A-AC82-4DD7-B96F-EE187082A57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FC8D9-1436-4F5C-823C-7637A009264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EA5B9-5D70-4B3B-B352-F302A92CE32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F23AD-DA4A-41E6-8AA2-EF67C44F6AE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77A3F-73CC-4304-83DC-29F9CDA56F1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E2C11-8C5E-41CB-B01E-E16BE282E6D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A4088D-4054-4EFA-B134-725ECDEEFEB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9103B-D8AC-479A-BEEB-3D65D2B876D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E5187-F366-4E30-B4E2-179582E5672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CA6A1-E799-4255-A411-1DA0D524BD9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C8E37-ACF2-471A-B67C-F2F5EE5726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E569D-066F-462D-8C85-67DB0D20927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DCAC9-CA45-4CEF-A47F-76A563DD65E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7BD21-D9CA-4B75-9DC5-7C0A956AE33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56721-805C-48E0-8006-3AEDEE70CCB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D639-F495-41E4-9C28-08588E8958E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394C-783C-4FF0-86D5-0CA59B21027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9667-1281-41B0-BA78-90748F9B992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310F-5211-4566-A489-742747E9CEA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4A6B-A328-4287-92B8-B898654349C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1ADB-9859-4F22-874A-335409073CF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DF29-6513-4B08-B41F-4DA081DBD1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9FC7F-A8D3-4C9F-8596-314027CD0C9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7696-CB63-4635-89B9-5D4735C9B87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6578-3F1C-4875-9399-7FEFB4144D3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6F64-294D-4794-A621-11E26716C54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0D37-AC49-4450-BA1B-72EE622F7D2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248A-929D-4445-AD74-5BBBC0DA2AB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522698-63B0-47CA-9AC7-39E1478DED9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ED29A7-0854-4D80-AC15-193DF357DAD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65ACD8-3E3C-4D47-98DF-BC41C7E386E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CAFCE4-5F8F-4250-AB29-4940FECB0A5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2F6D94-9375-44C0-98FF-656DE7B112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BA326-BA5E-4F87-A195-96BCECD36C4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55D1DB-EAE6-45D0-A31A-509F8546829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636516-9B25-4646-A14B-670C5F03228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790C0E-FF77-4FB2-ACFC-EA3FCF0AB41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96F254-FA00-418F-ADA3-199C66B0223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B8C617-75A2-4422-BACC-A09ABF31AA7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1A5C61-9FE8-4E01-BC09-5BA1FDEEB1D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A77A0E-0362-4ADC-830C-731A0FC0E18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41BB72-6AC5-419C-938A-A765DDDFBA3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2F5760-E8CE-4B72-9D3D-AB5C11369C2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A232B6-EA9D-4A9D-A633-7C066661FE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 </a:t>
            </a:r>
            <a:fld id="{65FB5B41-D697-401E-B27D-E5370DA424BB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0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4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9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13AB0858-C093-467A-A30C-E750F44C8FD3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Num" idx="10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6F23D64E-F0CE-497A-AAA8-00287A083E2D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11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273A9CB2-5EB4-4CFD-BDC7-3AEB20E59B60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6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12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C1DC476E-FA52-426F-935D-FAD97DA70ED1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2544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4160" y="2577600"/>
            <a:ext cx="7770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5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56" name="Text Box 8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3CEE462E-37F3-4FA2-AC60-F7A6F526403E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3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073CEAF9-E504-4687-8DC7-E9637C88C261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4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8BF78E48-5ED3-42D6-A16F-B720E1C8D0C0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5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22308480-9485-42C2-BF4C-58B39881630F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Num" idx="6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0019C1D3-D2C7-4992-8780-8FC4435A2417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Num" idx="7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ED6DC6DA-3BAD-4C98-B1F6-AD8B4A145BE6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4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sldNum" idx="8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75731276-68F6-4230-9BDE-950CBFF91233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openidentity.eu/" TargetMode="External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94920" y="3141360"/>
            <a:ext cx="8529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Neuigkeiten aus dem </a:t>
            </a:r>
            <a:br>
              <a:rPr sz="3600"/>
            </a:b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Open eCard Projekt</a:t>
            </a:r>
            <a:br>
              <a:rPr sz="3600"/>
            </a:br>
            <a:br>
              <a:rPr sz="6000"/>
            </a:b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16.05. 2013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3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4" name="Gruppieren 5"/>
          <p:cNvGrpSpPr/>
          <p:nvPr/>
        </p:nvGrpSpPr>
        <p:grpSpPr>
          <a:xfrm>
            <a:off x="3995640" y="1474920"/>
            <a:ext cx="1327320" cy="1325520"/>
            <a:chOff x="3995640" y="1474920"/>
            <a:chExt cx="1327320" cy="1325520"/>
          </a:xfrm>
        </p:grpSpPr>
        <p:sp>
          <p:nvSpPr>
            <p:cNvPr id="655" name="Abgerundetes Rechteck 4"/>
            <p:cNvSpPr/>
            <p:nvPr/>
          </p:nvSpPr>
          <p:spPr>
            <a:xfrm>
              <a:off x="3995640" y="1474920"/>
              <a:ext cx="1327320" cy="1325520"/>
            </a:xfrm>
            <a:prstGeom prst="roundRect">
              <a:avLst>
                <a:gd name="adj" fmla="val 2192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56" name="Grafik 5" descr=""/>
            <p:cNvPicPr/>
            <p:nvPr/>
          </p:nvPicPr>
          <p:blipFill>
            <a:blip r:embed="rId1"/>
            <a:stretch/>
          </p:blipFill>
          <p:spPr>
            <a:xfrm>
              <a:off x="3995640" y="1474920"/>
              <a:ext cx="1327320" cy="132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550520" y="260280"/>
            <a:ext cx="71247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Unterstützte Dienste (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91" name="Picture 3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56084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550520" y="260280"/>
            <a:ext cx="71247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Unterstützte Dienste (3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93" name="Picture 2" descr=""/>
          <p:cNvPicPr/>
          <p:nvPr/>
        </p:nvPicPr>
        <p:blipFill>
          <a:blip r:embed="rId1"/>
          <a:stretch/>
        </p:blipFill>
        <p:spPr>
          <a:xfrm>
            <a:off x="2013120" y="1052640"/>
            <a:ext cx="5584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3E8D77F6-FB89-4F7B-90FD-D01D582ABE62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Line 8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 Box 9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03" name="Picture 11" descr="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12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705" name="AutoShape 1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14"/>
          <p:cNvSpPr/>
          <p:nvPr/>
        </p:nvSpPr>
        <p:spPr>
          <a:xfrm>
            <a:off x="142920" y="170028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51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e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Grafik 18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99128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Version 1.0.2     heute um 11:37 Uhr veröffentlich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10" name="Picture 3" descr=""/>
          <p:cNvPicPr/>
          <p:nvPr/>
        </p:nvPicPr>
        <p:blipFill>
          <a:blip r:embed="rId1"/>
          <a:stretch/>
        </p:blipFill>
        <p:spPr>
          <a:xfrm>
            <a:off x="450720" y="1557360"/>
            <a:ext cx="8224920" cy="3757680"/>
          </a:xfrm>
          <a:prstGeom prst="rect">
            <a:avLst/>
          </a:prstGeom>
          <a:ln w="0">
            <a:noFill/>
          </a:ln>
        </p:spPr>
      </p:pic>
      <p:sp>
        <p:nvSpPr>
          <p:cNvPr id="711" name="Textfeld 3"/>
          <p:cNvSpPr/>
          <p:nvPr/>
        </p:nvSpPr>
        <p:spPr>
          <a:xfrm>
            <a:off x="2843280" y="177840"/>
            <a:ext cx="100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5177b2"/>
                </a:solidFill>
                <a:latin typeface="Arial"/>
              </a:rPr>
              <a:t>1.0.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543CC888-8F74-4A6C-81AE-E858F423828D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Line 8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Text Box 9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21" name="Picture 11" descr="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12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723" name="AutoShape 1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Rectangle 14"/>
          <p:cNvSpPr/>
          <p:nvPr/>
        </p:nvSpPr>
        <p:spPr>
          <a:xfrm>
            <a:off x="142920" y="213192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51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Grafik 18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rweiterbarkeit über Plugin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8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	</a:t>
            </a:r>
            <a:fld id="{0184C7C0-395F-42E2-BCD2-07ED6941A622}" type="slidenum">
              <a:rPr b="0" lang="de-DE" sz="18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9" name="Grafik 1" descr=""/>
          <p:cNvPicPr/>
          <p:nvPr/>
        </p:nvPicPr>
        <p:blipFill>
          <a:blip r:embed="rId1"/>
          <a:stretch/>
        </p:blipFill>
        <p:spPr>
          <a:xfrm>
            <a:off x="395280" y="1123920"/>
            <a:ext cx="846144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Picture 3" descr=""/>
          <p:cNvPicPr/>
          <p:nvPr/>
        </p:nvPicPr>
        <p:blipFill>
          <a:blip r:embed="rId1"/>
          <a:stretch/>
        </p:blipFill>
        <p:spPr>
          <a:xfrm>
            <a:off x="684360" y="1193760"/>
            <a:ext cx="7920000" cy="457848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81000" y="58050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eadline für Call for Papers: </a:t>
            </a:r>
            <a:r>
              <a:rPr b="1" lang="de-DE" sz="2800" spc="-1" strike="noStrike">
                <a:solidFill>
                  <a:srgbClr val="00ff00"/>
                </a:solidFill>
                <a:latin typeface="Arial"/>
              </a:rPr>
              <a:t>02.06.2013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2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472A4AD3-DFEE-49A9-88D2-4C8F0FBF78B7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itel 1"/>
          <p:cNvSpPr/>
          <p:nvPr/>
        </p:nvSpPr>
        <p:spPr>
          <a:xfrm>
            <a:off x="1701720" y="260280"/>
            <a:ext cx="71280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  <a:ea typeface="Arial"/>
              </a:rPr>
              <a:t>Open Identity Summit 20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Rechteck 1"/>
          <p:cNvSpPr/>
          <p:nvPr/>
        </p:nvSpPr>
        <p:spPr>
          <a:xfrm>
            <a:off x="5148360" y="4724280"/>
            <a:ext cx="3816360" cy="10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Textfeld 7"/>
          <p:cNvSpPr/>
          <p:nvPr/>
        </p:nvSpPr>
        <p:spPr>
          <a:xfrm>
            <a:off x="4041000" y="4941720"/>
            <a:ext cx="39481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http://openidentity.e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Man-in-the-Middle-Angriff gegen SAML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37" name="Grafik 4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8988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MitM@SAML (reloaded?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39" name="Grafik 3" descr=""/>
          <p:cNvPicPr/>
          <p:nvPr/>
        </p:nvPicPr>
        <p:blipFill>
          <a:blip r:embed="rId1"/>
          <a:stretch/>
        </p:blipFill>
        <p:spPr>
          <a:xfrm>
            <a:off x="468360" y="1104840"/>
            <a:ext cx="8023320" cy="5400720"/>
          </a:xfrm>
          <a:prstGeom prst="rect">
            <a:avLst/>
          </a:prstGeom>
          <a:ln w="0">
            <a:noFill/>
          </a:ln>
        </p:spPr>
      </p:pic>
      <p:grpSp>
        <p:nvGrpSpPr>
          <p:cNvPr id="740" name="Gruppieren 6"/>
          <p:cNvGrpSpPr/>
          <p:nvPr/>
        </p:nvGrpSpPr>
        <p:grpSpPr>
          <a:xfrm>
            <a:off x="5580000" y="3457440"/>
            <a:ext cx="419040" cy="1195560"/>
            <a:chOff x="5580000" y="3457440"/>
            <a:chExt cx="419040" cy="1195560"/>
          </a:xfrm>
        </p:grpSpPr>
        <p:pic>
          <p:nvPicPr>
            <p:cNvPr id="741" name="Picture 2" descr=""/>
            <p:cNvPicPr/>
            <p:nvPr/>
          </p:nvPicPr>
          <p:blipFill>
            <a:blip r:embed="rId2"/>
            <a:stretch/>
          </p:blipFill>
          <p:spPr>
            <a:xfrm>
              <a:off x="5580000" y="3457440"/>
              <a:ext cx="419040" cy="4953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742" name="Gerade Verbindung mit Pfeil 5"/>
            <p:cNvCxnSpPr/>
            <p:nvPr/>
          </p:nvCxnSpPr>
          <p:spPr>
            <a:xfrm>
              <a:off x="5789160" y="3952440"/>
              <a:ext cx="1080" cy="70092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de-DE" sz="1200" spc="-1" strike="noStrike">
                <a:solidFill>
                  <a:srgbClr val="00cc99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00cc99"/>
                </a:solidFill>
                <a:latin typeface="Arial"/>
              </a:rPr>
              <a:t>	</a:t>
            </a:r>
            <a:fld id="{27E51A8E-BDD6-458A-8B38-71A3129CC379}" type="slidenum">
              <a:rPr b="1" lang="de-DE" sz="1200" spc="-1" strike="noStrike">
                <a:solidFill>
                  <a:srgbClr val="00cc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de-DE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000" spc="-1" strike="noStrike">
                <a:solidFill>
                  <a:srgbClr val="00cc99"/>
                </a:solidFill>
                <a:latin typeface="Arial"/>
              </a:rPr>
              <a:t>© Copyright 2010 ecsec GmbH, All Rights Reserved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Rectangle 6"/>
          <p:cNvSpPr/>
          <p:nvPr/>
        </p:nvSpPr>
        <p:spPr>
          <a:xfrm>
            <a:off x="614520" y="25779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4000" spc="-1" strike="noStrike">
                <a:solidFill>
                  <a:srgbClr val="4d4d4d"/>
                </a:solidFill>
                <a:latin typeface="Arial"/>
              </a:rPr>
              <a:t>Titelmasterformat durch Klicken bearbeit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Arial"/>
              </a:rPr>
              <a:t>Formatvorlage des Untertitelmasters durch Klicken bearbei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Text Box 10"/>
          <p:cNvSpPr/>
          <p:nvPr/>
        </p:nvSpPr>
        <p:spPr>
          <a:xfrm>
            <a:off x="33120" y="6524640"/>
            <a:ext cx="207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© 2013 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2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753" name="Rectangle 17"/>
          <p:cNvSpPr/>
          <p:nvPr/>
        </p:nvSpPr>
        <p:spPr>
          <a:xfrm>
            <a:off x="1332000" y="11239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Rectangle 18"/>
          <p:cNvSpPr/>
          <p:nvPr/>
        </p:nvSpPr>
        <p:spPr>
          <a:xfrm>
            <a:off x="1332000" y="2852640"/>
            <a:ext cx="6696000" cy="295272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Text Box 19"/>
          <p:cNvSpPr/>
          <p:nvPr/>
        </p:nvSpPr>
        <p:spPr>
          <a:xfrm>
            <a:off x="1340280" y="285264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MS PGothic"/>
              </a:rPr>
              <a:t>Kontak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 Box 14"/>
          <p:cNvSpPr/>
          <p:nvPr/>
        </p:nvSpPr>
        <p:spPr>
          <a:xfrm>
            <a:off x="1545120" y="1108080"/>
            <a:ext cx="618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MS PGothic"/>
              </a:rPr>
              <a:t>Herzlichen Dank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MS PGothic"/>
              </a:rPr>
              <a:t>für Ihre Aufmerksamkeit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11DB66B6-7384-43EC-9E8B-DC3DE0F9100A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hteck 2"/>
          <p:cNvSpPr/>
          <p:nvPr/>
        </p:nvSpPr>
        <p:spPr>
          <a:xfrm>
            <a:off x="2843280" y="3141720"/>
            <a:ext cx="3754440" cy="2413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Textfeld 2"/>
          <p:cNvSpPr/>
          <p:nvPr/>
        </p:nvSpPr>
        <p:spPr>
          <a:xfrm>
            <a:off x="2899440" y="4365720"/>
            <a:ext cx="173988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c/o ecsec Gmb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Sudetenstraße 1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96247 Michela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Telefon +49 9571 89647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obil    +49 171 975498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detlef.huehnlein@ecsec.d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Textfeld 21"/>
          <p:cNvSpPr/>
          <p:nvPr/>
        </p:nvSpPr>
        <p:spPr>
          <a:xfrm>
            <a:off x="4932360" y="4395960"/>
            <a:ext cx="1584360" cy="6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Dr. Detlef Hühnlei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7f7f7f"/>
                </a:solidFill>
                <a:latin typeface="Arial"/>
              </a:rPr>
              <a:t>Projektleit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Gerade Verbindung 24"/>
          <p:cNvSpPr/>
          <p:nvPr/>
        </p:nvSpPr>
        <p:spPr>
          <a:xfrm>
            <a:off x="4792680" y="4057560"/>
            <a:ext cx="0" cy="132408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2" name="Grafik 1" descr=""/>
          <p:cNvPicPr/>
          <p:nvPr/>
        </p:nvPicPr>
        <p:blipFill>
          <a:blip r:embed="rId2"/>
          <a:stretch/>
        </p:blipFill>
        <p:spPr>
          <a:xfrm>
            <a:off x="3471840" y="3314880"/>
            <a:ext cx="763560" cy="763560"/>
          </a:xfrm>
          <a:prstGeom prst="rect">
            <a:avLst/>
          </a:prstGeom>
          <a:ln w="0">
            <a:noFill/>
          </a:ln>
        </p:spPr>
      </p:pic>
      <p:sp>
        <p:nvSpPr>
          <p:cNvPr id="763" name="Textfeld 25"/>
          <p:cNvSpPr/>
          <p:nvPr/>
        </p:nvSpPr>
        <p:spPr>
          <a:xfrm>
            <a:off x="3351240" y="4048200"/>
            <a:ext cx="1004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pen eCard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4" name="Grafik 4" descr=""/>
          <p:cNvPicPr/>
          <p:nvPr/>
        </p:nvPicPr>
        <p:blipFill>
          <a:blip r:embed="rId3"/>
          <a:stretch/>
        </p:blipFill>
        <p:spPr>
          <a:xfrm>
            <a:off x="4721400" y="3476520"/>
            <a:ext cx="1579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EE81F9CA-D70E-4022-9981-3DB66A982F91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Line 8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 Box 9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66" name="Picture 11" descr="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2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668" name="AutoShape 1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14"/>
          <p:cNvSpPr/>
          <p:nvPr/>
        </p:nvSpPr>
        <p:spPr>
          <a:xfrm>
            <a:off x="142920" y="119556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51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Grafik 18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73" name="Picture 2" descr=""/>
          <p:cNvPicPr/>
          <p:nvPr/>
        </p:nvPicPr>
        <p:blipFill>
          <a:blip r:embed="rId1"/>
          <a:stretch/>
        </p:blipFill>
        <p:spPr>
          <a:xfrm>
            <a:off x="-6480" y="-27000"/>
            <a:ext cx="9201240" cy="5472000"/>
          </a:xfrm>
          <a:prstGeom prst="rect">
            <a:avLst/>
          </a:prstGeom>
          <a:ln w="0">
            <a:noFill/>
          </a:ln>
        </p:spPr>
      </p:pic>
      <p:sp>
        <p:nvSpPr>
          <p:cNvPr id="674" name="Textfeld 1"/>
          <p:cNvSpPr/>
          <p:nvPr/>
        </p:nvSpPr>
        <p:spPr>
          <a:xfrm>
            <a:off x="1476360" y="612720"/>
            <a:ext cx="100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5177b2"/>
                </a:solidFill>
                <a:latin typeface="Arial"/>
              </a:rPr>
              <a:t>1.0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618920" y="209520"/>
            <a:ext cx="71247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ource: http://source.openecard.org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76" name="Picture 2" descr=""/>
          <p:cNvPicPr/>
          <p:nvPr/>
        </p:nvPicPr>
        <p:blipFill>
          <a:blip r:embed="rId1"/>
          <a:stretch/>
        </p:blipFill>
        <p:spPr>
          <a:xfrm>
            <a:off x="324000" y="1155600"/>
            <a:ext cx="858204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Neue eID-Aktivierung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78" name="Picture 2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1579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0720" cy="503856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lte eID-Aktivierung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3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5218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0720" cy="503856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2" descr=""/>
          <p:cNvPicPr/>
          <p:nvPr/>
        </p:nvPicPr>
        <p:blipFill>
          <a:blip r:embed="rId2"/>
          <a:stretch/>
        </p:blipFill>
        <p:spPr>
          <a:xfrm>
            <a:off x="0" y="-17640"/>
            <a:ext cx="9140760" cy="5750280"/>
          </a:xfrm>
          <a:prstGeom prst="rect">
            <a:avLst/>
          </a:prstGeom>
          <a:ln w="0">
            <a:noFill/>
          </a:ln>
        </p:spPr>
      </p:pic>
      <p:sp>
        <p:nvSpPr>
          <p:cNvPr id="687" name="Textfeld 4"/>
          <p:cNvSpPr/>
          <p:nvPr/>
        </p:nvSpPr>
        <p:spPr>
          <a:xfrm>
            <a:off x="1476360" y="612720"/>
            <a:ext cx="100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5177b2"/>
                </a:solidFill>
                <a:latin typeface="Arial"/>
              </a:rPr>
              <a:t>1.0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550520" y="260280"/>
            <a:ext cx="71247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Unterstützte Dienste (1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2124000" y="1125360"/>
            <a:ext cx="5675400" cy="538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detlef.huehnlein</cp:lastModifiedBy>
  <dcterms:modified xsi:type="dcterms:W3CDTF">2013-05-20T21:30:11Z</dcterms:modified>
  <cp:revision>583</cp:revision>
  <dc:subject>Unternehmenspräsentation</dc:subject>
  <dc:title>secunet</dc:title>
</cp:coreProperties>
</file>