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13"/>
          </p:nvPr>
        </p:nvSpPr>
        <p:spPr>
          <a:xfrm>
            <a:off x="401940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Img"/>
          </p:nvPr>
        </p:nvSpPr>
        <p:spPr>
          <a:xfrm>
            <a:off x="998280" y="769680"/>
            <a:ext cx="51116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8640" cy="4601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ftr" idx="14"/>
          </p:nvPr>
        </p:nvSpPr>
        <p:spPr>
          <a:xfrm>
            <a:off x="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 type="sldNum" idx="15"/>
          </p:nvPr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836B9-D450-42EE-BF5A-681ED4596CA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70AA5-0E63-4AF2-81DF-36C5951EB4D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111B8-2B4D-4CF4-A750-5DD7DD91D08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AECF0-3D6E-48DC-AE57-2B08EC95E84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C162-C51B-495F-A66F-7914F57B5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863A-4C01-48A1-A865-24E788A2B83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FCBAF-9B1C-4A6D-B36F-80A8E3F34B9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C426C-D44C-49F6-8821-5ABF5A3989E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EDD4E-C589-426C-B2BD-148C92DEBA5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4ED84-12B0-4F13-A6ED-D518649531F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E74918-C5E7-4CA0-A736-AD89C1FAA13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7DE75-047A-4AF3-A408-5BC72307E7C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3F837-DF41-4CFB-B218-5EF351447CE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FAC77-F802-44AA-B2FB-9484AA4CF49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47A7B9-C7A1-45EE-B009-99E88702B77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66B1A-189F-43AB-952C-C530ED1EC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50FD-804D-465B-9A9C-6E63D590FD2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8DAD8-E951-4462-AB6A-DCBF4D8E9D7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06BE6-432F-44D3-A182-07B8F8D4D19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110BA-495A-4E23-BE16-E55779598D9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46881-782F-40E3-84F7-933B62A093D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7CF2C-3100-437E-90CC-B07A0984320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2630F-A359-4B90-8D21-ADF77288C7C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838C9-8E2E-440B-A3E5-62ECDEB745B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798FC-9F6D-4CC1-92BD-6C797CA0EDF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7DB3E-D168-4F37-9E73-0941706A891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69450-25DC-4915-9796-99C7379B5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65ED-02BD-4B77-A305-76A72606F80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C4A72-CAC0-4F11-BD67-96CBD8E84EB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2F8BAC-424A-4B8A-8C74-B7E86E4094B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95FC4D-3F1F-4F30-B2CA-CB7D7DAECD0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AFB192-1EB9-4245-BE14-357B17AD646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EC70C2-A26F-4F5C-A340-BE30C63D557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41BB40-1251-4A99-9B3E-2A770CA75AE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51A064-EC01-4E2C-8684-38D22ECA696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430E84-A8D3-4649-AC6C-94C3358C440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BA2E51-2CD6-4C79-833F-25C1C0DA8CD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C06705-831B-4C4C-A997-6E23821F3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D3908E-870C-43FC-BD4D-322954BDB76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1E2D4F-8E24-41AB-8D8E-51EDD751E04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4680F6-647F-489C-91BE-23EADE4D193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DD6B07-323F-4DF9-8D52-557FCE66609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F9C426-8DFD-4D00-BB60-81AA9A28B20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8015CA-94A3-46B7-854A-8841D98A2BF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208F10-89AE-45DF-BF51-0BD82E80157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6A6F8C-D317-4632-BD99-8923BD61BAB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730DBB-92DC-4018-98F3-37B944AC218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B4AA58-AB24-4C83-AB90-BF02C85B63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8C66A9-54FB-444C-B053-836ECAF5B27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EE2F2A-D63E-4FB5-A56E-F0CA1187D46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738D94-EC53-4D21-A7E8-0295372B943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3B9EE8-E72E-45F1-9B95-CC88B8DA1CF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E32B84-F4DE-4ADE-B58B-F60D5C0A07C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2BEAA-C165-4B8C-895F-11B24FC74A1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A868A-7111-4C68-B88D-03C4F3DFF0C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CBA86-1F28-46A4-AB1F-B939B4E404D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2A49D-4B66-4D22-9A95-A829753FAB3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84682-F881-4772-A169-476C023204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4C694-3ED5-4D7F-9E20-6F193C41133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E06D9-B54E-44F0-A3C5-774D0CD36DF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6A3B3-9D58-4EC3-A315-023D6F719E1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CC787-84B7-4B57-A0C7-1903095ABB9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5EF35-7B30-4C5F-9FFE-55775A4FA55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707EE-7408-4E5E-9D82-5AC6153DC48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C2FFC-8664-4D9E-AA64-C42BA29252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EF4A-74F5-45BD-BEBD-D5944037C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688E3-94D8-4AE3-9E7D-89D69A42BD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A7C76-88AC-4EF9-935B-FF9A7FFC6D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E69D2-D553-4252-8DA2-FF2C628B19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9729A-950C-4528-8AB1-B585CAEFC0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AC264-FD13-4856-9BBA-49FB76FA72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9F45-E639-43B6-B155-5E4784DA9E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1B300-3103-4AE7-AC69-3534FDAC39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1A56C-7032-4AF1-99E6-D65B030AA7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49903-92FB-4A24-96C9-A6CC7C5810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DEF24-F64A-4FA1-894A-C9A164FE50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F4A92-9A03-4C63-95E7-D24CF8A18D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A1C46-E853-49C9-8C96-6B25E3751B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F10B0-D4BD-45F9-90C7-7C99D33D4B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17C-B356-401F-BB73-88952F037E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0EEC-6CC4-4274-BFB1-EC9CBFF1705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0C02-B98C-4CF1-8938-CD066EC53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44B9-EC66-460A-9FDE-087C99ECEA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A709-2528-48E1-964B-7A40507C6B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E33-AFDE-425F-8082-DE07388E86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DE2B-6719-498E-AC43-78ECEA18E8A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1C2A-3DC1-4021-8C1C-D0B1F0D56FC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3186-6BBE-452D-851C-836BCC1245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C49-0EBC-48E3-A571-ADEDD387BB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E8D-7CA9-4CBB-80E5-C9987524EA5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32E9-0744-450F-BD3B-0AF45A7B926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85C-35E6-4339-A9DC-F0CE601F906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5C5C3-EF8A-40FB-85BB-70980BAA1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BDAA-C31D-4B2C-A4B4-AC420583653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51CAC-9D8E-45AA-AC7A-0F4BAC88224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10D6C-0F21-4367-8D7A-9F0B5613EC4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3E6CC-C913-4B0E-93E7-1B76A063027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A5084-1A49-433D-88EA-E5A1D6BD8BF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6AF91-2D79-47DC-8E84-0F2E9C7596C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24302-F875-4EF3-A604-56DFA200386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D477F-948D-44C3-B34E-72223EA9867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D09C6-D642-47C1-8857-3E6F5C8A907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2652B-68F4-4E92-A307-230D54A1374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00256-D0DC-4DDF-9C0E-4BDDACE88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23E1-BDBF-4584-8721-5D2A22DFE58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9E8C2-A6CA-4FA1-8A78-955F7657186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83A28-174F-453F-BD16-0C6762A9736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3295D-C34E-4263-8D94-993F747843A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76E44-13DD-42A8-9ED2-42F323BEAEE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965E7-A4BA-4A91-A2E5-B0D3AA00F8F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6C3E9-747A-42F4-BC49-4ABC95A98BA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3AEC0-98E3-4A81-9F60-D1500205CE3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4A308-9C7B-48E7-B5D0-A9A6E941C61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D3537-4E20-4537-A074-3CDEBB99AC9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040D9-B3AC-4A1C-AB8C-4743D4768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1375-3085-4F5B-8386-6E0A16DEFEA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C3B7B-AFBC-46D1-8EF5-47FD37C73E6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69CCC-C4B6-4530-8A3C-14AB32F11D5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755F1-A043-4F5A-8A99-4424A2A0DAB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72DD-1783-4B33-AC1C-1CDEEECA728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060D-E69F-42DF-ADA7-EE2E8A1A342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BF05-34D2-4624-A89A-3E849B84DD5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115E-7E39-458F-AE37-0EE5FF305E8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FF51-C150-47E3-941D-39C5CAE7341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9258-D171-421E-85FB-6A18BEDE256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8DFA-0AC2-4985-AF1F-4D0F3C2B0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4B35-BF37-40E0-813C-7C5222469BD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7160-B26C-4585-ADFD-351AD298F14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6C83-EB67-49E9-9567-C9A9F10EE27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63C4-83FC-4C12-92B3-1A459EF7573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9CB3-8F80-4B9F-A60F-CF2390A1235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6A22-852D-4D12-B5E7-E14F7C9BB95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E44F4D-2C0A-483D-9D94-38371426621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502C2D-89E4-48EC-9B4E-15F7245065A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F92729-AFC1-4492-B5F3-7C1289BBD6E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3B6898-2A24-42FF-B6FA-695E9C6B0CD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0DD3F5-2550-4412-9911-DC80E44FB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5062D-3AF8-44C3-A06A-FABDD69402D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1870CB-3876-4F3D-99AA-B8D8EE1D375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2119F3-9DA8-44F4-BF33-54F1E3E1C08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6AFB88-D556-4B11-980B-725FF145A16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6B6A23-7362-4D15-9A8F-F903D267988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B626BC-25BD-47B0-9F59-4337D4B42B5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7B5A2B-890D-4F67-916C-BEA5FB6D74B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CDCE32-CF79-45D0-85FA-B1D6F81ADFF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C72CC-33D6-4CAB-BE89-DE64761661E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8C730-C828-4317-B192-870CE1E4F11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C836F-7B1C-49F7-AC94-29F7FD542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 </a:t>
            </a:r>
            <a:fld id="{AE6E7A39-3674-4093-9C70-355E243A7AFC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9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9104F8C1-85AA-4794-942D-59468C212585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0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341F30BB-737F-44CC-803D-2C67AED5CA3E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B334993A-A877-4DA3-9CEA-3730E9D62E06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1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0A681D27-B7BF-4BE8-B41B-9E5FB59BA7F4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544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4160" y="2577600"/>
            <a:ext cx="7770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56" name="Text Box 8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8FC03774-C84D-4F02-9ED6-1B83E7657537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3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EE127C34-A5D9-4AE1-9FE7-FC0CC9C9451C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4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DB8A8825-DC5A-4C38-985C-541264F237C2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5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C320581D-E08C-4FF1-B659-9C88ED7A6E05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6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CD16D9F4-2F3B-457D-83A1-2C99C0C96683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7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FFD34055-3322-4E09-9086-C3AFB5BE4016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8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69C8643D-7164-446F-AC99-60FFD69714F7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openidentity.eu/" TargetMode="External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4920" y="3141360"/>
            <a:ext cx="8529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Neuigkeiten aus dem </a:t>
            </a:r>
            <a:br>
              <a:rPr sz="36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Open eCard Projekt</a:t>
            </a:r>
            <a:br>
              <a:rPr sz="3600"/>
            </a:br>
            <a:br>
              <a:rPr sz="6000"/>
            </a:b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16.05. 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Gruppieren 5"/>
          <p:cNvGrpSpPr/>
          <p:nvPr/>
        </p:nvGrpSpPr>
        <p:grpSpPr>
          <a:xfrm>
            <a:off x="3995640" y="1474920"/>
            <a:ext cx="1327320" cy="1325520"/>
            <a:chOff x="3995640" y="1474920"/>
            <a:chExt cx="1327320" cy="1325520"/>
          </a:xfrm>
        </p:grpSpPr>
        <p:sp>
          <p:nvSpPr>
            <p:cNvPr id="655" name="Abgerundetes Rechteck 4"/>
            <p:cNvSpPr/>
            <p:nvPr/>
          </p:nvSpPr>
          <p:spPr>
            <a:xfrm>
              <a:off x="3995640" y="1474920"/>
              <a:ext cx="1327320" cy="1325520"/>
            </a:xfrm>
            <a:prstGeom prst="roundRect">
              <a:avLst>
                <a:gd name="adj" fmla="val 2192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6" name="Grafik 5" descr=""/>
            <p:cNvPicPr/>
            <p:nvPr/>
          </p:nvPicPr>
          <p:blipFill>
            <a:blip r:embed="rId1"/>
            <a:stretch/>
          </p:blipFill>
          <p:spPr>
            <a:xfrm>
              <a:off x="3995640" y="1474920"/>
              <a:ext cx="1327320" cy="132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608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3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2013120" y="1052640"/>
            <a:ext cx="5584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C0D0DCC5-9DEB-4987-B643-7D07D662B088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03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05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142920" y="1700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99128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Version 1.0.2     heute um 11:37 Uhr veröffentlich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1"/>
          <a:stretch/>
        </p:blipFill>
        <p:spPr>
          <a:xfrm>
            <a:off x="450720" y="1557360"/>
            <a:ext cx="8224920" cy="3757680"/>
          </a:xfrm>
          <a:prstGeom prst="rect">
            <a:avLst/>
          </a:prstGeom>
          <a:ln w="0">
            <a:noFill/>
          </a:ln>
        </p:spPr>
      </p:pic>
      <p:sp>
        <p:nvSpPr>
          <p:cNvPr id="711" name="Textfeld 3"/>
          <p:cNvSpPr/>
          <p:nvPr/>
        </p:nvSpPr>
        <p:spPr>
          <a:xfrm>
            <a:off x="2843280" y="17784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48CC3878-DA72-4B06-9D97-667C5772A50B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21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14"/>
          <p:cNvSpPr/>
          <p:nvPr/>
        </p:nvSpPr>
        <p:spPr>
          <a:xfrm>
            <a:off x="142920" y="213192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rweiterbarkeit über Plugi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	</a:t>
            </a:r>
            <a:fld id="{6844D4B2-621C-4B89-BB29-DDED227F6AB0}" type="slidenum">
              <a:rPr b="0" lang="de-DE" sz="18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Grafik 1" descr=""/>
          <p:cNvPicPr/>
          <p:nvPr/>
        </p:nvPicPr>
        <p:blipFill>
          <a:blip r:embed="rId1"/>
          <a:stretch/>
        </p:blipFill>
        <p:spPr>
          <a:xfrm>
            <a:off x="395280" y="1123920"/>
            <a:ext cx="84614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3" descr=""/>
          <p:cNvPicPr/>
          <p:nvPr/>
        </p:nvPicPr>
        <p:blipFill>
          <a:blip r:embed="rId1"/>
          <a:stretch/>
        </p:blipFill>
        <p:spPr>
          <a:xfrm>
            <a:off x="684360" y="1193760"/>
            <a:ext cx="7920000" cy="457848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81000" y="58050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eadline für Call for Papers: </a:t>
            </a:r>
            <a:r>
              <a:rPr b="1" lang="de-DE" sz="2800" spc="-1" strike="noStrike">
                <a:solidFill>
                  <a:srgbClr val="00ff00"/>
                </a:solidFill>
                <a:latin typeface="Arial"/>
              </a:rPr>
              <a:t>02.06.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6A79B402-F0B2-4090-813C-6F40468D5EA3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itel 1"/>
          <p:cNvSpPr/>
          <p:nvPr/>
        </p:nvSpPr>
        <p:spPr>
          <a:xfrm>
            <a:off x="1701720" y="260280"/>
            <a:ext cx="7128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  <a:ea typeface="Arial"/>
              </a:rPr>
              <a:t>Open Identity Summit 20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hteck 1"/>
          <p:cNvSpPr/>
          <p:nvPr/>
        </p:nvSpPr>
        <p:spPr>
          <a:xfrm>
            <a:off x="5148360" y="4724280"/>
            <a:ext cx="3816360" cy="10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feld 7"/>
          <p:cNvSpPr/>
          <p:nvPr/>
        </p:nvSpPr>
        <p:spPr>
          <a:xfrm>
            <a:off x="4041000" y="4941720"/>
            <a:ext cx="3948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openidentity.e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an-in-the-Middle-Angriff gegen SAML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7" name="Grafik 4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89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itM@SAML (reloaded?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9" name="Grafik 3" descr=""/>
          <p:cNvPicPr/>
          <p:nvPr/>
        </p:nvPicPr>
        <p:blipFill>
          <a:blip r:embed="rId1"/>
          <a:stretch/>
        </p:blipFill>
        <p:spPr>
          <a:xfrm>
            <a:off x="468360" y="1104840"/>
            <a:ext cx="8023320" cy="5400720"/>
          </a:xfrm>
          <a:prstGeom prst="rect">
            <a:avLst/>
          </a:prstGeom>
          <a:ln w="0">
            <a:noFill/>
          </a:ln>
        </p:spPr>
      </p:pic>
      <p:grpSp>
        <p:nvGrpSpPr>
          <p:cNvPr id="740" name="Gruppieren 6"/>
          <p:cNvGrpSpPr/>
          <p:nvPr/>
        </p:nvGrpSpPr>
        <p:grpSpPr>
          <a:xfrm>
            <a:off x="5580000" y="3457440"/>
            <a:ext cx="419040" cy="1195560"/>
            <a:chOff x="5580000" y="3457440"/>
            <a:chExt cx="419040" cy="1195560"/>
          </a:xfrm>
        </p:grpSpPr>
        <p:pic>
          <p:nvPicPr>
            <p:cNvPr id="741" name="Picture 2" descr=""/>
            <p:cNvPicPr/>
            <p:nvPr/>
          </p:nvPicPr>
          <p:blipFill>
            <a:blip r:embed="rId2"/>
            <a:stretch/>
          </p:blipFill>
          <p:spPr>
            <a:xfrm>
              <a:off x="5580000" y="3457440"/>
              <a:ext cx="419040" cy="495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42" name="Gerade Verbindung mit Pfeil 5"/>
            <p:cNvCxnSpPr/>
            <p:nvPr/>
          </p:nvCxnSpPr>
          <p:spPr>
            <a:xfrm>
              <a:off x="5789160" y="3952440"/>
              <a:ext cx="1080" cy="7009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	</a:t>
            </a:r>
            <a:fld id="{918BD90F-15C7-44FF-A2BB-9E0B540EF477}" type="slidenum">
              <a:rPr b="1" lang="de-DE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cc99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10"/>
          <p:cNvSpPr/>
          <p:nvPr/>
        </p:nvSpPr>
        <p:spPr>
          <a:xfrm>
            <a:off x="33120" y="6524640"/>
            <a:ext cx="20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© 2013 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753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MS PGothic"/>
              </a:rPr>
              <a:t>Kontak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4"/>
          <p:cNvSpPr/>
          <p:nvPr/>
        </p:nvSpPr>
        <p:spPr>
          <a:xfrm>
            <a:off x="1545120" y="11080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für Ihre Aufmerksamkeit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398CC75D-A7BC-425F-A7D9-BA20346A26E5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hteck 2"/>
          <p:cNvSpPr/>
          <p:nvPr/>
        </p:nvSpPr>
        <p:spPr>
          <a:xfrm>
            <a:off x="2843280" y="3141720"/>
            <a:ext cx="3754440" cy="241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feld 2"/>
          <p:cNvSpPr/>
          <p:nvPr/>
        </p:nvSpPr>
        <p:spPr>
          <a:xfrm>
            <a:off x="2899440" y="4365720"/>
            <a:ext cx="1739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c/o ecsec Gmb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Sudetenstraße 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96247 Michela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Telefon +49 9571 89647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obil    +49 171 975498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detlef.huehnlein@ecsec.d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feld 21"/>
          <p:cNvSpPr/>
          <p:nvPr/>
        </p:nvSpPr>
        <p:spPr>
          <a:xfrm>
            <a:off x="4932360" y="4395960"/>
            <a:ext cx="158436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r. Detlef Hühnlei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7f7f7f"/>
                </a:solidFill>
                <a:latin typeface="Arial"/>
              </a:rPr>
              <a:t>Projektleit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Gerade Verbindung 24"/>
          <p:cNvSpPr/>
          <p:nvPr/>
        </p:nvSpPr>
        <p:spPr>
          <a:xfrm>
            <a:off x="4792680" y="4057560"/>
            <a:ext cx="0" cy="13240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2" name="Grafik 1" descr=""/>
          <p:cNvPicPr/>
          <p:nvPr/>
        </p:nvPicPr>
        <p:blipFill>
          <a:blip r:embed="rId2"/>
          <a:stretch/>
        </p:blipFill>
        <p:spPr>
          <a:xfrm>
            <a:off x="3471840" y="3314880"/>
            <a:ext cx="763560" cy="763560"/>
          </a:xfrm>
          <a:prstGeom prst="rect">
            <a:avLst/>
          </a:prstGeom>
          <a:ln w="0">
            <a:noFill/>
          </a:ln>
        </p:spPr>
      </p:pic>
      <p:sp>
        <p:nvSpPr>
          <p:cNvPr id="763" name="Textfeld 25"/>
          <p:cNvSpPr/>
          <p:nvPr/>
        </p:nvSpPr>
        <p:spPr>
          <a:xfrm>
            <a:off x="3351240" y="404820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pen eCar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Grafik 4" descr=""/>
          <p:cNvPicPr/>
          <p:nvPr/>
        </p:nvPicPr>
        <p:blipFill>
          <a:blip r:embed="rId3"/>
          <a:stretch/>
        </p:blipFill>
        <p:spPr>
          <a:xfrm>
            <a:off x="4721400" y="3476520"/>
            <a:ext cx="1579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793A81FA-698F-42B2-8E19-784352FF354D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66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14"/>
          <p:cNvSpPr/>
          <p:nvPr/>
        </p:nvSpPr>
        <p:spPr>
          <a:xfrm>
            <a:off x="14292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-6480" y="-27000"/>
            <a:ext cx="9201240" cy="5472000"/>
          </a:xfrm>
          <a:prstGeom prst="rect">
            <a:avLst/>
          </a:prstGeom>
          <a:ln w="0">
            <a:noFill/>
          </a:ln>
        </p:spPr>
      </p:pic>
      <p:sp>
        <p:nvSpPr>
          <p:cNvPr id="674" name="Textfeld 1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618920" y="2095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ource: http://source.openecard.or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6" name="Picture 2" descr=""/>
          <p:cNvPicPr/>
          <p:nvPr/>
        </p:nvPicPr>
        <p:blipFill>
          <a:blip r:embed="rId1"/>
          <a:stretch/>
        </p:blipFill>
        <p:spPr>
          <a:xfrm>
            <a:off x="324000" y="1155600"/>
            <a:ext cx="858204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eu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8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57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lt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521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" descr=""/>
          <p:cNvPicPr/>
          <p:nvPr/>
        </p:nvPicPr>
        <p:blipFill>
          <a:blip r:embed="rId2"/>
          <a:stretch/>
        </p:blipFill>
        <p:spPr>
          <a:xfrm>
            <a:off x="0" y="-17640"/>
            <a:ext cx="9140760" cy="5750280"/>
          </a:xfrm>
          <a:prstGeom prst="rect">
            <a:avLst/>
          </a:prstGeom>
          <a:ln w="0">
            <a:noFill/>
          </a:ln>
        </p:spPr>
      </p:pic>
      <p:sp>
        <p:nvSpPr>
          <p:cNvPr id="687" name="Textfeld 4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1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5675400" cy="53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dcterms:modified xsi:type="dcterms:W3CDTF">2013-05-20T21:30:11Z</dcterms:modified>
  <cp:revision>583</cp:revision>
  <dc:subject>Unternehmenspräsentation</dc:subject>
  <dc:title>secunet</dc:title>
</cp:coreProperties>
</file>