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13"/>
          </p:nvPr>
        </p:nvSpPr>
        <p:spPr>
          <a:xfrm>
            <a:off x="401940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Img"/>
          </p:nvPr>
        </p:nvSpPr>
        <p:spPr>
          <a:xfrm>
            <a:off x="998280" y="76968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8640" cy="4601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ftr" idx="14"/>
          </p:nvPr>
        </p:nvSpPr>
        <p:spPr>
          <a:xfrm>
            <a:off x="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 type="sldNum" idx="15"/>
          </p:nvPr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09141-2400-497F-9C73-2F9A26A0B82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07B2F-8B50-4C9B-842E-5AA4A71C15D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CCF27-9565-4A29-A59C-3AB0318A62E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81850-CE3D-4240-B660-4AEC189EDB2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4B05-D97C-4616-A401-7D1AED61C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22D3-5E77-4D14-8E49-8E1D06650F9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C31341-3F78-4889-883B-A2E4B58D9C5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9A712-64D2-4187-9B12-DD97368CE15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C46C6-031E-4B33-96D8-D3CF248E7FA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6855FD-2585-45D7-910B-C0A9D29CFFC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72FEB-F59C-4866-80A9-5AC2AB5AEAE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9E829-C302-46E9-9FA3-426B0C55F70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75385-9146-4DB6-8EE2-7B7B09A8328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99470-32F0-4012-A1C7-D21D31BF1EC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91678-9047-4A75-8773-B8CAA9DAE68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6F837-9B30-47AF-9108-13C778878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B3567-57B5-4204-BDD4-6F1E9EB5AB2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B6CB-D4E8-4AA8-A8AE-21209F4F60B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5AEA9-39A5-4640-AEC9-D8BED1C5709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4ADD4-76AB-4CB6-AB16-65BD532C519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B1686-931B-478F-8290-240CA0422F1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B0640-752E-4A57-BC2A-B6CB2574285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C7875-94F1-40ED-974C-55F597F19A0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0B885-3798-4FD6-898C-7C63A7F5263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AD588-B89F-41CB-B139-2ED20CB4419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C1E59-8A67-4AB4-8B67-45E2EAC9D9D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56CAF-C5E9-43B1-B196-03B348D9C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99C4-8F19-4275-86E7-BAF91F7A5B0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B0128-6FCD-472E-B434-9F19C3B78B1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7A5CF1-7BC6-4422-802C-7A36DAD45EF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C8C163-F055-4FBC-B541-708EE776014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3BFEE5-C613-4464-8DB4-41297F5C8AC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0AD28F-2E2C-4D01-B038-617CAC3BC9A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3101C1-6F80-4F14-B42D-FE9FDEB3ACB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DCDDE3-D826-4E7D-B8E4-EF209F86B92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C7A149-6C6F-4116-9A83-818020B6343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C5B376-1454-4743-BA94-BAE6FF310E0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A418C3-53E0-4F7F-8E13-6C3EA21AE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496FC3-D829-48C0-BD7D-B4111FD7E3F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4EAE98-85EE-4960-B056-180F01A6BC6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0BBE3E-0963-48BB-BAC5-37C698C1051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900220-4771-4AEA-80AE-4BD952A5D04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0AD5A6-E039-4555-8831-9C8D26F3D2F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ACFB3B-E32C-4FF8-AC34-1544DF53F93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04E178-E1FB-44A8-93BE-A1ECC883322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4AA70E-2B3E-4099-816D-3036F6E737D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5FE2E6-5033-4BB4-8A2A-A5098BC02A7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9FE8AD-31C4-485C-9C35-1DE4AB344C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A6DC22-F51D-4249-88A8-9C67EC66336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BE5BD3-8EB3-412E-AD6F-B1B80822642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90BE3-A979-421A-ADC2-8EB7B6AD882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9D430-B937-4762-AFDD-74EB20AEFC4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29604C-7B50-434B-B7BE-4A901FFAD42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23781-7382-4EF3-8A6B-211DEE9FF7B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8BE4F-05ED-4779-901A-5B3D703C461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F6663-9C3E-4AE0-98E7-941C8ACA7EC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68FF2-7747-4293-B2E0-C0025A59B97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4B607-5A25-4A7C-BB80-324B3B0A99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BC6E1-75F0-437C-ABE7-0F6223F6E3B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62E8C-31AE-46C4-AFF6-13AC6141111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B5F28-3C6D-46D6-8966-CEAEFDAFD57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D80D5-18DD-4B33-B457-0D8D65A84B3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88784-3557-41DB-81ED-E9F7DE8B60C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E3073-18A1-449D-AE82-06E0AA7093A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57F62-E1BB-4BF0-BE3B-BCB0E497E5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576B4-731F-4324-826B-C357DB375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8B6F8-FC3C-463C-9AA6-5D9877586C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BD666-C579-4AAA-BB4F-213C1F8894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F368B-4D32-4E30-A86C-59793CC101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A6590-12EC-4645-9EC3-084EB9C22F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334FA-A0A4-423E-AA79-6CC6FA7381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216B-C880-4109-B4B2-7474E84C35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57428-4645-4DB9-AD08-EE72E23721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9B965-A55F-47F8-B36A-07D4D0E96F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AA043-A0E8-4BB3-B631-8D83C34157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48F37-27B8-4A72-8F8F-71CF0E0581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AF853-75C2-4B4C-8AB1-977C73ED31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8B982-75A7-4EA3-A41D-C7923EF943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3B57A-0F9F-4CEC-BFE0-FE79A7338C7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5C6-3DBE-4587-987E-77251D078D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CA96-D121-4CBB-A47C-DD173ED2CF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95B-1A74-484F-8D6B-AEA287DF1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65AE-119D-4B71-B7DA-3BF5E80391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6B0-E154-4407-87BC-1BAE1421A0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9EA-A05A-40AE-9961-F771697612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19A3-B12F-4384-92C1-FE7F1895F3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5E4-EF7D-464B-9B88-7CB32FA456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48AB-BB5D-4EB9-8E64-2FCDD109F78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F2C4-FFB7-457C-8A90-E8F4954D666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EAFB-FE4C-47C4-B572-C25F6D88CA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6B30-58A5-4FDF-A760-DE53D7981C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835-B048-4B85-8A24-BF28961F877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468C6-7DF0-4E29-8459-A997D8B11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445C-5C53-409E-9709-C603FD795AA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D6F6A-FBA7-423F-8AAB-AD9826BD06D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92267-045E-406F-A59D-FEFEB09D94B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74009-0ECE-40FC-A6F4-DAE466C25E0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9CC25-7CF4-4D9A-8D95-5A0142DE29C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6870E-ECED-40B3-9856-FE699182F9A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76CA9-1D59-4DE1-B1CC-EAE2A5B0E65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B1D77-3113-41AF-8B00-835CB47A5A3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A991C-C334-413F-B4E0-BC98663850B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17233-3A2C-4E2D-A738-A579FDA3BCE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9D189-A0A2-4D05-9EC7-E5FA533FF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1228-D37A-408C-B1E6-4DB9633EEDE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4CB7C-3E7E-444F-88E6-24AA61D84C8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00DB4-E4E8-42E5-9A31-89B7BD89C1C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6D6F2-E3E6-4C55-AB74-2234EBF1BC8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0EA9B-8BBE-4D4E-99DB-B45A235DCFA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33025-6957-4C46-BF03-C3E611B965A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773A6-5D4E-4FC8-985E-FD54B1C8F69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D357D-F242-4C65-88EE-9511FBEE5D9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157DB-DDB9-4170-BA10-36F0954ABAD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6DB1A-69B8-4AAD-9D5E-477F12C441A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61A61-87DC-48C4-8A87-36E13853E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3FBF-E90D-458F-963F-6747E1E2CF8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653AA-0119-407A-83EF-5522C293250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14DF3-256D-49AC-91B6-BC04C0CEF1D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2695A-C897-4AEE-86A1-B356F66E77B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E143-4B20-460B-9844-F3B24656203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FFAE-E214-473B-9393-D0533224CC9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93D0-BF37-4B53-A6F4-23041E192C8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D2D8-8278-4831-9A98-076D5B248E5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6504-259B-4BB2-A5D7-58262600125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4FC6-A990-4565-B3E4-1A950BB5E5C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E108-E0A6-48A6-A21A-F041E8DFC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68C0-23B2-4D90-92F8-41E01D10A41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0933-F222-4106-8A43-7676F947A0E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E074-061C-4CAB-945F-70F423944C5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F94D-0FA8-4902-B766-4888998AB7C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14B9-1CAD-4E48-8D62-4AB33EBBF07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AF07-3FC6-43FC-A0E6-8020E2A9CC9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DA7991-BC51-4D80-B169-BF7DDEED0FF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63D90B-DAB7-43CF-B82E-472FB39BF44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200939-B675-47AD-B57D-58BE2F4C135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4E9DC1-3568-48B2-A046-392BA1BCD47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8DFECC-AC90-492D-A94B-FD8FCDB26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2466-86E3-45CC-817F-40CC80C93E7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645554-D542-466E-85A3-FE910D050AE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0DC474-8E2F-4917-9B8B-61E3D8DAC12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7235BE-14EB-4769-80DB-D306A49EA86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A95DBB-3D49-40DD-B28B-48B22B373A0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C4A97E-ED3C-431D-B186-67D6BF11295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4AF51E-A15C-4569-9780-A4BBD666718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3EB945-BDEA-4C71-86A3-43744B0EA6E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A7EF08-1A33-4360-A2F6-51F0C3EFF95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7ED9E-F675-4D5B-A11C-B23705E3599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CAA1B-C6A0-40A6-845F-E807F7738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 </a:t>
            </a:r>
            <a:fld id="{57E04FA9-46DC-4E5C-927C-38ED8E749662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9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23B03D3F-0BCF-45C3-99CD-29B54F705967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0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EA77B97B-B91B-4254-B733-B1E721E474E5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E5A761E4-A96B-4982-8BAD-56C718399F01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1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BFB5717E-E30A-4B7D-A0A7-FF7472FA69B2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544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4160" y="2577600"/>
            <a:ext cx="7770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56" name="Text Box 8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04B9F77F-DEA1-44C8-8D2E-CCB10B28EF36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3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BACF3B66-8F27-415D-A78A-0053D5D62829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4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DE447809-0142-49E4-BE3F-EA41C1211E9D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5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807DF7AF-3693-4131-8F26-BF2249C85AC7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6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059B53D6-5725-44BE-B536-0D18AE4015C2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7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741CFC2B-5746-462B-85D3-DDE9696A4DB5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8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3C4987DE-8274-4A46-BE7F-7CFD23B3141A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openidentity.eu/" TargetMode="External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4920" y="3141360"/>
            <a:ext cx="8529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Neuigkeiten aus dem </a:t>
            </a:r>
            <a:br>
              <a:rPr sz="36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Open eCard Projekt</a:t>
            </a:r>
            <a:br>
              <a:rPr sz="3600"/>
            </a:br>
            <a:br>
              <a:rPr sz="6000"/>
            </a:b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16.05. 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Gruppieren 5"/>
          <p:cNvGrpSpPr/>
          <p:nvPr/>
        </p:nvGrpSpPr>
        <p:grpSpPr>
          <a:xfrm>
            <a:off x="3995640" y="1474920"/>
            <a:ext cx="1327320" cy="1325520"/>
            <a:chOff x="3995640" y="1474920"/>
            <a:chExt cx="1327320" cy="1325520"/>
          </a:xfrm>
        </p:grpSpPr>
        <p:sp>
          <p:nvSpPr>
            <p:cNvPr id="655" name="Abgerundetes Rechteck 4"/>
            <p:cNvSpPr/>
            <p:nvPr/>
          </p:nvSpPr>
          <p:spPr>
            <a:xfrm>
              <a:off x="3995640" y="1474920"/>
              <a:ext cx="1327320" cy="1325520"/>
            </a:xfrm>
            <a:prstGeom prst="roundRect">
              <a:avLst>
                <a:gd name="adj" fmla="val 2192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6" name="Grafik 5" descr=""/>
            <p:cNvPicPr/>
            <p:nvPr/>
          </p:nvPicPr>
          <p:blipFill>
            <a:blip r:embed="rId1"/>
            <a:stretch/>
          </p:blipFill>
          <p:spPr>
            <a:xfrm>
              <a:off x="3995640" y="1474920"/>
              <a:ext cx="1327320" cy="132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608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3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013120" y="1052640"/>
            <a:ext cx="5584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FE9799D1-F6A5-43FC-8BD8-5F06226B4A2A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03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05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142920" y="1700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99128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Version 1.0.2     heute um 11:37 Uhr veröffentlich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1"/>
          <a:stretch/>
        </p:blipFill>
        <p:spPr>
          <a:xfrm>
            <a:off x="450720" y="1557360"/>
            <a:ext cx="8224920" cy="3757680"/>
          </a:xfrm>
          <a:prstGeom prst="rect">
            <a:avLst/>
          </a:prstGeom>
          <a:ln w="0">
            <a:noFill/>
          </a:ln>
        </p:spPr>
      </p:pic>
      <p:sp>
        <p:nvSpPr>
          <p:cNvPr id="711" name="Textfeld 3"/>
          <p:cNvSpPr/>
          <p:nvPr/>
        </p:nvSpPr>
        <p:spPr>
          <a:xfrm>
            <a:off x="2843280" y="17784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E633F5E0-DE37-4E87-B98B-996344864393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21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14"/>
          <p:cNvSpPr/>
          <p:nvPr/>
        </p:nvSpPr>
        <p:spPr>
          <a:xfrm>
            <a:off x="142920" y="213192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rweiterbarkeit über Plugi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	</a:t>
            </a:r>
            <a:fld id="{CAFDAF41-1894-4DAC-8210-3D3EAA6A0EB7}" type="slidenum">
              <a:rPr b="0" lang="de-DE" sz="18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Grafik 1" descr=""/>
          <p:cNvPicPr/>
          <p:nvPr/>
        </p:nvPicPr>
        <p:blipFill>
          <a:blip r:embed="rId1"/>
          <a:stretch/>
        </p:blipFill>
        <p:spPr>
          <a:xfrm>
            <a:off x="395280" y="1123920"/>
            <a:ext cx="84614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3" descr=""/>
          <p:cNvPicPr/>
          <p:nvPr/>
        </p:nvPicPr>
        <p:blipFill>
          <a:blip r:embed="rId1"/>
          <a:stretch/>
        </p:blipFill>
        <p:spPr>
          <a:xfrm>
            <a:off x="684360" y="1193760"/>
            <a:ext cx="7920000" cy="457848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81000" y="58050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eadline für Call for Papers: </a:t>
            </a:r>
            <a:r>
              <a:rPr b="1" lang="de-DE" sz="2800" spc="-1" strike="noStrike">
                <a:solidFill>
                  <a:srgbClr val="00ff00"/>
                </a:solidFill>
                <a:latin typeface="Arial"/>
              </a:rPr>
              <a:t>02.06.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669276D3-18BC-4E2D-BF06-1992DC92FE13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itel 1"/>
          <p:cNvSpPr/>
          <p:nvPr/>
        </p:nvSpPr>
        <p:spPr>
          <a:xfrm>
            <a:off x="1701720" y="260280"/>
            <a:ext cx="7128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  <a:ea typeface="Arial"/>
              </a:rPr>
              <a:t>Open Identity Summit 20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hteck 1"/>
          <p:cNvSpPr/>
          <p:nvPr/>
        </p:nvSpPr>
        <p:spPr>
          <a:xfrm>
            <a:off x="5148360" y="4724280"/>
            <a:ext cx="3816360" cy="10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feld 7"/>
          <p:cNvSpPr/>
          <p:nvPr/>
        </p:nvSpPr>
        <p:spPr>
          <a:xfrm>
            <a:off x="4041000" y="4941720"/>
            <a:ext cx="39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openidentity.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an-in-the-Middle-Angriff gegen SAML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7" name="Grafik 4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89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itM@SAML (reloaded?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9" name="Grafik 3" descr=""/>
          <p:cNvPicPr/>
          <p:nvPr/>
        </p:nvPicPr>
        <p:blipFill>
          <a:blip r:embed="rId1"/>
          <a:stretch/>
        </p:blipFill>
        <p:spPr>
          <a:xfrm>
            <a:off x="468360" y="1104840"/>
            <a:ext cx="8023320" cy="5400720"/>
          </a:xfrm>
          <a:prstGeom prst="rect">
            <a:avLst/>
          </a:prstGeom>
          <a:ln w="0">
            <a:noFill/>
          </a:ln>
        </p:spPr>
      </p:pic>
      <p:grpSp>
        <p:nvGrpSpPr>
          <p:cNvPr id="740" name="Gruppieren 6"/>
          <p:cNvGrpSpPr/>
          <p:nvPr/>
        </p:nvGrpSpPr>
        <p:grpSpPr>
          <a:xfrm>
            <a:off x="5580000" y="3457440"/>
            <a:ext cx="419040" cy="1195560"/>
            <a:chOff x="5580000" y="3457440"/>
            <a:chExt cx="419040" cy="1195560"/>
          </a:xfrm>
        </p:grpSpPr>
        <p:pic>
          <p:nvPicPr>
            <p:cNvPr id="741" name="Picture 2" descr=""/>
            <p:cNvPicPr/>
            <p:nvPr/>
          </p:nvPicPr>
          <p:blipFill>
            <a:blip r:embed="rId2"/>
            <a:stretch/>
          </p:blipFill>
          <p:spPr>
            <a:xfrm>
              <a:off x="5580000" y="3457440"/>
              <a:ext cx="419040" cy="495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42" name="Gerade Verbindung mit Pfeil 5"/>
            <p:cNvCxnSpPr/>
            <p:nvPr/>
          </p:nvCxnSpPr>
          <p:spPr>
            <a:xfrm>
              <a:off x="5789160" y="3952440"/>
              <a:ext cx="1080" cy="7009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	</a:t>
            </a:r>
            <a:fld id="{16FC2093-19CD-456B-9CEE-A41CC8595C89}" type="slidenum">
              <a:rPr b="1" lang="de-DE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cc99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10"/>
          <p:cNvSpPr/>
          <p:nvPr/>
        </p:nvSpPr>
        <p:spPr>
          <a:xfrm>
            <a:off x="33120" y="6524640"/>
            <a:ext cx="20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© 2013 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753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MS PGothic"/>
              </a:rPr>
              <a:t>Kontak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4"/>
          <p:cNvSpPr/>
          <p:nvPr/>
        </p:nvSpPr>
        <p:spPr>
          <a:xfrm>
            <a:off x="1545120" y="11080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für Ihre Aufmerksamkeit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D91CB6DB-8BD6-48F3-AE67-0B4AB66CADF1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hteck 2"/>
          <p:cNvSpPr/>
          <p:nvPr/>
        </p:nvSpPr>
        <p:spPr>
          <a:xfrm>
            <a:off x="2843280" y="3141720"/>
            <a:ext cx="3754440" cy="241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feld 2"/>
          <p:cNvSpPr/>
          <p:nvPr/>
        </p:nvSpPr>
        <p:spPr>
          <a:xfrm>
            <a:off x="2899440" y="4365720"/>
            <a:ext cx="1739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c/o ecsec Gmb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Sudetenstraße 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96247 Michela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Telefon +49 9571 8964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obil    +49 171 975498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detlef.huehnlein@ecsec.d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feld 21"/>
          <p:cNvSpPr/>
          <p:nvPr/>
        </p:nvSpPr>
        <p:spPr>
          <a:xfrm>
            <a:off x="4932360" y="4395960"/>
            <a:ext cx="158436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r. Detlef Hühnlei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7f7f7f"/>
                </a:solidFill>
                <a:latin typeface="Arial"/>
              </a:rPr>
              <a:t>Projektleit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Gerade Verbindung 24"/>
          <p:cNvSpPr/>
          <p:nvPr/>
        </p:nvSpPr>
        <p:spPr>
          <a:xfrm>
            <a:off x="4792680" y="4057560"/>
            <a:ext cx="0" cy="13240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Grafik 1" descr=""/>
          <p:cNvPicPr/>
          <p:nvPr/>
        </p:nvPicPr>
        <p:blipFill>
          <a:blip r:embed="rId2"/>
          <a:stretch/>
        </p:blipFill>
        <p:spPr>
          <a:xfrm>
            <a:off x="3471840" y="3314880"/>
            <a:ext cx="763560" cy="763560"/>
          </a:xfrm>
          <a:prstGeom prst="rect">
            <a:avLst/>
          </a:prstGeom>
          <a:ln w="0">
            <a:noFill/>
          </a:ln>
        </p:spPr>
      </p:pic>
      <p:sp>
        <p:nvSpPr>
          <p:cNvPr id="763" name="Textfeld 25"/>
          <p:cNvSpPr/>
          <p:nvPr/>
        </p:nvSpPr>
        <p:spPr>
          <a:xfrm>
            <a:off x="3351240" y="404820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pen eCar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Grafik 4" descr=""/>
          <p:cNvPicPr/>
          <p:nvPr/>
        </p:nvPicPr>
        <p:blipFill>
          <a:blip r:embed="rId3"/>
          <a:stretch/>
        </p:blipFill>
        <p:spPr>
          <a:xfrm>
            <a:off x="4721400" y="3476520"/>
            <a:ext cx="1579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41672D71-15E7-468B-9F85-CC2EA1C68F19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66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14"/>
          <p:cNvSpPr/>
          <p:nvPr/>
        </p:nvSpPr>
        <p:spPr>
          <a:xfrm>
            <a:off x="14292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-6480" y="-27000"/>
            <a:ext cx="9201240" cy="5472000"/>
          </a:xfrm>
          <a:prstGeom prst="rect">
            <a:avLst/>
          </a:prstGeom>
          <a:ln w="0">
            <a:noFill/>
          </a:ln>
        </p:spPr>
      </p:pic>
      <p:sp>
        <p:nvSpPr>
          <p:cNvPr id="674" name="Textfeld 1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618920" y="2095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ource: http://source.openecard.or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6" name="Picture 2" descr=""/>
          <p:cNvPicPr/>
          <p:nvPr/>
        </p:nvPicPr>
        <p:blipFill>
          <a:blip r:embed="rId1"/>
          <a:stretch/>
        </p:blipFill>
        <p:spPr>
          <a:xfrm>
            <a:off x="324000" y="1155600"/>
            <a:ext cx="858204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eu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8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57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lt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521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" descr=""/>
          <p:cNvPicPr/>
          <p:nvPr/>
        </p:nvPicPr>
        <p:blipFill>
          <a:blip r:embed="rId2"/>
          <a:stretch/>
        </p:blipFill>
        <p:spPr>
          <a:xfrm>
            <a:off x="0" y="-17640"/>
            <a:ext cx="9140760" cy="5750280"/>
          </a:xfrm>
          <a:prstGeom prst="rect">
            <a:avLst/>
          </a:prstGeom>
          <a:ln w="0">
            <a:noFill/>
          </a:ln>
        </p:spPr>
      </p:pic>
      <p:sp>
        <p:nvSpPr>
          <p:cNvPr id="687" name="Textfeld 4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1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56754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dcterms:modified xsi:type="dcterms:W3CDTF">2013-05-20T21:30:11Z</dcterms:modified>
  <cp:revision>583</cp:revision>
  <dc:subject>Unternehmenspräsentation</dc:subject>
  <dc:title>secunet</dc:title>
</cp:coreProperties>
</file>